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320-5B0D-414C-B453-39731883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B72-9F69-46F4-8F15-B93401D1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A3D-FAFB-4A98-8D83-6D74FE35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A8C-588E-4EF2-AA71-0BD68FFB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1A7C-824F-426E-B0A3-0EBC121E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4FF5-A348-44D7-8977-1BB38882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ECD4-252C-4F45-AA4D-184711E8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E1C6-5675-4E8A-9984-0BF4B610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6656-00BD-490B-B8C3-9BE321AF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DBDE-B22E-41B8-A459-4460FD6D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7D91-1E5D-42CB-9FB3-679FDD23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384-BF1C-4476-8639-C70F64B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1117-FEC5-4F8B-B860-45B2569F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FC58-E0CE-4854-AC00-6B2387F4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FE71-4549-4416-94F9-A9332C7A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3AF4-CE38-45EE-B18F-1F0B94A8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B410-0A34-4C95-8554-BDE3E7AF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D16C-E26E-4300-85F7-199B1D5A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39DA5-32B8-4258-A845-57ADC0B1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1221-A48D-4F7C-9F47-87952310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A855-83A0-420A-BDD2-286D80D9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422FD-F2C4-4AAB-8E2F-7419598C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45D-7D63-4D43-ABA7-D908A4A0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E1BB-09DC-4DB2-852A-9534F8EB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271AF-EC23-46E5-8D6C-9F3A950D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1891-EF13-4A89-A928-32A0A1A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A869-C21B-4924-A1CB-FA2CE723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A43E-C264-408A-BF19-F84835FE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69B6-D2BC-495B-9552-6C13F73D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A0B4-F781-49CB-9FE0-E9AAF5A0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7B148-4842-4276-92E8-8AF452E1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00F5-D8A6-454A-A702-DE216BCA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99CC2-0BE9-4514-B592-21600283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488-449F-4634-9280-5BA50D6C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AB07B-45AF-4E16-A1CD-50E64245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B2EC-E7E8-4414-8327-39421AAA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FAF5-D15A-4AA5-A753-49E1BB9B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08FD-9FC1-4334-BB66-066B372D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98A1-91A9-4DB7-91D2-40E19D27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B481-D054-4CBC-A637-A92DE318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8ABA6-6943-4B1C-93C7-D670EC32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CCF7-966A-42E9-9ED1-51473A60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3E27-1F42-4800-AB6C-897E50E1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B2114-C3EE-4F8E-BDA8-35751F7A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A3B-AF61-4DDA-9859-8CF10285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80C36-78AC-4EB7-81DA-39A77E25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051C-EA1F-4C0C-BAB2-3B6C88CE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56881-2133-426C-BF1E-447FA366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EDF1-4F40-4157-ABAC-61FB51A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1C81-43F7-4BD9-93F9-7DE820B1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420A-9C57-4ADF-BC1C-464F525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18B45-228B-48B7-AB70-DD917DC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564E7-2BCF-45A5-9B66-72A313C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4110-0824-4738-8940-AA581DE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4E2C-B526-4012-985B-313521CF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CB1-B33E-4A14-9177-DCBA3F7D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EAF7D-F1AC-41FA-8EF4-BAD2E832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F3BF-6C7D-41C1-87F7-D137B82D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026D7-CB17-42C2-AED3-3A750B27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6C9C-DEC0-4213-844C-A724F864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77E9-A5F8-4C1B-8213-BDF0DBD9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3923-8572-450C-B74D-F75974E7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E24F9-B0E7-40C2-8A42-60C75519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4630-F0D3-428A-A54F-1B8E30A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78C7A-A295-4706-AC7E-1C94D2B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B5F68-C55B-46D3-92F5-9DBDC9F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E09-5EFD-4113-B1E2-35A86ED4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62619-FF23-45A9-B89E-9E3ACDEE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5D5A4-2959-443E-A55A-A116F8CE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12C59-056B-4E5C-99BF-0767B8D3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ED9-845F-43E4-A2FF-89A2134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8E2-8737-4CBE-908E-F6F7BDE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0AC5-75AE-4C3C-9849-5FBA6C78F2E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FCA1-3FDF-434F-8788-415E76767C3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4E24-01EB-4100-A92E-4C32D88E6CD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A098-95FF-4DB1-A98F-934C1215686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7F11-06F8-4A2E-B9BB-4A5D70DC8E8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728-82B4-4E11-8BFD-2D486DCB247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md.com/cancer/what-to-expect-from-radiation-therapy" TargetMode="External"/><Relationship Id="rId2" Type="http://schemas.openxmlformats.org/officeDocument/2006/relationships/hyperlink" Target="http://www.mdanderson.org/patient-and-cancer-information/cancer-information/cancer-types/brain-tumor/treatment/index.html" TargetMode="External"/><Relationship Id="rId3" Type="http://schemas.openxmlformats.org/officeDocument/2006/relationships/hyperlink" Target="http://www.mdanderson.org/patient-and-cancer-information/cancer-information/cancer-types/brain-tumor/treatment/index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 Ryan Bloom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18415\Local Settings\Temporary Internet Files\Content.IE5\SXLI6ERF\MC900339686[1].wmf"/>
          <p:cNvPicPr/>
          <p:nvPr/>
        </p:nvPicPr>
        <p:blipFill>
          <a:blip r:embed="rId3"/>
          <a:stretch/>
        </p:blipFill>
        <p:spPr>
          <a:xfrm>
            <a:off x="2286000" y="1600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Program Files\Microsoft Office\MEDIA\CAGCAT10\j0240719.wmf"/>
          <p:cNvPicPr/>
          <p:nvPr/>
        </p:nvPicPr>
        <p:blipFill>
          <a:blip r:embed="rId4"/>
          <a:stretch/>
        </p:blipFill>
        <p:spPr>
          <a:xfrm>
            <a:off x="228600" y="228600"/>
            <a:ext cx="1143000" cy="179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Documents and Settings\18415\Local Settings\Temporary Internet Files\Content.IE5\1L7SKLSA\MC900434729[1].png"/>
          <p:cNvPicPr/>
          <p:nvPr/>
        </p:nvPicPr>
        <p:blipFill>
          <a:blip r:embed="rId5"/>
          <a:stretch/>
        </p:blipFill>
        <p:spPr>
          <a:xfrm>
            <a:off x="464832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Documents and Settings\18415\Local Settings\Temporary Internet Files\Content.IE5\C85VD65C\MM900295156[1].gif"/>
          <p:cNvPicPr/>
          <p:nvPr/>
        </p:nvPicPr>
        <p:blipFill>
          <a:blip r:embed="rId6"/>
          <a:stretch/>
        </p:blipFill>
        <p:spPr>
          <a:xfrm>
            <a:off x="6858000" y="18288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9140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cancer.org/cancer/livercancer/detailedguide/liver-cancer-treating-by-s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webmd.com/cancer/what-to-expect-from-radiation-thera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mdanderson.org/patient-and-cancer-information/cancer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information/cancer-types/brain-tumor/treatment/index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The End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Brain T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Liver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Skin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Four types of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4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pha Radiation 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a Radiation 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ron emission (B+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diation (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Applications of Nuclear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gnosis of Thyroid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nk Iodine-1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ne uptake is measur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zed” Sal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Radioactive Tacer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active atoms that are in corporated into substances so that movement of the substances so that movement of the substances can be followed by radiation det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0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Cancer Treatment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ation therapy you can use by using high energy to kill tumo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have cancer and the Doctors do radiation on you the radiation will kill good cells and bad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they do radiation there could be some side effects like nausea and fatigu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0157E-006 L -0.00625 0.50624 E">
                                      <p:cBhvr>
                                        <p:cTn id="241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Skin Cancer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ages and destroys the cance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in type for treatment for people with skin cancer is a x-r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ys and electron beams are sometimes used to treat skin canc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4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for Brain Tumors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top or slows the growth of the tum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otherapy will help the radiation better or lessen effect on normal parts of the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https://encrypted-tbn0.gstatic.com/images?q=tbn:ANd9GcQCgcQAe1H1ehb7cSnSmuLf5uvSK8hwXyx2E5CZy4JD71DMAujVhw"/>
          <p:cNvPicPr/>
          <p:nvPr/>
        </p:nvPicPr>
        <p:blipFill>
          <a:blip r:embed="rId1"/>
          <a:stretch/>
        </p:blipFill>
        <p:spPr>
          <a:xfrm>
            <a:off x="609480" y="3746520"/>
            <a:ext cx="2743200" cy="2730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www.neurocriticalcare.org/sites/default/files/brain-tumors_0.jpg"/>
          <p:cNvPicPr/>
          <p:nvPr/>
        </p:nvPicPr>
        <p:blipFill>
          <a:blip r:embed="rId2"/>
          <a:stretch/>
        </p:blipFill>
        <p:spPr>
          <a:xfrm>
            <a:off x="4876920" y="3581280"/>
            <a:ext cx="3722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Liver Disease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 the pain and other sympto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s will make the tumor(s) shr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http://gulfofmexicooilspillblog.files.wordpress.com/2010/12/cirrhosis.jpg"/>
          <p:cNvPicPr/>
          <p:nvPr/>
        </p:nvPicPr>
        <p:blipFill>
          <a:blip r:embed="rId1"/>
          <a:stretch/>
        </p:blipFill>
        <p:spPr>
          <a:xfrm>
            <a:off x="5867280" y="3429000"/>
            <a:ext cx="2934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85834 1.00555 E">
                                      <p:cBhvr>
                                        <p:cTn id="38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6:44Z</dcterms:created>
  <dc:creator> </dc:creator>
  <dc:description/>
  <dc:language>en-US</dc:language>
  <cp:lastModifiedBy> </cp:lastModifiedBy>
  <dcterms:modified xsi:type="dcterms:W3CDTF">2014-03-24T15:00:06Z</dcterms:modified>
  <cp:revision>50</cp:revision>
  <dc:subject/>
  <dc:title>Medical Uses of Radioactive Elements/Radiation</dc:title>
</cp:coreProperties>
</file>