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F2C-C3A7-4E1F-B775-10ECF076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D77-FF59-4486-A0A8-2969A60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F23-EE8B-467C-ACE4-5D62AA6C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42E-B6BE-49B1-A6FF-E78532DD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7D7A-77C1-4CA0-980D-F27914FC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71BF-FE49-42B1-8BBF-4D0A696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47A6-6983-4F3D-A75F-7727E3F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444A-F6AA-455A-89FC-3BFDECB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9442-8EE1-4474-80F7-DA478B6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0A59-AC5C-467E-A99C-D59F702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D765-06FD-41E0-BCEE-D1AA95D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F79-D094-4F81-AA11-E3F75BEB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672-A099-4DDD-8151-98A770B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2D76-A69D-4B6C-93E5-ABD192C6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7A3-C8EC-4080-892E-BFB529B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DBD-A42A-412B-A442-B2D989D9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328C-3020-4E89-AB0D-059B41C6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A97B-3C42-47D2-B3B9-4242B20D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7E96-D44B-4180-8000-9A66884E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B01A-7928-4A75-925F-5D6A2CF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AC39-9B92-44D5-829F-2770FB6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3C51-D5A0-4A5D-B17B-FBA7318C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DE6-AE23-479B-B16C-50698BF6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4F6F-E3EC-4CE9-9163-842FBCA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7F40-59C2-4799-AE05-775AEA0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68AF-6BE2-4CA2-AF26-52B8DE2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217C-DCBE-42AA-A1F5-E0CC1B6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09F7-9EB3-4954-9DCE-8BFBA073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AC0D-D80C-4A54-8995-13224FBC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5777-7C85-40BD-9EF3-FE6DC891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D8357-A02B-4A33-BE9B-CD33B689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8AC6-E0B8-467F-ADBD-CCA6BA86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DC6E-67CA-4CCC-8D2A-955C56B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860-34E1-400A-9679-68509C9D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C9BC-4FC0-43AB-9D97-E37ED95C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E9E8-F13D-482A-9127-B0F2994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B22F-D2CB-4734-A185-039C703F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7BDC-1BA8-4948-932E-462BE3B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87A1-036E-45C0-962C-2150429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1C1B-800C-4228-8367-6D56485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F834-BC08-4AD0-8B59-92B052C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A08A-BFC1-4FB3-A924-E56F447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A995-D728-49B9-A061-BF6FBBD3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2A8B-8E2B-4EE5-ADD1-6E74741F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606-F2B7-4253-BA9E-BFBD7E1D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0AC55-30D6-4354-AEAE-55CD39C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53231-3B4F-4B44-BED1-38966AD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EB4A-8B5B-44F6-A398-522A411E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422FB-F795-4D58-B762-B448B16F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3A6C-414F-4129-B2B6-792916D8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271D-C724-4C89-85CD-A32E8F1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F9689-3008-4223-9AA4-C3220E7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90A2-AA6C-4F85-999A-A01B97A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58C0-37F1-4265-821D-0D87EA70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B628-292B-4D49-877B-5E848C29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44B-9F56-4C59-A507-7A69A10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ED29-3D67-464B-AAF5-F0A86CC2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A3489-F3B7-4C19-8546-7A43406C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7971-48E6-4B5B-8113-8DF0097A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B602-A1AF-4FD3-84C6-3E488411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CE984-E7FE-4789-AC36-1B00F14E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5BB3-A8C9-457E-8F23-831A61CC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970C-E6CD-4CF0-8A1E-51F5C5F7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4CF5-9EDF-4DA0-B7FA-E39E8BC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6023-E657-463C-9410-339655D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AD53E-D151-4D13-A6F5-DC12870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68D-1105-47B8-9B73-597C44FE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7D031-40EE-4E65-8385-253AECD6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0742-A6CA-4081-9133-C989411F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BC60-95A7-41FB-A04F-70600DEE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B29-5B77-4084-BB0E-D2916CF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3F8-D080-434D-957F-4663D2E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AA0-194F-4806-836D-EA907C9947D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487-BEDF-4A9B-851B-ECC067E18DD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66E-3903-4F8C-8A9C-666C0E87B7C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C3F-554B-4E51-B1A7-6B41D7F8D5B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C19F-C632-4BFA-8ADC-466E08EB405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35D-D1C2-45A2-B355-6149B566E46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md.com/cancer/what-to-expect-from-radiation-therapy" TargetMode="External"/><Relationship Id="rId2" Type="http://schemas.openxmlformats.org/officeDocument/2006/relationships/hyperlink" Target="http://www.mdanderson.org/patient-and-cancer-information/cancer-information/cancer-types/brain-tumor/treatment/index.html" TargetMode="External"/><Relationship Id="rId3" Type="http://schemas.openxmlformats.org/officeDocument/2006/relationships/hyperlink" Target="http://www.mdanderson.org/patient-and-cancer-information/cancer-information/cancer-types/brain-tumor/treatment/index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 Ryan Bloom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18415\Local Settings\Temporary Internet Files\Content.IE5\SXLI6ERF\MC900339686[1].wmf"/>
          <p:cNvPicPr/>
          <p:nvPr/>
        </p:nvPicPr>
        <p:blipFill>
          <a:blip r:embed="rId3"/>
          <a:stretch/>
        </p:blipFill>
        <p:spPr>
          <a:xfrm>
            <a:off x="2286000" y="1600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228600" y="228600"/>
            <a:ext cx="1143000" cy="179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18415\Local Settings\Temporary Internet Files\Content.IE5\1L7SKLSA\MC900434729[1].png"/>
          <p:cNvPicPr/>
          <p:nvPr/>
        </p:nvPicPr>
        <p:blipFill>
          <a:blip r:embed="rId5"/>
          <a:stretch/>
        </p:blipFill>
        <p:spPr>
          <a:xfrm>
            <a:off x="464832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18415\Local Settings\Temporary Internet Files\Content.IE5\C85VD65C\MM900295156[1].gif"/>
          <p:cNvPicPr/>
          <p:nvPr/>
        </p:nvPicPr>
        <p:blipFill>
          <a:blip r:embed="rId6"/>
          <a:stretch/>
        </p:blipFill>
        <p:spPr>
          <a:xfrm>
            <a:off x="6858000" y="1828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140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cancer.org/cancer/livercancer/detailedguide/liver-cancer-treating-by-s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webmd.com/cancer/what-to-expect-from-radiation-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mdanderson.org/patient-and-cancer-information/cancer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information/cancer-types/brain-tumor/treatment/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The End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Brain T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Liver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Skin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Four types of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 Radiation 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Radiation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ron emission (B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diation (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6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Applications of Nuclear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of Thyroid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nk Iodine-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ne uptake is measu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zed” Sal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Radioactive Tacer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active atoms that are in corporated into substances so that movement of the substances so that movement of the substances can be followed by radiation det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Cancer Treatment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ation therapy you can use by using high energy to kill tumo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cancer and the Doctors do radiation on you the radiation will kill good cells and bad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y do radiation there could be some side effects like nausea and fatig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0157E-006 L -0.00625 0.50624 E">
                                      <p:cBhvr>
                                        <p:cTn id="240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Skin Cancer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s and destroys the cance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in type for treatment for people with skin cancer is a x-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ys and electron beams are sometimes used to treat skin can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for Brain Tumors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top or slows the growth of the tu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otherapy will help the radiation better or lessen effect on normal parts of the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https://encrypted-tbn0.gstatic.com/images?q=tbn:ANd9GcQCgcQAe1H1ehb7cSnSmuLf5uvSK8hwXyx2E5CZy4JD71DMAujVhw"/>
          <p:cNvPicPr/>
          <p:nvPr/>
        </p:nvPicPr>
        <p:blipFill>
          <a:blip r:embed="rId1"/>
          <a:stretch/>
        </p:blipFill>
        <p:spPr>
          <a:xfrm>
            <a:off x="609480" y="3746520"/>
            <a:ext cx="2743200" cy="2730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www.neurocriticalcare.org/sites/default/files/brain-tumors_0.jpg"/>
          <p:cNvPicPr/>
          <p:nvPr/>
        </p:nvPicPr>
        <p:blipFill>
          <a:blip r:embed="rId2"/>
          <a:stretch/>
        </p:blipFill>
        <p:spPr>
          <a:xfrm>
            <a:off x="4876920" y="3581280"/>
            <a:ext cx="372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Liver Disease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 the pain and other sympto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will make the tumor(s) shr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http://gulfofmexicooilspillblog.files.wordpress.com/2010/12/cirrhosis.jpg"/>
          <p:cNvPicPr/>
          <p:nvPr/>
        </p:nvPicPr>
        <p:blipFill>
          <a:blip r:embed="rId1"/>
          <a:stretch/>
        </p:blipFill>
        <p:spPr>
          <a:xfrm>
            <a:off x="5867280" y="3429000"/>
            <a:ext cx="2934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85834 1.00555 E">
                                      <p:cBhvr>
                                        <p:cTn id="39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6:44Z</dcterms:created>
  <dc:creator> </dc:creator>
  <dc:description/>
  <dc:language>en-US</dc:language>
  <cp:lastModifiedBy> </cp:lastModifiedBy>
  <dcterms:modified xsi:type="dcterms:W3CDTF">2014-03-24T15:00:06Z</dcterms:modified>
  <cp:revision>50</cp:revision>
  <dc:subject/>
  <dc:title>Medical Uses of Radioactive Elements/Radiation</dc:title>
</cp:coreProperties>
</file>