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037-EF70-4EA5-B5BD-670493CE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EAD-F2EB-4EDA-BF93-040C184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B29-ACA8-4A60-A0CD-ADFBE797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504-717E-4CF6-9025-94D875FB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F71E-FD0E-419C-A532-93551020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C7E6-059E-41DE-90D5-766E4510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75F0-2A94-457D-A69A-DFCB7192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6370-788A-4A55-A641-B7B8022A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D317-47CA-46A4-A55D-6D4F61F6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E9A6-81CD-4A98-97EB-4D790C83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E01D-B5E5-45B2-BE23-A8788D3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2CF-9ABC-49E9-A6E0-EDEBAB7B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6A6E-D7C7-4B80-8667-D2F2213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FDA-0A83-484B-BBDB-3277B2D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56B7-EA05-439F-A46D-F4F3218C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42A2-7788-444D-89AA-95F30F91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C260-ADF4-4261-97BE-31023E22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F71D-C381-4B93-AC2E-F0C2EAD1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9449-E177-48EF-B487-2D44B5FE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1855-26E5-4DB3-B72A-2BFD7837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CDAC-9C60-4B79-9E67-4CE768BD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6DCC-A9FE-49C2-B200-45C66C87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43E-AFE2-400B-9EC2-DCD13426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E67C-33E5-4836-BCC1-73285DB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105D-2864-447B-92A2-E6B2D769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4B35-4E90-4278-8174-E40B96B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6296-82F8-4A0D-8748-94C6D9AA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BA55-86DC-4ED2-B2EA-950633EE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18AE-5F2D-4520-ACD4-0F372580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64D0-3844-480A-8976-4416E2FD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C08F-6162-47C6-890E-8C95D146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FB1A-10CD-4FE1-A317-7441E3A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B9E6-92AB-4F23-AD27-DBCD3922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22E-4F69-4BBF-9962-F9FC9CB1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7A9E-6DE3-4410-890A-DDD0B893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F97B-FCE1-4956-85E9-896DBF5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B0EF-BE7E-44A1-8F95-D15AA226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10E4-2565-4531-A05E-210C66A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4815-C3D4-4D85-9E02-5FA7360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39A9-DAD0-40B2-86B6-BE9A06F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B427-C5FA-446D-A084-F31EDC10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0EA7-B381-411F-A23B-73C25A48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DE9A-5B1C-40A3-945A-BA1E83B1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A6D0-02AF-4CE0-99F0-3E6B4FC6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E8B-F98F-4FB1-BE5B-734A36C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C9D1D-3DB9-4F47-AA83-1AB1AD8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2DC6A-51CC-4C95-9F00-2B84AD4E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478A-127C-491B-9565-232CE5BF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8B00-AA57-401A-AB81-E4BF9219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E939-BD84-4286-AE60-1223E4C4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3411-C53A-4F5B-90B4-1B5DD33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C8BB3-E11F-455E-B646-7F39D30D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C569-A07B-4B1F-8291-6E85A11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3891-630C-46C5-8E2F-BB4EF79D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3A5AB-88C1-43FF-8901-452D7615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A28-BCCD-44BD-8D46-EC8813B8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541D4-A02B-4A62-9DCB-19FB49F4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F96A-67E7-484B-8539-C32203EB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CB5B-467F-4358-80B9-E6AFD75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9F4A-4CB3-458F-B79C-E3706EAE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33D1-C43A-4874-99B9-20EAD9D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DC4A-765E-4BD3-99D8-F031B362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E2E2-81FC-4300-96BD-8382F59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E5901-6B95-40FA-9959-37426C3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F28E2-AFAF-401C-A03C-B00AEF3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3D86B-2824-4F6D-93E9-D1F4EF3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BFA-C882-4551-BE95-E12F315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7D5B-410F-4938-AB2A-21DDD8E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1D735-483E-455F-8FB3-C67E8F04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681CE-0243-4F5C-809F-FCE04A00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623-8196-4708-8982-771A3C7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BF8-0176-492F-8639-39352F4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B9FB-F796-4C9E-BDB9-7791401F186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BD34-A0E4-418F-88B3-2029B24050E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C431-30BB-44D1-B4A6-7587E6CFD8E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D371-C227-414C-9069-84D3B13C15E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22B-40FA-49A3-8646-0BB93BACF32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9556-34A7-4BAD-9A90-085523FCB63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md.com/cancer/what-to-expect-from-radiation-therapy" TargetMode="External"/><Relationship Id="rId2" Type="http://schemas.openxmlformats.org/officeDocument/2006/relationships/hyperlink" Target="http://www.mdanderson.org/patient-and-cancer-information/cancer-information/cancer-types/brain-tumor/treatment/index.html" TargetMode="External"/><Relationship Id="rId3" Type="http://schemas.openxmlformats.org/officeDocument/2006/relationships/hyperlink" Target="http://www.mdanderson.org/patient-and-cancer-information/cancer-information/cancer-types/brain-tumor/treatment/index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 Ryan Bloom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18415\Local Settings\Temporary Internet Files\Content.IE5\SXLI6ERF\MC900339686[1].wmf"/>
          <p:cNvPicPr/>
          <p:nvPr/>
        </p:nvPicPr>
        <p:blipFill>
          <a:blip r:embed="rId3"/>
          <a:stretch/>
        </p:blipFill>
        <p:spPr>
          <a:xfrm>
            <a:off x="2286000" y="1600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228600" y="228600"/>
            <a:ext cx="1143000" cy="179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18415\Local Settings\Temporary Internet Files\Content.IE5\1L7SKLSA\MC900434729[1].png"/>
          <p:cNvPicPr/>
          <p:nvPr/>
        </p:nvPicPr>
        <p:blipFill>
          <a:blip r:embed="rId5"/>
          <a:stretch/>
        </p:blipFill>
        <p:spPr>
          <a:xfrm>
            <a:off x="464832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18415\Local Settings\Temporary Internet Files\Content.IE5\C85VD65C\MM900295156[1].gif"/>
          <p:cNvPicPr/>
          <p:nvPr/>
        </p:nvPicPr>
        <p:blipFill>
          <a:blip r:embed="rId6"/>
          <a:stretch/>
        </p:blipFill>
        <p:spPr>
          <a:xfrm>
            <a:off x="6858000" y="1828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140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cancer.org/cancer/livercancer/detailedguide/liver-cancer-treating-by-s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webmd.com/cancer/what-to-expect-from-radiation-thera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mdanderson.org/patient-and-cancer-information/cancer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information/cancer-types/brain-tumor/treatment/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The End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Brain T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Liver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Skin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Four types of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pha Radiation 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a Radiation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ron emission (B+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diation (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Applications of Nuclear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of Thyroid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nk Iodine-1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ne uptake is measu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zed” Sal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Radioactive Tacer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active atoms that are in corporated into substances so that movement of the substances so that movement of the substances can be followed by radiation det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Cancer Treatment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ation therapy you can use by using high energy to kill tumo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cancer and the Doctors do radiation on you the radiation will kill good cells and bad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y do radiation there could be some side effects like nausea and fatig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0157E-006 L -0.00625 0.50624 E">
                                      <p:cBhvr>
                                        <p:cTn id="240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Skin Cancer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s and destroys the cance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in type for treatment for people with skin cancer is a x-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ys and electron beams are sometimes used to treat skin can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5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28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for Brain Tumors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top or slows the growth of the tum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otherapy will help the radiation better or lessen effect on normal parts of the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https://encrypted-tbn0.gstatic.com/images?q=tbn:ANd9GcQCgcQAe1H1ehb7cSnSmuLf5uvSK8hwXyx2E5CZy4JD71DMAujVhw"/>
          <p:cNvPicPr/>
          <p:nvPr/>
        </p:nvPicPr>
        <p:blipFill>
          <a:blip r:embed="rId1"/>
          <a:stretch/>
        </p:blipFill>
        <p:spPr>
          <a:xfrm>
            <a:off x="609480" y="3746520"/>
            <a:ext cx="2743200" cy="2730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www.neurocriticalcare.org/sites/default/files/brain-tumors_0.jpg"/>
          <p:cNvPicPr/>
          <p:nvPr/>
        </p:nvPicPr>
        <p:blipFill>
          <a:blip r:embed="rId2"/>
          <a:stretch/>
        </p:blipFill>
        <p:spPr>
          <a:xfrm>
            <a:off x="4876920" y="3581280"/>
            <a:ext cx="372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Liver Disease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 the pain and other sympto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will make the tumor(s) shr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http://gulfofmexicooilspillblog.files.wordpress.com/2010/12/cirrhosis.jpg"/>
          <p:cNvPicPr/>
          <p:nvPr/>
        </p:nvPicPr>
        <p:blipFill>
          <a:blip r:embed="rId1"/>
          <a:stretch/>
        </p:blipFill>
        <p:spPr>
          <a:xfrm>
            <a:off x="5867280" y="3429000"/>
            <a:ext cx="2934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85834 1.00555 E">
                                      <p:cBhvr>
                                        <p:cTn id="388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6:44Z</dcterms:created>
  <dc:creator> </dc:creator>
  <dc:description/>
  <dc:language>en-US</dc:language>
  <cp:lastModifiedBy> </cp:lastModifiedBy>
  <dcterms:modified xsi:type="dcterms:W3CDTF">2014-03-24T15:00:06Z</dcterms:modified>
  <cp:revision>50</cp:revision>
  <dc:subject/>
  <dc:title>Medical Uses of Radioactive Elements/Radiation</dc:title>
</cp:coreProperties>
</file>