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gif" ContentType="image/gif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66E-AC46-4576-917D-DB20907B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BF6-B9B9-40CD-9ABA-FC30C903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FDE-1531-4C34-8DB2-E5FCDDD2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05C-414E-4FC8-98BD-AFC32FC6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DB30-936F-494C-BE59-C6F8C782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F0CD-53D6-4024-863C-6DA968AC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98FF-7007-4D9F-83A1-A360C0FB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B5F7-9D7C-4300-8BCF-79741E4A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3AAD-4C61-4036-BB94-9EDB14E2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79F4-8E9A-4A30-9571-1FEFCF05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C7F2-48B3-43D8-9238-BD227A99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002-8BD1-4594-814B-EAAFA54C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ACC3-4A22-400F-A9D6-50C41CAF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2434-09CF-415B-9DEC-46D2FB0F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A8AA-D357-4239-B3A9-C5C7A7A5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F919-E1CD-4D34-A85A-FC282B24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575A-C062-44BF-8603-FF5ACF70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C71E-7E02-447E-8058-8C973983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8832-C8AA-41B6-B460-491A7B48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F9999-F707-4924-840E-37DDEC85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CD789-BDE3-4E17-B5A3-955714D5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FB21-9BDE-4ECD-9213-27B95D23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40C-E4ED-41E2-8276-0AFFE551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B4ABD-D469-46D6-83DE-CE00A926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33844-4AF5-4A92-B135-DF26FAA1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9D59-12F9-476C-ACAD-2F53DB15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99F1D-4599-4CAB-924A-55920D26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D317-7454-45D5-BB29-F681AC5C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7215-B8B4-4C33-931C-09A1D0D7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153DC-307A-4BC6-9793-2C5C88CA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36C63-966A-4DC7-A335-639FD478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119C3-D8EC-4CCA-9A8D-CAC45B2C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65A52-7D1B-4A32-B7FB-9BEBC3C4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BD3A-56BF-450C-8919-A3304D9E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C204A-B188-4165-9ABD-0D3018C2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C0C1-FFDE-4B45-BD7C-7A2C2E41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1B70-085B-46EB-81DF-60D0420C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13BBE-1ABE-436F-8417-E930E6CB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5ED22-FE9D-415B-BB40-440205E3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EC3A2-9D62-4E97-BF78-3BB5962B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7A857-7476-4980-A777-A48317D4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ADE9C-830A-4940-A8ED-D03A52B0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89660-D9D8-4CB6-8EAA-B4063FEA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02A0C-8E33-4478-9183-27276C86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7AB-EA3B-492F-9747-4503EA53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ACCB5-B36E-4B44-9998-92D5CC4A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53866-425D-474E-90E4-CCC62124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6EE1-D6A6-4C9E-9F0A-002221AB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EF40B-8F1B-4C0E-820A-BCD2EB7A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B7DFC-0BF9-4544-9E35-EDB51131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511A7-D124-4C9B-B2CE-A598027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2D02E-FEB1-4B09-A927-7B0A1C3F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AA29C-5EE7-4730-BDD3-AED39BE6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50D1A-AAC8-45B8-ACF2-75DC6154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8C62F-D844-44A0-90FE-B9B5EA25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295-032A-4303-957F-F9DC9ED8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0E675-63B3-4C73-8CFD-AEF692E1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97FA5-DC89-4A5A-872E-2B2ED9BD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42417-7D47-4D12-9973-BF7A0A41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7C305-16C0-4363-ABD6-D90D73E8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91B16-2274-4A7A-A48B-FF9FB1D6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79DC7-357A-442B-B648-A5177087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6D023-E652-404E-9CAA-84C58ABE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84999-E303-46E2-9FD8-DF0AB827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7C540-0E60-4DB6-8A88-0C2BC30E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E234A-757E-46A3-8FEC-1E5C89A8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C35-5BA6-4E01-96BC-0F3BDDC8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7211B-F834-409E-B9D5-050C652B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E8249-EDCD-4DB2-A306-3B9B960C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99FE7-8A15-41F6-ADCC-92B89DB6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1E3-36EB-4A5F-BDF2-A7770F00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37D-1F29-443C-ABDF-FB63F607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D40B-8A6C-45B7-9136-25552AB93EB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F2AB-6F52-4B20-8727-3385ACFF9C4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8502-64B4-4E63-800A-3E401CED05C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A9A8-45DF-4F57-B9F2-DF69EF4B560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29BA-7F9D-4B28-B898-A3E779E4BBA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8031-2E51-4006-B85A-DC27831E9A0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ebmd.com/cancer/what-to-expect-from-radiation-therapy" TargetMode="External"/><Relationship Id="rId2" Type="http://schemas.openxmlformats.org/officeDocument/2006/relationships/hyperlink" Target="http://www.mdanderson.org/patient-and-cancer-information/cancer-information/cancer-types/brain-tumor/treatment/index.html" TargetMode="External"/><Relationship Id="rId3" Type="http://schemas.openxmlformats.org/officeDocument/2006/relationships/hyperlink" Target="http://www.mdanderson.org/patient-and-cancer-information/cancer-information/cancer-types/brain-tumor/treatment/index.html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 Ryan Bloom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Documents and Settings\18415\Local Settings\Temporary Internet Files\Content.IE5\SXLI6ERF\MC900339686[1].wmf"/>
          <p:cNvPicPr/>
          <p:nvPr/>
        </p:nvPicPr>
        <p:blipFill>
          <a:blip r:embed="rId3"/>
          <a:stretch/>
        </p:blipFill>
        <p:spPr>
          <a:xfrm>
            <a:off x="2286000" y="1600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Program Files\Microsoft Office\MEDIA\CAGCAT10\j0240719.wmf"/>
          <p:cNvPicPr/>
          <p:nvPr/>
        </p:nvPicPr>
        <p:blipFill>
          <a:blip r:embed="rId4"/>
          <a:stretch/>
        </p:blipFill>
        <p:spPr>
          <a:xfrm>
            <a:off x="228600" y="228600"/>
            <a:ext cx="1143000" cy="1793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C:\Documents and Settings\18415\Local Settings\Temporary Internet Files\Content.IE5\1L7SKLSA\MC900434729[1].png"/>
          <p:cNvPicPr/>
          <p:nvPr/>
        </p:nvPicPr>
        <p:blipFill>
          <a:blip r:embed="rId5"/>
          <a:stretch/>
        </p:blipFill>
        <p:spPr>
          <a:xfrm>
            <a:off x="4648320" y="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C:\Documents and Settings\18415\Local Settings\Temporary Internet Files\Content.IE5\C85VD65C\MM900295156[1].gif"/>
          <p:cNvPicPr/>
          <p:nvPr/>
        </p:nvPicPr>
        <p:blipFill>
          <a:blip r:embed="rId6"/>
          <a:stretch/>
        </p:blipFill>
        <p:spPr>
          <a:xfrm>
            <a:off x="6858000" y="1828800"/>
            <a:ext cx="2286000" cy="1967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Work Cited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914040"/>
            <a:ext cx="8991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cancer.org/cancer/livercancer/detailedguide/liver-cancer-treating-by-s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www.webmd.com/cancer/what-to-expect-from-radiation-thera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://www.mdanderson.org/patient-and-cancer-information/cancer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information/cancer-types/brain-tumor/treatment/index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br>
              <a:rPr sz="4600"/>
            </a:b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The End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Using Radiation </a:t>
            </a: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Brain T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Liver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Skin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5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Four types of Radiation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440" y="15238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pha Radiation 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a Radiation 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ron emission (B+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ma Radiation (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Applications of Nuclear Radiation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gnosis of Thyroid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ink Iodine-1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dine uptake is measur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dized” Sal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Radioactive Tacers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active atoms that are in corporated into substances so that movement of the substances so that movement of the substances can be followed by radiation detec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0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Cancer Treatment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ation therapy you can use by using high energy to kill tumor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have cancer and the Doctors do radiation on you the radiation will kill good cells and bad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ce they do radiation there could be some side effects like nausea and fatigu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4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0157E-006 L -0.00625 0.50624 E">
                                      <p:cBhvr>
                                        <p:cTn id="242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Skin Cancer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mages and destroys the cancer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in type for treatment for people with skin cancer is a x-r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ma rays and electron beams are sometimes used to treat skin canc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6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8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Using Radiation for Brain Tumors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top or slows the growth of the tum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motherapy will help the radiation better or lessen effect on normal parts of the b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2" descr="https://encrypted-tbn0.gstatic.com/images?q=tbn:ANd9GcQCgcQAe1H1ehb7cSnSmuLf5uvSK8hwXyx2E5CZy4JD71DMAujVhw"/>
          <p:cNvPicPr/>
          <p:nvPr/>
        </p:nvPicPr>
        <p:blipFill>
          <a:blip r:embed="rId1"/>
          <a:stretch/>
        </p:blipFill>
        <p:spPr>
          <a:xfrm>
            <a:off x="609480" y="3746520"/>
            <a:ext cx="2743200" cy="2730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http://www.neurocriticalcare.org/sites/default/files/brain-tumors_0.jpg"/>
          <p:cNvPicPr/>
          <p:nvPr/>
        </p:nvPicPr>
        <p:blipFill>
          <a:blip r:embed="rId2"/>
          <a:stretch/>
        </p:blipFill>
        <p:spPr>
          <a:xfrm>
            <a:off x="4876920" y="3581280"/>
            <a:ext cx="372240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1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Liver Disease 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ve the pain and other sympto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s will make the tumor(s) shr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http://gulfofmexicooilspillblog.files.wordpress.com/2010/12/cirrhosis.jpg"/>
          <p:cNvPicPr/>
          <p:nvPr/>
        </p:nvPicPr>
        <p:blipFill>
          <a:blip r:embed="rId1"/>
          <a:stretch/>
        </p:blipFill>
        <p:spPr>
          <a:xfrm>
            <a:off x="5867280" y="3429000"/>
            <a:ext cx="2934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4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85834 1.00555 E">
                                      <p:cBhvr>
                                        <p:cTn id="386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6:44Z</dcterms:created>
  <dc:creator> </dc:creator>
  <dc:description/>
  <dc:language>en-US</dc:language>
  <cp:lastModifiedBy> </cp:lastModifiedBy>
  <dcterms:modified xsi:type="dcterms:W3CDTF">2014-03-24T15:00:06Z</dcterms:modified>
  <cp:revision>50</cp:revision>
  <dc:subject/>
  <dc:title>Medical Uses of Radioactive Elements/Radiation</dc:title>
</cp:coreProperties>
</file>