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257-4F73-43CE-849F-09A06980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53B-288C-469A-A8EC-538E92D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499-1A5B-4B82-BD5B-C4B17B2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031-8BE8-4A4C-B4F4-10CA84A2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AF95-B39E-4BA5-AC9D-EA8BB823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4C0-F219-4AC5-B79F-4780921F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1FCF-B300-4CCF-BECC-890E71A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139-D84B-4AEB-91EC-3A68F64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8556-2EE5-4151-8F4E-065C439D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215-9472-4D7B-8C12-1EE51C0E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11BF-580B-454F-9954-DCF8ED8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156-E7AD-44CE-9BB8-3CE25ACD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11F-2661-4848-9FCF-E319EC3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06B7-615C-4C47-BD07-CA104A6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C46-6E0A-4403-BCE0-8D39AB67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A05B-9B32-4C78-B27B-301321C6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F90A-E344-47DA-895B-11DDDC7F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0F36-45E6-419F-BC6D-1790DB5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8E15-7B85-4F78-B26A-FF1B664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024D-1E8B-4C63-8C35-52E22CF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13A2-B6E6-43BE-923C-F30A218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63DE-F536-4AE9-878C-9BA010D6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A5C-33D3-49AF-A1D1-D9104AA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6743-CAEC-43E4-83E8-20BD518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E4AC-8F96-44B5-A5B6-99C9411F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DDC3-252D-4F38-A589-8B530C9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2A0E-943B-4960-8A47-922FB69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6F03-EA89-4551-900E-9B31CD0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A592-38F6-49E2-B5EC-8457B826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916A-BD98-4C81-B6C2-1AA074F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B539-A586-4B54-80D8-DCBDAC2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C146-A226-4E89-B63A-30C2C2B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D5A0-2F1D-444F-8611-B25A9E98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A8A-2CF1-45F0-B008-C8E03FA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F7DE-B51E-4B86-B63D-F41F0E7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1454-807C-4D94-B5BD-C258380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7CA6-5B62-427A-9A50-E20F819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80AD-EED0-4B2F-BBCC-C7CB980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2C6B-4A6B-420B-81CD-2B3E096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9CC3-B1C6-489A-9D25-20E05A79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C918-E74B-4E9C-8EB6-76940B84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B872-B380-4618-9AC0-E37F41BE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62DE-DFE8-4AB7-BF0E-0EA0B4E4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8593-A5A9-4877-B420-963F84E9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F4D-57E8-4CC9-8E09-218AAFB7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A911-CFAA-4C80-97B4-FD121B08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F618-D235-4982-BD29-736C01E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9820-A2C6-494F-A05D-BD688136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54E65-19D9-4A43-9B03-3C14F65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2068-2087-4403-8CE4-D7D88D9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3794-7C12-4901-BCF2-75C75D4F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14C3-2BE1-41F1-A8F8-8DDD244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E422-FEA0-44D8-9BF5-77CCAE0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D8EE-ECCE-4DBD-9CE5-1554A49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E0EF-A0BF-4C57-B1C3-3A231140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1AA-C12D-4BF0-951D-022D4B92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662A-2940-4359-AD41-EB55C245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21B0E-D466-4D16-9D2A-C86F2829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FF3A-4D4D-4327-8A20-7F2B7C8B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EF6A-0E3A-4EB7-8311-BF53127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66BD-BEC7-443A-BB34-82AEAAF8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442C-317D-4807-B948-8C36D17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8AE1-E590-43BD-AE32-B1384E7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D787-27E3-4540-A311-DD77A59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57145-F607-4A7E-8BD6-5F60C55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FCC9-1C83-473A-8FA3-483C8FC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240-DB46-4A0B-864A-2A0165E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2298-2C8B-4A38-93F8-2672AF9B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636C-3C7F-4C2B-A419-B78391E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3891F-47D0-40BC-96FE-AFD94332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0F8-A906-4AC0-81FC-BC772D4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DC9-550E-48A5-9608-061CC287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F73F-CD3B-48DD-A6CC-DB5C6F45AA6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5114-6571-4C61-831E-BEC815FAA82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4D7-BC22-4F66-ACBA-461C303FF95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F88A-A4C6-4486-A5C2-119609066CF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413-57AA-4DC6-8CFD-89121B22031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BA9-7EA6-4CC7-8668-6DE14924AE2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md.com/cancer/what-to-expect-from-radiation-therapy" TargetMode="External"/><Relationship Id="rId2" Type="http://schemas.openxmlformats.org/officeDocument/2006/relationships/hyperlink" Target="http://www.mdanderson.org/patient-and-cancer-information/cancer-information/cancer-types/brain-tumor/treatment/index.html" TargetMode="External"/><Relationship Id="rId3" Type="http://schemas.openxmlformats.org/officeDocument/2006/relationships/hyperlink" Target="http://www.mdanderson.org/patient-and-cancer-information/cancer-information/cancer-types/brain-tumor/treatment/index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96744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 Ryan Bloom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18415\Local Settings\Temporary Internet Files\Content.IE5\SXLI6ERF\MC900339686[1].wmf"/>
          <p:cNvPicPr/>
          <p:nvPr/>
        </p:nvPicPr>
        <p:blipFill>
          <a:blip r:embed="rId3"/>
          <a:stretch/>
        </p:blipFill>
        <p:spPr>
          <a:xfrm>
            <a:off x="2286000" y="1600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Program Files\Microsoft Office\MEDIA\CAGCAT10\j0240719.wmf"/>
          <p:cNvPicPr/>
          <p:nvPr/>
        </p:nvPicPr>
        <p:blipFill>
          <a:blip r:embed="rId4"/>
          <a:stretch/>
        </p:blipFill>
        <p:spPr>
          <a:xfrm>
            <a:off x="228600" y="228600"/>
            <a:ext cx="1143000" cy="179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18415\Local Settings\Temporary Internet Files\Content.IE5\1L7SKLSA\MC900434729[1].png"/>
          <p:cNvPicPr/>
          <p:nvPr/>
        </p:nvPicPr>
        <p:blipFill>
          <a:blip r:embed="rId5"/>
          <a:stretch/>
        </p:blipFill>
        <p:spPr>
          <a:xfrm>
            <a:off x="464832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18415\Local Settings\Temporary Internet Files\Content.IE5\C85VD65C\MM900295156[1].gif"/>
          <p:cNvPicPr/>
          <p:nvPr/>
        </p:nvPicPr>
        <p:blipFill>
          <a:blip r:embed="rId6"/>
          <a:stretch/>
        </p:blipFill>
        <p:spPr>
          <a:xfrm>
            <a:off x="6858000" y="18288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140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cancer.org/cancer/livercancer/detailedguide/liver-cancer-treating-by-s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www.webmd.com/cancer/what-to-expect-from-radiation-thera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mdanderson.org/patient-and-cancer-information/cancer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information/cancer-types/brain-tumor/treatment/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br>
              <a:rPr sz="4600"/>
            </a:b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The End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</a:t>
            </a: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Brain T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Liver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ment for Skin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Four types of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 Radiation 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a Radiation 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ron emission (B+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diation (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Applications of Nuclear Radiation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gnosis of Thyroid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nk Iodine-1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ne uptake is measu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dized” Sal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Radioactive Tacers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active atoms that are in corporated into substances so that movement of the substances so that movement of the substances can be followed by radiation det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Cancer Treatment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ation therapy you can use by using high energy to kill tumo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cancer and the Doctors do radiation on you the radiation will kill good cells and bad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y do radiation there could be some side effects like nausea and fatig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0157E-006 L -0.00625 0.50624 E">
                                      <p:cBhvr>
                                        <p:cTn id="240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Skin Cancer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ages and destroys the cancer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in type for treatment for people with skin cancer is a x-r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ma rays and electron beams are sometimes used to treat skin can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Using Radiation for Brain Tumors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top or slows the growth of the tum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otherapy will help the radiation better or lessen effect on normal parts of the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https://encrypted-tbn0.gstatic.com/images?q=tbn:ANd9GcQCgcQAe1H1ehb7cSnSmuLf5uvSK8hwXyx2E5CZy4JD71DMAujVhw"/>
          <p:cNvPicPr/>
          <p:nvPr/>
        </p:nvPicPr>
        <p:blipFill>
          <a:blip r:embed="rId1"/>
          <a:stretch/>
        </p:blipFill>
        <p:spPr>
          <a:xfrm>
            <a:off x="609480" y="3746520"/>
            <a:ext cx="2743200" cy="2730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http://www.neurocriticalcare.org/sites/default/files/brain-tumors_0.jpg"/>
          <p:cNvPicPr/>
          <p:nvPr/>
        </p:nvPicPr>
        <p:blipFill>
          <a:blip r:embed="rId2"/>
          <a:stretch/>
        </p:blipFill>
        <p:spPr>
          <a:xfrm>
            <a:off x="4876920" y="3581280"/>
            <a:ext cx="372240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0000"/>
                </a:solidFill>
                <a:uFillTx/>
                <a:latin typeface="Franklin Gothic Book"/>
              </a:rPr>
              <a:t>Liver Disease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 the pain and other sympto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will make the tumor(s) shr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http://gulfofmexicooilspillblog.files.wordpress.com/2010/12/cirrhosis.jpg"/>
          <p:cNvPicPr/>
          <p:nvPr/>
        </p:nvPicPr>
        <p:blipFill>
          <a:blip r:embed="rId1"/>
          <a:stretch/>
        </p:blipFill>
        <p:spPr>
          <a:xfrm>
            <a:off x="5867280" y="3429000"/>
            <a:ext cx="2934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85834 1.00555 E">
                                      <p:cBhvr>
                                        <p:cTn id="38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26:44Z</dcterms:created>
  <dc:creator> </dc:creator>
  <dc:description/>
  <dc:language>en-US</dc:language>
  <cp:lastModifiedBy> </cp:lastModifiedBy>
  <dcterms:modified xsi:type="dcterms:W3CDTF">2014-03-24T15:00:06Z</dcterms:modified>
  <cp:revision>50</cp:revision>
  <dc:subject/>
  <dc:title>Medical Uses of Radioactive Elements/Radiation</dc:title>
</cp:coreProperties>
</file>