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598-9D7F-4442-873D-69964639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E62-8518-4AB5-A74F-5AF0C816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6F0-7A36-4E5F-8C50-7C613E08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40A-6A37-40A0-950A-A5050173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346A-D584-4ED6-8C60-E4BAFA27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EC75-2BC0-4640-BD02-9860163F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DD3-1A7D-4811-835A-DE01B1BA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3F29-4914-45AC-ACB3-DAE2347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8367-81D9-4E2D-B67D-18F6F322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EFC6-B3EB-4455-B27A-35694633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AE49-A11F-443A-8E0F-47E4CC1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C69-9B8E-48C5-98F0-315D6EDB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B38-9A32-4568-B6FA-DB4A739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D4B5-9BFF-4C30-92DC-624F089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DD42-AE40-4620-8CAC-9B1E350C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095F-FA8F-4861-BE4F-9537BE0D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CE92-B4AA-4AEC-94C8-B9E0F3C4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C9F8-7450-4826-8825-7BE1D4A0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4523-6545-4CC4-AC3A-7A25C90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96F7-A507-4413-B51B-D539C201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BDF2-296E-4ACF-A58E-33A67577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357C-85C7-4416-9102-8FF8AFE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8F7-BCF9-4230-AAB8-8A0CA56C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001E-0120-4380-810F-65CD5C9D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95D6-E95D-4A7F-AE57-0F6B1D5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6EB9-798A-47C7-AE1C-D98CA4B9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035C-B135-4083-8164-7C07DCA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D63E-CD57-4FED-B7A3-CC03B099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C57E-D316-47ED-9266-C5E13C4F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BD6F-7D3D-4E0F-B7F5-7885B150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83F8-2798-460C-AA17-5E4A4B37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F0CF-5171-4E01-8578-9B106310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622C-AC6C-4D12-8B78-097FD65A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C0A-52A4-4897-B742-CD80169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89A1-3B84-49A1-8DFF-B455EB4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10CC-0E19-4C95-8C74-988B4BE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F3BC-3BCC-48CE-AABC-97373D3F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2AAD-D26C-4FA1-8E55-6269568E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3F56-60E5-4585-BC1C-5D3057C9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C621-8F31-4BEC-8D10-6CAEF61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7943-82AF-4B3B-9DBC-F9CB8194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D11B-BDFB-4A48-A8B5-2F3921CE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73C1-0528-4E4D-A0ED-8974BA78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99E-412B-4F2F-B4F9-3E432C3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B93-FF41-4010-A5BA-0FEE93DF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45A-66E2-4771-8D27-4930046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DE1-B638-4E9D-99E4-0BC8CDFC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216-7B5F-43DF-9139-288A6293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3BC-2641-4FBF-A152-FFAAFA9CFD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622-9F8C-496B-B53F-41677F2C611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5ADF-0852-49F8-84C2-D23B6E79005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E365-83E6-42D2-ABE2-777602C5BB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yclopedia.com/topic/Carbon_Dating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T BROSS IS COOL AND MS.AGOSTINE IS A B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dating is a formula that determines how old once living thing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is made in the interiors of st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occurs in all liv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’s a non metal that can bond with its sel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also called radioactive dating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86600" cy="596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87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2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encyclopedia.com/topic/Carbon_Dating.asp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8:00:26Z</dcterms:created>
  <dc:creator> </dc:creator>
  <dc:description/>
  <dc:language>en-US</dc:language>
  <cp:lastModifiedBy>ASD</cp:lastModifiedBy>
  <dcterms:modified xsi:type="dcterms:W3CDTF">2014-04-08T18:17:47Z</dcterms:modified>
  <cp:revision>9</cp:revision>
  <dc:subject/>
  <dc:title>CARBON DATING</dc:title>
</cp:coreProperties>
</file>