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210-EE6C-4718-A702-B8ADBC23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525-6380-48E6-B099-591A126A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021-4CA7-437C-8DED-08FCA0C8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610-2790-47BB-A511-1D35D09B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9C0F-DCC7-429B-916A-37B15483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964A-E9D0-4B01-BAD8-C9E4EBA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A2B4-FCDA-4884-84FA-AD52B66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ECF6-CF30-464F-B5CE-5E61881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D9D-6C4D-4583-9942-B6862571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2676-A91B-4C1D-92FA-DBDEB0B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8287-418C-47EF-9BAB-0B3C253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4F4-9C4E-4A83-BB44-0B35C2D0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67A1-8BEB-4506-8ED4-0B269DD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0751-37EF-4DAA-9DBA-D955E70C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1ED1-4649-4AF7-AAA0-ECB4443D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EDD-AEBC-4B50-8AB8-B0A66009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7E1B-A6E8-4EF1-81A8-CE923E9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3EEE-6632-4BE3-8941-26E6A006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3E04-5184-4A2E-B4BC-70B141EA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4F9A-558A-462D-8DAE-04A0953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DD0C-4326-47DF-B685-E2ED1473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9E77-460E-4D21-9A3D-EEE047D6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CD7-2D00-4362-BAD0-535ACEAC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C2275-E9BA-44F4-A8BB-7CDED932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9C0D-C88D-4C27-A9AB-3625746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9E62-E690-4305-8C9A-297A821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B394-92BA-4A66-8288-0BB3E81A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7FD5-D290-48E5-B8B1-AA2DDFB9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1D90-7D7E-49A8-9708-5092639B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AB5B-E54F-4936-8FDC-D5F971AE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91A1-95D2-4F3E-9A81-C4F17172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49B5-752D-448A-8E43-0E5985B2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23B1-6B39-4724-87C8-E03B35D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DD5-AD0B-44EB-AFE1-F800FAD0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B6C7-D469-46EE-B4A0-BD335B7A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8660-7852-41E5-8B84-EF3FFD6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BE5E-792C-4FAC-9E20-AAB6607E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0FDF-9E93-4953-AA8E-F6561F5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F5FC9-C897-4799-8A62-CD3A07C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2456-BEE1-4E0D-847B-AB709D3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C7A2-A545-458C-AA78-2474E094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AE1E-7059-45F4-AD55-D0BE153B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BC73-4408-4584-9A6E-A4CC3008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0A9-BD18-4214-8E1D-58EC0EC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E39-F3F3-49A5-974D-BABA5A0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348-8D07-42F6-9A6D-CA3EC45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287-CAA5-4F2B-BDC6-D6643A8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C6E-21DD-40D6-99D0-BC39E8D7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D73D-6E70-42C8-8591-718C109995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9B6A-25FE-494D-B0DA-7033329570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5FD-060B-48E9-9961-499D14685DE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5134-0918-4FF8-BBE1-A240E83326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yclopedia.com/topic/Carbon_Dating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T BROSS IS COOL AND MS.AGOSTINE IS A B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dating is a formula that determines how old once living thing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is made in the interiors of st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occurs in all liv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’s a non metal that can bond with its se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also called radioactive dating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86600" cy="59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7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encyclopedia.com/topic/Carbon_Dating.asp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8:00:26Z</dcterms:created>
  <dc:creator> </dc:creator>
  <dc:description/>
  <dc:language>en-US</dc:language>
  <cp:lastModifiedBy>ASD</cp:lastModifiedBy>
  <dcterms:modified xsi:type="dcterms:W3CDTF">2014-04-08T18:17:47Z</dcterms:modified>
  <cp:revision>9</cp:revision>
  <dc:subject/>
  <dc:title>CARBON DATING</dc:title>
</cp:coreProperties>
</file>