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40B-E88E-4714-B73F-017FE2B5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884-A814-486B-96C3-201D5E9C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142-CB33-44B7-9B3F-8F992861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CE9-D459-4082-81EA-7B12E232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0616-4412-4D5C-960D-015C873E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DD29-422C-45CA-A8EF-00AF0FD9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8466-627F-47D9-B584-8E0CCCF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3C4B-508B-44AF-A6C5-73981178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EE15-463E-4796-8770-A1D4F20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D0C1-98AB-4D3B-8052-71405C67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FC3-A0A0-41DA-8495-134FDD0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92A-F318-438B-A884-88F86D5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5717-24FB-4DD6-BAA9-1CC9899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05E2-979E-480F-8E02-A95231F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3A27-ABEC-4D5B-B2E1-266E90D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1B3-D334-4D7A-9B7F-34F075EA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C7BA-7B3C-4E0A-BDCC-88D1C864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70E3-D31B-410D-AFE4-73B3BE28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6E403-C802-4DEA-82DB-1A188C03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D3D1-AB18-4A76-B284-B0C44ADC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D6A9-5D32-4607-B251-49FC1BB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18A8-9483-4F1F-95E6-4D73C336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7E9-D6D8-4BE3-BBC0-2EDFEA7C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CD4B-37FA-4696-A3DD-6258705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0FE0-FD8F-425E-B809-5F2FC2C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833E-EFE2-4660-A12B-5963EC93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A528-9DE3-4D92-9BE6-C26237A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A5C6-A19A-4109-98FF-19EE3D2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26E2-2CBE-4386-92C7-BEBA6449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223C-F00E-435E-8B50-0EF3C640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8056-BE3B-4C44-BDF1-7207E327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79C9-C60A-4B61-830E-E2FB15CB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28A4-A6A9-4C87-A978-C619807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051-4E1D-4FED-BAF1-C9FEBA6D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62C2-398D-4DB8-BBF1-C54750DA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7416-3869-44F3-B57A-32BF8C19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1AED-D558-4D91-BA71-5462A31A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D1DA-14BC-47CA-BF30-E1AFCB6A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12CFE-C2DC-4F40-A998-EBDA671D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B555-F341-4C2F-B2C2-F4C59A0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CF55-BA8E-4D08-A02B-24C5B88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A1C7-E8A6-480D-A7F2-5DFDFB2B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C319-6780-4EDD-8B91-5862E498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A24-9C6D-47EC-9C65-012852A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BF6-EC51-4482-8C26-AA68A52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D6A-1C9F-46B3-A9D5-885126D2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EC6-4B93-4D0C-B0B4-805A196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B06-CD3A-4024-8B32-341D15D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2CC2-8E76-4813-9DF7-40AA1DD01E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2AA-3775-4BE5-B327-F975F88F4C9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1FE-015C-458C-A13F-52675532564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FFC-6232-421A-A31E-806A7C8AA5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yclopedia.com/topic/Carbon_Dating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T BROSS IS COOL AND MS.AGOSTINE IS A B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dating is a formula that determines how old once living thing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is made in the interiors of st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occurs in all liv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’s a non metal that can bond with its se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also called radioactive dating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86600" cy="59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7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encyclopedia.com/topic/Carbon_Dating.asp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8:00:26Z</dcterms:created>
  <dc:creator> </dc:creator>
  <dc:description/>
  <dc:language>en-US</dc:language>
  <cp:lastModifiedBy>ASD</cp:lastModifiedBy>
  <dcterms:modified xsi:type="dcterms:W3CDTF">2014-04-08T18:17:47Z</dcterms:modified>
  <cp:revision>9</cp:revision>
  <dc:subject/>
  <dc:title>CARBON DATING</dc:title>
</cp:coreProperties>
</file>