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62C-FAE4-4CBF-918F-B1065166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E93-743D-4450-94B8-1731412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0B1-9FE6-4EBB-B187-D9B54157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48F-FAE3-4D50-84F2-80E99FE9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79C3-4CA2-4B42-BB59-500C938F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D4FA-9269-46CA-8762-8BE97769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87D3-B7E7-45B4-8799-DBE95B2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4F5B-C69F-4C77-876E-3398EEBE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65C4-F0E8-4016-AE12-EC137C71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4F34-AA2F-42AE-95C0-40C7F324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48B0-D22B-44B4-A93E-F8B3CDF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C21-FCB3-4D9D-8DEC-646273E7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D31B-9EA3-4AA5-BB2D-3C9C14E0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C2D7-B454-4566-8B2F-B9061CD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A9E3-2965-4ED8-A9AE-A1BADAC0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85E9-A6FD-40AF-BCDC-507E659B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1037-386A-4DD8-A2A5-1462A145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983F-D53C-412A-AB0B-834C31C8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8271-0EFC-4AD3-A9B7-C6B0224B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53F3-3071-4EAB-8D8A-815B2730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822E-6B1D-4655-8998-7E063A26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D933-9110-4D41-8CE8-63231CA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6C8-C88B-4107-8A51-8AA9783A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FBF7F-C71B-42AD-A961-BABB9399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3BEC-BE06-4407-A55A-04C1FF06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BDEF-ECD3-438F-8BF8-86704776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CD88-C1EF-47A5-9FF3-6486ABB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6DD9-0157-4FFD-8E90-A2E5A26F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C9E0-DEDB-4FB7-939E-BCC89FB9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5B27-31CC-490C-826F-6A9439B5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ACCA-F50C-433B-A188-7AA034F0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34A3-5E6B-4576-84CC-983B6236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BB22-7CC6-4B55-8688-8495D422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AAC-532F-4D8D-83E1-9759F9D7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628A1-BA8B-4590-976D-D8B4F32B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C9F9-9055-493C-BA3F-350D51D7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F783-256E-4953-A503-8750C14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B072-E8BB-417F-BCFE-A6B07572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EE76-E814-444C-ABDF-65E59FAE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1327-3405-4F1A-91BA-36B943FF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52965-B370-4884-83D1-0515FB07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2B2E9-2412-40F2-928C-C007351B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99A7-C1E2-4214-9A52-BD1CCBF0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1F4-9611-4A87-9F34-364B9070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89A-5836-418A-85A5-7A88928D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6A1-65DF-41ED-B075-35783C04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6D7-54EB-4DBB-92BE-742D5510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7DB-7DC7-4677-8427-E08B22E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3056-289F-45FC-A411-DBCA79379C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46CD-D80B-4C93-95B7-29805A515E2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5456-0D39-4942-8C5B-06CF644F67F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143C-268F-46F4-B990-AE2E3E490D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yclopedia.com/topic/Carbon_Dating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T BROSS IS COOL AND MS.AGOSTINE IS A BO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dating is a formula that determines how old once living things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 is made in the interiors of st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occurs in all living organis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’s a non metal that can bond with its sel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also called radioactive dating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86600" cy="596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877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Content Placeholder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24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encyclopedia.com/topic/Carbon_Dating.asp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8:00:26Z</dcterms:created>
  <dc:creator> </dc:creator>
  <dc:description/>
  <dc:language>en-US</dc:language>
  <cp:lastModifiedBy>ASD</cp:lastModifiedBy>
  <dcterms:modified xsi:type="dcterms:W3CDTF">2014-04-08T18:17:47Z</dcterms:modified>
  <cp:revision>9</cp:revision>
  <dc:subject/>
  <dc:title>CARBON DATING</dc:title>
</cp:coreProperties>
</file>