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30E1-5E2D-4748-A64F-36B7DBEBB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F89D-8F77-40C1-9CDD-AF9F5B47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00A2-E365-40DF-B522-727466416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EF2F-11C4-4162-B715-73767A6F2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634A-6A1E-46D1-A56C-DCECD3B6E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DFE1-12B9-4DC1-8C22-43BCD133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BDD5-1796-48E7-9327-D83D6453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4BC9-90CB-415F-88BC-5111EA47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7A5C-3100-4D6C-A99A-DD8E1160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85F7-EFC4-42DD-A6A7-707A638E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C1EE-EFD5-4AE5-93B1-CF5F56D7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FBB2-587A-423A-918B-8D8D3C06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E7B8-DB37-4897-A059-4ACCC72C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73DC-EBA3-4A85-A513-F8381F6E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9EFD-C00A-4267-871F-44456EA7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3076-9CB2-464D-9DCA-0482BB267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4DAF-60B9-43F6-A000-9577EBF02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1BE4A-959F-48FE-90DD-BB13A226C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CFDDB-DD1A-4680-8311-A33EAEAA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2B783-0802-486D-B260-E426C5A4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61C91-DD08-4A6E-B65D-22537DD4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2C1AE-05DE-4649-ADEF-DB040B86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93BB-B113-415A-A7BD-0D9BEC23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59326-99BE-42CA-B66E-8F5A87FF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D5752-532B-4F11-A1E8-5A9EF384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E808F-26F0-429C-A775-FD6D2192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CE54D-5902-4397-A45B-18D269BE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8FE74-8AAC-4D32-8D72-52E8322A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34BE3-82D7-4045-BDF3-CD525D065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E597E-2F86-43B0-B14A-1671C96DB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97688-3F7E-420D-A5DF-74EDCD70A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F72E2-183F-4908-809F-28AA8615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EEEAA-7691-4EC8-B94F-370AF5DC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14AF-3B91-4C08-970E-C780BFCB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C9491-17B1-4482-A04F-587ED531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1F8DF-59F2-440D-8865-A275F676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280AD-3CC1-41DE-937B-9793B449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616AB-4EA8-499D-AC4E-2EBCC4D3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FB034-BBA7-4739-8374-61AC9CD0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630D3-FE9D-44D9-AE7B-3C6DFB3A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30240-575F-47FD-861A-16E30C7B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3070C-5606-4479-B0EE-518E72274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B0E6A-33DC-42A8-ADD3-EB66FE672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EF50-2700-4B89-BC6F-F0659B83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5715-0498-422D-9B4B-815F6D02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1AE3-8879-46D1-93E9-FE103C80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784B-659A-49F9-BA8A-CBE193F1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2494-4C50-435B-BB86-0C042DC5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CA5D-2FD1-49D3-B7A0-57987E27181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F0F2-F57D-455B-9213-DAD67CBF689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219E-ABB6-4ABB-805C-7D19A05113F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DFC2-F0AC-4B35-92D2-0AC6A176406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ncyclopedia.com/topic/Carbon_Dating.aspx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8302680" cy="2322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TT BROSS IS COOL AND MS.AGOSTINE IS A BOS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bon dating is a formula that determines how old once living things a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bon is made in the interiors of sta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t occurs in all living organis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t’s a non metal that can bond with its sel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t is also called radioactive dating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Content Placeholder 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818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Content Placeholder 3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7086600" cy="5965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Content Placeholder 3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78771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Content Placeholder 3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9246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4617b"/>
                </a:solidFill>
                <a:latin typeface="Calibri"/>
              </a:rPr>
              <a:t>           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Work cited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encyclopedia.com/topic/Carbon_Dating.asp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4T18:00:26Z</dcterms:created>
  <dc:creator> </dc:creator>
  <dc:description/>
  <dc:language>en-US</dc:language>
  <cp:lastModifiedBy>ASD</cp:lastModifiedBy>
  <dcterms:modified xsi:type="dcterms:W3CDTF">2014-04-08T18:17:47Z</dcterms:modified>
  <cp:revision>9</cp:revision>
  <dc:subject/>
  <dc:title>CARBON DATING</dc:title>
</cp:coreProperties>
</file>