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DB3EF1-7272-4ED1-842C-1E55498836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A795C0-4198-48C6-921A-38698FA60C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C12895-62DE-4023-AAD7-93285E55A6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2682AF-9ED4-43A6-94C1-1096AC46D5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7939CD-ABEF-4F26-B728-06C280FA0A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7BE12A-FD3A-47C1-911F-94C1E9A0C3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721EDB-7910-4571-88C4-4576A6DFBE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30344A-817F-4D60-BD45-60AF191698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09DD6C-9698-4D73-B736-2232F5D6D3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628FBE-3660-4D78-AC89-D7EAF659BD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C799BD-7117-4BB1-890F-240D6E616A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C8CDF2-DF96-4F5B-AC42-B13723E876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CB3B91-040C-4386-A3EC-6477D04611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8462E4-4BBF-400E-8392-7B0CBE1FBD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05B3F3-2EB2-4E70-91AA-70265B9743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B9BB24-F4EC-40EF-BE45-2B096C7715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30AEEA-EE62-4EB4-BBBD-2130989BF8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28B034B-E7F5-457A-97EE-ED7F6E6A3A1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5CF036-34FD-4BDC-AC52-CD1F14E8B7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9C8EE7-D1C1-4695-82B8-B4AAB94B1B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32D13A-4AB4-4E20-924B-AB3431467F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F28FE4-BBCA-43F3-B49A-24E60F38FA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A4CE11-45C1-44DB-AABD-6DB2E70ED5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744CA8-68F5-4395-898E-8DF1527199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4B95EE-469F-435D-9C47-518D222DF3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99651A-3BAE-4666-9E80-3DB8709DB2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B735E1-B15C-42BE-AFF0-4A065376C4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E55390-D3B8-4F25-A76A-A650C93B8F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C202C05-0E45-4B03-A569-4CD459DD2AE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5B23067-2527-4B4E-B672-AF29980005B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4604B8D-2ABE-476E-BE6F-A1314C86BA5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4AC32E-EC82-4846-A952-61E63FA4B7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A08948-7F53-477F-B028-822C893ACB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1D32A2-9C72-426D-83BA-9D13640275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907AB8-8241-4162-8A3E-CA4EE132FD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0C4CDD-83E0-484E-900E-6AF40E8B90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A1E64C-959B-47AB-976C-33FCD70940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B8EF30-6E30-4A78-8090-D63C501470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8F516D-FCE1-479B-8D8A-E8DC647A9E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F97C83-DB08-4E6F-9A5E-A373876113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F53D4B-2B82-49FB-B56A-9408886D25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090A661-DBB3-4AB1-A7ED-937C3865EA7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5A02F8D-76AF-4CC0-B880-956A26A145F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C623BA-AE53-42DA-AA36-D3876265BA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69B6AB-CA21-499C-9D7A-A7A3720235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237F2-F8A1-4014-B9F7-7FA581115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6CDA7-70E3-467A-A882-02FC67FB9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D2FEA-ED75-4224-9E6F-3296061864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A5C1B-FA55-4ACE-A9C4-5B16CEC7F919}"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644AD-CA95-4E51-ABB5-38279AF2BDDF}"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0F294-61E9-401D-9C07-AB78A5C3B2E5}"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439E3-565F-4722-8992-87F19F245F9E}"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530280" y="1255680"/>
            <a:ext cx="8308800" cy="195120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By Mike Gilliam</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adioactive Dating</a:t>
            </a:r>
            <a:endParaRPr b="0" lang="en-US" sz="50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rbon dating is a variety of radioactive dating which is applicable only to matter which was once living and presumed to be in equilibrium with the atmosphere, taking in carbon dioxide from the air for photosynthesi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osmic Ray</a:t>
            </a:r>
            <a:endParaRPr b="0" lang="en-US" sz="50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smic ray protons blast nuclei in the upper atmosphere, producing neutrons which in turn bombard nitrogen, the major constituent of the atmosphere . This neutron bombardment produces the radioactive isotope carbon-14. The radioactive carbon-14 combines with oxygen to form carbon dioxide and is incorporated into the cycle of living thing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arbon</a:t>
            </a:r>
            <a:endParaRPr b="0" lang="en-US" sz="5000" spc="-1" strike="noStrike">
              <a:solidFill>
                <a:srgbClr val="04617b"/>
              </a:solidFill>
              <a:latin typeface="Calibri"/>
            </a:endParaRPr>
          </a:p>
        </p:txBody>
      </p:sp>
      <p:sp>
        <p:nvSpPr>
          <p:cNvPr id="20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carbon-14 forms at a rate which appears to be constant, so that by measuring the radioactive emissions from once-living matter and comparing its activity with the equilibrium level of living things, a measurement of the time elapsed can be made.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                       </a:t>
            </a:r>
            <a:r>
              <a:rPr b="0" lang="en-US" sz="5000" spc="-1" strike="noStrike">
                <a:solidFill>
                  <a:srgbClr val="04617b"/>
                </a:solidFill>
                <a:latin typeface="Calibri"/>
              </a:rPr>
              <a:t>C-12 C-14</a:t>
            </a:r>
            <a:endParaRPr b="0" lang="en-US" sz="5000" spc="-1" strike="noStrike">
              <a:solidFill>
                <a:srgbClr val="04617b"/>
              </a:solidFill>
              <a:latin typeface="Calibri"/>
            </a:endParaRPr>
          </a:p>
        </p:txBody>
      </p:sp>
      <p:sp>
        <p:nvSpPr>
          <p:cNvPr id="20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rbon is a naturally abundant element found in the atmosphere, in the earth, in the oceans, and in every living creature. C-12 is by far the most common isotope, while only about one in a trillion carbon atoms is C-14. C-14 is produced in the upper atmosphere when nitrogen-14 (N-14)</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pic>
        <p:nvPicPr>
          <p:cNvPr id="206" name="" descr=""/>
          <p:cNvPicPr/>
          <p:nvPr/>
        </p:nvPicPr>
        <p:blipFill>
          <a:blip r:embed="rId1"/>
          <a:stretch/>
        </p:blipFill>
        <p:spPr>
          <a:xfrm>
            <a:off x="457200" y="1934640"/>
            <a:ext cx="8229600" cy="4389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7T14:37:07Z</dcterms:created>
  <dc:creator> </dc:creator>
  <dc:description/>
  <dc:language>en-US</dc:language>
  <cp:lastModifiedBy> </cp:lastModifiedBy>
  <dcterms:modified xsi:type="dcterms:W3CDTF">2014-03-21T15:05:11Z</dcterms:modified>
  <cp:revision>15</cp:revision>
  <dc:subject/>
  <dc:title>Carbon Dating </dc:title>
</cp:coreProperties>
</file>