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0.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8390E-417F-4D6F-97FC-D6D9CCFF4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A1A57-6D3B-4288-BD98-08631B2B8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88283-E202-48E9-80CD-4E62B7E4F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37DD0-270E-4617-B903-919360987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9EB83-BFDF-47B9-B962-86C5CB521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410CF-A9C1-483D-A3D0-9A2DEEE8D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7F47F-C278-4897-9F00-BA180BEE0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4CA2F-ADB3-4502-8BEB-D447FEB4E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22BB0-0C4B-4C76-9AE8-1C4DE2D49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34B2D-12F6-47C5-A5AB-65BE526E8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D0F17-F86F-4665-9E96-CF30DDE36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FA224-6C20-4944-B669-01F473C65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F58D7-205A-4C9F-9141-E1503568A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2940F-B515-4296-A5E4-2ECC3318A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3A146-F8BF-4A94-9939-A38836B12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78978-E9A9-4EBF-8CF4-823FBB770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63CE3-040B-4A27-89A9-AFD482B5C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DAC80-73F1-4682-B92B-C74106181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887FD-D657-4406-B0EC-C04E558B7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635AC-F498-4820-AC79-77F4E9FA0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CF5CC-14A1-46EB-AAC2-236F22219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5C0EB-867D-4280-B407-65325DA42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F8D5F-A9E2-4E65-BF90-B11212A75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AE652-78E9-4DC1-8427-3AA58CCC0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4EB8-91DE-4F02-B011-D4F8B6C5BEB2}"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E301-BB64-40D1-9D21-92B507F7AFB2}"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asters </a:t>
            </a:r>
            <a:endParaRPr b="0" lang="en-US" sz="2800" spc="-1" strike="noStrike">
              <a:solidFill>
                <a:srgbClr val="ffffff"/>
              </a:solidFill>
              <a:latin typeface="Book Antiqua"/>
            </a:endParaRPr>
          </a:p>
        </p:txBody>
      </p:sp>
      <p:pic>
        <p:nvPicPr>
          <p:cNvPr id="84" name="Picture 5" descr="http://3.bp.blogspot.com/-_64KVR8-6bw/TrQu1VdgbjI/AAAAAAAAASU/3IW2qLtvQ9o/s400/chernobyl+disaster+power+plant.jpg"/>
          <p:cNvPicPr/>
          <p:nvPr/>
        </p:nvPicPr>
        <p:blipFill>
          <a:blip r:embed="rId2"/>
          <a:stretch/>
        </p:blipFill>
        <p:spPr>
          <a:xfrm>
            <a:off x="0" y="3505320"/>
            <a:ext cx="3159000" cy="3352680"/>
          </a:xfrm>
          <a:prstGeom prst="rect">
            <a:avLst/>
          </a:prstGeom>
          <a:ln w="0">
            <a:noFill/>
          </a:ln>
        </p:spPr>
      </p:pic>
      <p:pic>
        <p:nvPicPr>
          <p:cNvPr id="85" name="Picture 9" descr="http://3.bp.blogspot.com/-4guAuFtmUlI/UYZwmq4LUhI/AAAAAAAADO8/zWZk_CnaOUI/s1600/Chernobyl-Disaster.jpg"/>
          <p:cNvPicPr/>
          <p:nvPr/>
        </p:nvPicPr>
        <p:blipFill>
          <a:blip r:embed="rId3"/>
          <a:stretch/>
        </p:blipFill>
        <p:spPr>
          <a:xfrm>
            <a:off x="6019920" y="3505320"/>
            <a:ext cx="312408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fter  a nuclear explosion in Chernobyl happened  radiation was all over the air so it was very hard to breath. The air was toxic and smelled but the people still worked and eventually died over time.</a:t>
            </a:r>
            <a:endParaRPr b="0" lang="en-US" sz="2800" spc="-1" strike="noStrike">
              <a:solidFill>
                <a:srgbClr val="ffffff"/>
              </a:solidFill>
              <a:latin typeface="Book Antiqua"/>
            </a:endParaRPr>
          </a:p>
        </p:txBody>
      </p:sp>
      <p:pic>
        <p:nvPicPr>
          <p:cNvPr id="88" name="Picture 7" descr="The fallout of the Chernobyl disaster contributed to the downfall of the Soviet Union."/>
          <p:cNvPicPr/>
          <p:nvPr/>
        </p:nvPicPr>
        <p:blipFill>
          <a:blip r:embed="rId2"/>
          <a:stretch/>
        </p:blipFill>
        <p:spPr>
          <a:xfrm>
            <a:off x="4572000" y="3809880"/>
            <a:ext cx="3759120" cy="280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adiation killed 50 people an all of them knew they where being exposed to the nuclear air so they just worked through it then died over time. </a:t>
            </a:r>
            <a:endParaRPr b="0" lang="en-US" sz="2800" spc="-1" strike="noStrike">
              <a:solidFill>
                <a:srgbClr val="ffffff"/>
              </a:solidFill>
              <a:latin typeface="Book Antiqua"/>
            </a:endParaRPr>
          </a:p>
        </p:txBody>
      </p:sp>
      <p:pic>
        <p:nvPicPr>
          <p:cNvPr id="91" name="Picture 5" descr="http://3.bp.blogspot.com/-8RotUERhY_I/ToSvdoE3pJI/AAAAAAAAPOE/0GcRcRod5J0/s1600/Chernobyl+disaster.jpg"/>
          <p:cNvPicPr/>
          <p:nvPr/>
        </p:nvPicPr>
        <p:blipFill>
          <a:blip r:embed="rId2"/>
          <a:stretch/>
        </p:blipFill>
        <p:spPr>
          <a:xfrm>
            <a:off x="3048120" y="3195720"/>
            <a:ext cx="3200400" cy="327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re was 31 deaths from the explosion , they even had Russian workers helping them out with the injured. It increased thyroid cancer in children. </a:t>
            </a:r>
            <a:endParaRPr b="0" lang="en-US" sz="2800" spc="-1" strike="noStrike">
              <a:solidFill>
                <a:srgbClr val="ffffff"/>
              </a:solidFill>
              <a:latin typeface="Book Antiqua"/>
            </a:endParaRPr>
          </a:p>
        </p:txBody>
      </p:sp>
      <p:pic>
        <p:nvPicPr>
          <p:cNvPr id="94" name="Picture 2" descr="UNICEF Image"/>
          <p:cNvPicPr/>
          <p:nvPr/>
        </p:nvPicPr>
        <p:blipFill>
          <a:blip r:embed="rId2"/>
          <a:stretch/>
        </p:blipFill>
        <p:spPr>
          <a:xfrm>
            <a:off x="2209680" y="3505320"/>
            <a:ext cx="472464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ees where burned down and turned a forest red type of color after burned because of the radiation. They shut down reactors in December 2000. Trees turned red an burned into ash right away an died off.</a:t>
            </a:r>
            <a:endParaRPr b="0" lang="en-US" sz="2800" spc="-1" strike="noStrike">
              <a:solidFill>
                <a:srgbClr val="ffffff"/>
              </a:solidFill>
              <a:latin typeface="Book Antiqua"/>
            </a:endParaRPr>
          </a:p>
        </p:txBody>
      </p:sp>
      <p:pic>
        <p:nvPicPr>
          <p:cNvPr id="97" name="Picture 5" descr="Workers remove radioactive debris from third reactor's roof at Chernobyl nuclear power plant"/>
          <p:cNvPicPr/>
          <p:nvPr/>
        </p:nvPicPr>
        <p:blipFill>
          <a:blip r:embed="rId2"/>
          <a:stretch/>
        </p:blipFill>
        <p:spPr>
          <a:xfrm>
            <a:off x="2133720" y="3809880"/>
            <a:ext cx="4381560" cy="26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8:06:30Z</dcterms:created>
  <dc:creator> </dc:creator>
  <dc:description/>
  <dc:language>en-US</dc:language>
  <cp:lastModifiedBy> </cp:lastModifiedBy>
  <dcterms:modified xsi:type="dcterms:W3CDTF">2014-03-21T18:08:52Z</dcterms:modified>
  <cp:revision>19</cp:revision>
  <dc:subject/>
  <dc:title>Chernobyl</dc:title>
</cp:coreProperties>
</file>