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4FB0A-C47B-453F-AAEA-358855C04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AA48-D250-4E7A-A41F-4D7808222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1214F-A5BD-4E27-8CEE-0FEA0B3F6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34D6B-6F29-4D41-B11C-E8F1CB33F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FBFDB-D111-4FC8-954E-BE45C2F70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836FD-86CF-4C1E-9A11-47E5316AF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EE0F9-34DC-4558-9FA6-4436FCF92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C8ADF-2193-4017-92A3-2EF41FF09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33BAE-2513-442B-890C-80FBD8674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2338C-3164-4FE2-B4C9-9720D3F6B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23000-9095-4C19-AAA7-B27EBD753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80502-42B2-4DF8-AE49-E6504620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DBF3E-53EF-4C82-BCC2-220B01355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4AE00-1F7C-4D39-88AD-0E1CBFAD8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3EB58-9C58-4F9D-AB98-15F3B2E74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C2E53-F55C-4682-8CEF-2F8C08D99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B9674-E4E1-4864-9B7C-CF7C27320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74DDBC-9A64-4D33-9FAA-6D1637742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D265D-DF68-4C8B-82D6-B402E6C66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02BDB-C8CD-452A-9EF3-1EC947019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11833-6ECD-4425-9DCB-7018F2B6C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46A27-FDE8-4433-B612-5A736D744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AE64-C749-4AA8-80D0-9E86CF3B5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55493-7040-4F76-97C2-897F0CB1A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B5C51-EFBA-4170-8989-250BBE1D4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35670-42F8-49AA-BA19-5E13E4A90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E3FFA-90AD-4CF9-A20A-52C31296C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2140D-47DC-4472-A955-0A3B7DD2C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A0AF66-2810-4EC2-BCA3-097A120DAB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9393F-C276-4A21-9168-CFD22210CE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54672C-E84C-4ABC-AE66-7D4672B45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BC70B-8A24-4C7E-81F0-64FD741C9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24C11-6EBA-45B7-BE9F-957F93904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3ECF-5F64-42E4-8884-CE7CE321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C470F-CB5C-49F9-B642-587B3E5CA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F57B4-529A-4AB8-BA4D-270DB634A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98D2F-5CDC-4DEF-A5D7-F96C0B083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3EADD-E429-4B3F-B176-6C78EEC1C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3E172-95AB-4C2C-B3CA-94A18542D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5E22A-1421-4CED-829A-616CEB1B7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862E2-EDC3-4B45-8549-020611BEA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F65E92-D0D1-4139-9A38-39F85534F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ABFD09-315A-4714-BC0A-8B8326413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54A0DF-4408-4157-9934-FCB69D2773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EFF7C-892A-449A-BC25-1A4171D4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CD1CD4-EE86-4E21-8D93-27126D90B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06CA8-DC81-4B3C-A883-4B3FC1DB1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2E441-030F-4A3F-8E67-B54E8E3B5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5F576-A852-456E-8070-BFF0F7CE6A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9DA6A-671B-432D-AB0C-04763BCF4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BDE8A-2B12-44F2-BE65-15998C26B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8B674-FAB4-4500-8E45-291A5437D7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0AE94-47A6-48FA-86F2-9E4371ECA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5EA0E-D68F-4520-B005-9FB0F51C5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89D753-9AFC-439E-B03C-3459C2CFC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4BF07-3C73-44ED-9A37-C3FE57A2B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7E55C-5D7E-49EB-9576-B650BC32C9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09CB69-AEEC-43A8-BBE2-7EF72D4B34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C4BB06-F90C-4207-98DF-2D4FC3B902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870280-6CD6-4855-9B26-C24E4B22E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BD9942-1690-4C6D-B814-307A44106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20763-175A-4309-A54D-C61D5CFB4A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3970A-9D6D-4506-A2FF-37B5837F2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C87D5-880B-4441-A57E-CE9CFAF27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C8013-7550-4F62-83D1-B0BBBD578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9FF8E-58A0-4730-9C40-52F1802BC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793B-5908-4337-9332-D2A977D72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A6318-7E64-41FE-80EC-E93A54FED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2E646E-7BE2-4B74-9217-4E673EE43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FC1F8E-FDFF-4E38-AAC6-378515460D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389B02-55EE-4DA3-9991-7CFC565235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AD93CC-9436-434F-A6F0-7ADCFFA0B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E4F0C-B890-4E88-957B-9498C5491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DD084-8413-4CFA-82E2-03B7B0B0F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C239C-E8C8-4E4B-8C31-285F5653D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D0417-9A97-4FB8-8D71-F842AA992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DD738-7517-42E1-B73A-FF6B8A1C4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464B-C535-4A69-9D4A-DF002064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0424B4-F457-4A65-B876-2B4BDD9EF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5C112-90EF-4339-BD86-944F5C08A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DFF24-7E5C-49AE-9CBB-CA68FF8B24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47C2DE-D068-447C-9F1B-2AB8844C6A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8A3265-9D46-482D-BB07-A5E1C0010B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9038-808D-40C9-B3D7-5A27B832F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4244-1463-4C7A-95FB-DB0E1894A17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9907-1DAB-4F55-ABCF-EC0FDE5C3FD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FB4F-D13E-48A2-82D2-AF30C6F2BAB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EA18-A4E9-4836-AFE7-0BDEB4BBC33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7E85-EF00-468E-A3E8-457340F6212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00DB-44A1-4B21-B9CA-8FEE1AB9C94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A78F-4C92-4405-8BB2-384FC39C8A7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78000" y="579600"/>
            <a:ext cx="8010360" cy="1584000"/>
          </a:xfrm>
          <a:prstGeom prst="rect">
            <a:avLst/>
          </a:prstGeom>
          <a:ln w="0">
            <a:noFill/>
          </a:ln>
        </p:spPr>
      </p:pic>
      <p:sp>
        <p:nvSpPr>
          <p:cNvPr id="369" name="PlaceHolder 1"/>
          <p:cNvSpPr>
            <a:spLocks noGrp="1"/>
          </p:cNvSpPr>
          <p:nvPr>
            <p:ph type="subTitle"/>
          </p:nvPr>
        </p:nvSpPr>
        <p:spPr>
          <a:xfrm>
            <a:off x="990720" y="1676160"/>
            <a:ext cx="6400800" cy="38098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e Have been using (RTG) Radioisotope thermoelectric generators as our main source of power in space. but  Radioisotope Generator (SRG) produces roughly four times the electric power as an RTG we mainly use RTG because it is a lot less dangerous then (SRG) Russia has over 30 fission reactors in space when we only have 1 fission reactor but we are working on something that is way better then what the Russians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it safe?</a:t>
            </a:r>
            <a:endParaRPr b="0" lang="en-US" sz="4000" spc="-1" strike="noStrike">
              <a:solidFill>
                <a:srgbClr val="c1eeff"/>
              </a:solidFill>
              <a:latin typeface="Consolas"/>
            </a:endParaRPr>
          </a:p>
        </p:txBody>
      </p:sp>
      <p:sp>
        <p:nvSpPr>
          <p:cNvPr id="371" name=""/>
          <p:cNvSpPr txBox="1"/>
          <p:nvPr/>
        </p:nvSpPr>
        <p:spPr>
          <a:xfrm>
            <a:off x="609480" y="1218960"/>
            <a:ext cx="8229600" cy="5105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blem is do we need to redesign the way our reactors our build. People are coming out with new ideas on it all the time but a young man named Taylor Wilson has come up with a new design that heats up to 700 degrees Celsius. The laws of  thermodynamics say that high temperatures lead to high efficiencies, this reactor is 45 to 50 percent efficien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fusion equation</a:t>
            </a:r>
            <a:endParaRPr b="0" lang="en-US" sz="4000" spc="-1" strike="noStrike">
              <a:solidFill>
                <a:srgbClr val="c1eeff"/>
              </a:solidFill>
              <a:latin typeface="Consolas"/>
            </a:endParaRPr>
          </a:p>
        </p:txBody>
      </p:sp>
      <p:pic>
        <p:nvPicPr>
          <p:cNvPr id="373" name="Content Placeholder 3" descr="download.jpg"/>
          <p:cNvPicPr/>
          <p:nvPr/>
        </p:nvPicPr>
        <p:blipFill>
          <a:blip r:embed="rId1"/>
          <a:stretch/>
        </p:blipFill>
        <p:spPr>
          <a:xfrm>
            <a:off x="990720" y="1600200"/>
            <a:ext cx="7315200" cy="1295280"/>
          </a:xfrm>
          <a:prstGeom prst="rect">
            <a:avLst/>
          </a:prstGeom>
          <a:ln w="0">
            <a:noFill/>
          </a:ln>
        </p:spPr>
      </p:pic>
      <p:sp>
        <p:nvSpPr>
          <p:cNvPr id="3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5" name="Content Placeholder 3" descr="download (1).jpg"/>
          <p:cNvPicPr/>
          <p:nvPr/>
        </p:nvPicPr>
        <p:blipFill>
          <a:blip r:embed="rId2"/>
          <a:stretch/>
        </p:blipFill>
        <p:spPr>
          <a:xfrm>
            <a:off x="1295280" y="297180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1828800"/>
            <a:ext cx="5718240" cy="2286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NAP-10A was a nuclear space reactor  that was build in the 1960’s  it was no where near as efficient as the SNAP-27A that we have build more recently       </a:t>
            </a:r>
            <a:endParaRPr b="0" lang="en-US" sz="2800" spc="-1" strike="noStrike">
              <a:solidFill>
                <a:srgbClr val="ffffff"/>
              </a:solidFill>
              <a:latin typeface="Corbel"/>
            </a:endParaRPr>
          </a:p>
        </p:txBody>
      </p:sp>
      <p:sp>
        <p:nvSpPr>
          <p:cNvPr id="377"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SNAP-10A</a:t>
            </a:r>
            <a:endParaRPr b="0" lang="en-US" sz="3800" spc="-1" strike="noStrike">
              <a:solidFill>
                <a:srgbClr val="c1eeff"/>
              </a:solidFill>
              <a:latin typeface="Consolas"/>
            </a:endParaRPr>
          </a:p>
        </p:txBody>
      </p:sp>
      <p:pic>
        <p:nvPicPr>
          <p:cNvPr id="378" name="Content Placeholder 5" descr="220px-SNAP_10A_Space_Nuclear_Power_Plant.jpg"/>
          <p:cNvPicPr/>
          <p:nvPr/>
        </p:nvPicPr>
        <p:blipFill>
          <a:blip r:embed="rId1"/>
          <a:stretch/>
        </p:blipFill>
        <p:spPr>
          <a:xfrm>
            <a:off x="6599160" y="1219320"/>
            <a:ext cx="25448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80880" y="1371600"/>
            <a:ext cx="8305920" cy="601992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wikipedia.org/wiki/Nuclear_power_in_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www.world-nuclear.org/info/non-power-nuclear-applications/transport/nuclear-reactors-for-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ergy.gov/ne/nuclear-reactor-technologies/space-power-systems</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Sources</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5:50Z</dcterms:created>
  <dc:creator>506228</dc:creator>
  <dc:description/>
  <dc:language>en-US</dc:language>
  <cp:lastModifiedBy> </cp:lastModifiedBy>
  <dcterms:modified xsi:type="dcterms:W3CDTF">2014-03-21T18:12:18Z</dcterms:modified>
  <cp:revision>15</cp:revision>
  <dc:subject/>
  <dc:title>Nuclear tech in SPACE???</dc:title>
</cp:coreProperties>
</file>