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4D7F7-B052-41A0-BABF-A473B61E4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F0EAA-E9A9-45AB-ACE2-086794A18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6EE79-6A91-401A-9F40-D9789B053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B6381-ABCD-402B-A1CC-D1BDDFB10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09A7A-E2FF-476E-B011-C1555D89C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09899-5867-44E4-8356-DD968E753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A8141-0514-432F-A354-7B9B86654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65B68-C7FA-4C58-B660-95BB70916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9DCDC-33DE-4165-8447-E44A9D800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17AA5-101D-4C36-B3BC-FC0AE20C7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5B421-8B96-4FFD-844A-6686E93E6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70919-0EDA-4CB6-AAF7-8B97E946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88686-23AF-4909-A2D1-1F7766182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139F0-E5CA-47D4-A7D8-9E76C04D4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C0955-B92F-4AF7-BAEB-163476A13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08B71-608A-4D9D-858E-4C7496469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B710B-B4B8-4AF8-B3AA-EAC443C67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05070A-DB68-499C-8F7B-6A1C81926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C4A20-55DD-4CA2-8391-EE6C9F55D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E32A6-093D-45E4-A3ED-D46852105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9E94D-23C8-4509-88B8-5CAB28E15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842973-B9C4-440F-B6D6-431A67FA9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187A-833B-4901-ACD5-5BCD571E8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34E95-7ED5-4B39-9AAE-93A71E46A9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78411-E68A-4810-8297-604C4EE4A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9BEA0-1479-45DD-AB72-9785D68A4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57C80-9534-4DBC-9300-C71EB3F5B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C91ED-BE63-4DDF-88EC-C8D4ECB10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86EDE-8341-4BEA-8B1C-1AD3E67850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5C008D-9632-4A90-84E7-3B6D752988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45FAA-2613-4656-80C6-B6D0770D28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4222C-E921-4313-B64D-BB926AF43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ADCC2-EDED-435C-A0B8-BE8D91442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2A1FE-CB71-45A1-91E1-CB36F6AEC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99B13-5257-4EB2-896C-FD6488832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B82E0-871B-4793-9E7E-57F8D8126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3CC512-A229-4AC2-A440-C5AC62D0C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4C7F5-BBF1-4633-8CE4-18C68915E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93183-0E8F-4745-A6F5-8980EF82D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A5E5A-2415-4040-85B5-1C78B578F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19D85-E2EB-42DD-9819-B6C142B40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D3F651-48A2-453C-918F-FE61410AA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F735B-433E-4F3B-B850-BEB0A4CAEB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C49879-E06C-4181-869D-DAC0231CF7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0B26F-ACB3-460F-B7A0-6E69F9397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43065-71B1-495B-8178-EDD49B865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3E3F7-19AA-42E9-B9C4-F2B0F6FE6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E8131D-2AE5-4BD7-BEA3-485FE4980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F940C5-8066-49EF-9E96-08A5183495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A75F8-8751-4491-853F-6BFBC40B4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DC9A4-536D-46C5-A3FD-D523E687A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C93C3-C22F-4705-B062-600E64527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38052-D241-4A43-9525-22EAAFF44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D6692-6E03-4F49-B0D4-5E6D60B31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20AA05-5B62-4F52-8FEA-2E8935552F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910D2-6126-4B30-8AE5-BD833C3E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9D4616-ADBF-46E3-B791-E85C2645C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2A54A-8E44-43AC-9F04-BF05593F3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E8D8B-EF6C-4A50-8F60-B2D49421E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B6538B-9077-4BB8-844C-D18788207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033DA-320D-46CB-8068-205072810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FBF883-9B58-4056-8343-3DB163BFE1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D596A-79A3-45A4-A50A-A3A0C61A2A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EAF0C-3196-43F2-A86D-EC9E6D534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0740C-D4AA-4657-928C-EF5895C84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8BEC5A-0E12-493A-AEDB-15BBAA832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95A4-6BA5-4F24-8E3E-02676EAF8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5B920-5403-4790-90F0-FDB11794D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9A30E1-7B18-49E8-BFEF-969D934DAD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637DEC-4E90-49F9-993C-A00EAA6917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A1F01E-977C-440D-BB7F-05174FC28E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01456-D7AD-423C-96B5-7B8ECB5D2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7CEAB3-C523-4830-9109-6210EF446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49A9FD-AC8F-4737-A859-CCBDAFFB90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2E7634-44DA-47EF-A1EE-47217AD0B4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1E1B7-02E3-4FF4-8A82-E6CF38DB2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E771D-2C0E-485D-B4A0-AF42EAD0D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12F10-BACF-426B-BDFB-EDB7D4B58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52460-31E7-4EB3-8076-F99AAAF25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EAEBC-4FCD-49BB-8603-C9E012848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0E7B4B-1524-4669-B8F0-91D557079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538D12-C27F-4E83-8DC8-E1E91888BA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A3F6CB-CE6C-4767-86F1-FF75B6B321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99F2-F9D1-44E6-B98A-784942544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0BC1-8C98-4EE9-A07F-24EA7BB28AC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313D-B28B-4ED8-A477-B92A30D7DCE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B927-44DF-4EC9-B528-EA0F573ECB4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1810-1B40-44B3-A946-77B5E92211A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B9EB-0B83-41A7-AB40-7DC3479F86F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6019-5819-41C5-A51E-D97CE069A94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DA5A-901B-48A2-AB94-BB6D205E69C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78000" y="579600"/>
            <a:ext cx="8010360" cy="1584000"/>
          </a:xfrm>
          <a:prstGeom prst="rect">
            <a:avLst/>
          </a:prstGeom>
          <a:ln w="0">
            <a:noFill/>
          </a:ln>
        </p:spPr>
      </p:pic>
      <p:sp>
        <p:nvSpPr>
          <p:cNvPr id="369" name="PlaceHolder 1"/>
          <p:cNvSpPr>
            <a:spLocks noGrp="1"/>
          </p:cNvSpPr>
          <p:nvPr>
            <p:ph type="subTitle"/>
          </p:nvPr>
        </p:nvSpPr>
        <p:spPr>
          <a:xfrm>
            <a:off x="990720" y="1676160"/>
            <a:ext cx="6400800" cy="38098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e Have been using (RTG) Radioisotope thermoelectric generators as our main source of power in space. but  Radioisotope Generator (SRG) produces roughly four times the electric power as an RTG we mainly use RTG because it is a lot less dangerous then (SRG) Russia has over 30 fission reactors in space when we only have 1 fission reactor but we are working on something that is way better then what the Russians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it safe?</a:t>
            </a:r>
            <a:endParaRPr b="0" lang="en-US" sz="4000" spc="-1" strike="noStrike">
              <a:solidFill>
                <a:srgbClr val="c1eeff"/>
              </a:solidFill>
              <a:latin typeface="Consolas"/>
            </a:endParaRPr>
          </a:p>
        </p:txBody>
      </p:sp>
      <p:sp>
        <p:nvSpPr>
          <p:cNvPr id="371" name=""/>
          <p:cNvSpPr txBox="1"/>
          <p:nvPr/>
        </p:nvSpPr>
        <p:spPr>
          <a:xfrm>
            <a:off x="609480" y="1218960"/>
            <a:ext cx="8229600" cy="5105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blem is do we need to redesign the way our reactors our build. People are coming out with new ideas on it all the time but a young man named Taylor Wilson has come up with a new design that heats up to 700 degrees Celsius. The laws of  thermodynamics say that high temperatures lead to high efficiencies, this reactor is 45 to 50 percent efficien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fusion equation</a:t>
            </a:r>
            <a:endParaRPr b="0" lang="en-US" sz="4000" spc="-1" strike="noStrike">
              <a:solidFill>
                <a:srgbClr val="c1eeff"/>
              </a:solidFill>
              <a:latin typeface="Consolas"/>
            </a:endParaRPr>
          </a:p>
        </p:txBody>
      </p:sp>
      <p:pic>
        <p:nvPicPr>
          <p:cNvPr id="373" name="Content Placeholder 3" descr="download.jpg"/>
          <p:cNvPicPr/>
          <p:nvPr/>
        </p:nvPicPr>
        <p:blipFill>
          <a:blip r:embed="rId1"/>
          <a:stretch/>
        </p:blipFill>
        <p:spPr>
          <a:xfrm>
            <a:off x="990720" y="1600200"/>
            <a:ext cx="7315200" cy="1295280"/>
          </a:xfrm>
          <a:prstGeom prst="rect">
            <a:avLst/>
          </a:prstGeom>
          <a:ln w="0">
            <a:noFill/>
          </a:ln>
        </p:spPr>
      </p:pic>
      <p:sp>
        <p:nvSpPr>
          <p:cNvPr id="37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5" name="Content Placeholder 3" descr="download (1).jpg"/>
          <p:cNvPicPr/>
          <p:nvPr/>
        </p:nvPicPr>
        <p:blipFill>
          <a:blip r:embed="rId2"/>
          <a:stretch/>
        </p:blipFill>
        <p:spPr>
          <a:xfrm>
            <a:off x="1295280" y="297180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1828800"/>
            <a:ext cx="5718240" cy="2286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NAP-10A was a nuclear space reactor  that was build in the 1960’s  it was no where near as efficient as the SNAP-27A that we have build more recently       </a:t>
            </a:r>
            <a:endParaRPr b="0" lang="en-US" sz="2800" spc="-1" strike="noStrike">
              <a:solidFill>
                <a:srgbClr val="ffffff"/>
              </a:solidFill>
              <a:latin typeface="Corbel"/>
            </a:endParaRPr>
          </a:p>
        </p:txBody>
      </p:sp>
      <p:sp>
        <p:nvSpPr>
          <p:cNvPr id="377"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SNAP-10A</a:t>
            </a:r>
            <a:endParaRPr b="0" lang="en-US" sz="3800" spc="-1" strike="noStrike">
              <a:solidFill>
                <a:srgbClr val="c1eeff"/>
              </a:solidFill>
              <a:latin typeface="Consolas"/>
            </a:endParaRPr>
          </a:p>
        </p:txBody>
      </p:sp>
      <p:pic>
        <p:nvPicPr>
          <p:cNvPr id="378" name="Content Placeholder 5" descr="220px-SNAP_10A_Space_Nuclear_Power_Plant.jpg"/>
          <p:cNvPicPr/>
          <p:nvPr/>
        </p:nvPicPr>
        <p:blipFill>
          <a:blip r:embed="rId1"/>
          <a:stretch/>
        </p:blipFill>
        <p:spPr>
          <a:xfrm>
            <a:off x="6599160" y="1219320"/>
            <a:ext cx="25448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80880" y="1371600"/>
            <a:ext cx="8305920" cy="601992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wikipedia.org/wiki/Nuclear_power_in_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www.world-nuclear.org/info/non-power-nuclear-applications/transport/nuclear-reactors-for-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ergy.gov/ne/nuclear-reactor-technologies/space-power-systems</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Sources</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5:50Z</dcterms:created>
  <dc:creator>506228</dc:creator>
  <dc:description/>
  <dc:language>en-US</dc:language>
  <cp:lastModifiedBy> </cp:lastModifiedBy>
  <dcterms:modified xsi:type="dcterms:W3CDTF">2014-03-21T18:12:18Z</dcterms:modified>
  <cp:revision>15</cp:revision>
  <dc:subject/>
  <dc:title>Nuclear tech in SPACE???</dc:title>
</cp:coreProperties>
</file>