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40F174-6255-45D5-9C0F-6307DABB3D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857FDD-B77E-4D14-A20D-CA97CA4E39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3ED14C-8706-40DC-BDD0-911D70B7DA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B4D4FD-CC21-4FE4-B00D-86E739B905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1AC72E-9636-4A98-A7CD-A9B33F2448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C76FD1-DB0C-4BDC-9D4E-BEB288BD95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FEDE37-8904-4A3B-B118-A2E598770E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20D396-8FEC-460B-B46A-D0F20DDCA3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5FC6FC-B2D5-49DD-A32B-5EB26192D0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EB9B84-076E-4EA7-97B2-2BD1205E70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852313-4C1D-4549-BA09-26CF49CDB8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05EE7C-884A-417A-9B94-5B9A95E304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86BCBD-EC85-480A-9C44-ECF9152653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6E2002-ACE3-4305-8843-52F992271C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32DCA7-3807-4ED4-B813-C30EAD9635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E9E414-875D-4DB2-804B-B14533D4C8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1C5A50-F380-4E4A-8599-FAEA43039B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A4417AD-4A0A-4EBF-81B9-4ACF8696ABA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0B764A-4D68-482E-843A-F28B9C0A55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452FE0-8517-45CF-B720-C8C65C811E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D609A9-170C-473E-8F3C-CE03005F86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ABFE9A-C975-45CC-94B0-EF739AEC90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579B36-C246-4CDB-8D20-3F25AE251C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37C294-9215-4C5D-AAEE-36A7A5C51D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C905FE-DBF1-4D44-8E27-E357C7B36D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159261-C078-4CE1-8DF7-64981F6DCD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A7740A-9963-4B5E-A58E-B24DD2B112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51D3DA-2DDF-480F-9391-F9D0B4FFA7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D5CCB30-A5E6-4A20-989E-13F09034C48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46FDBEC-6050-4B60-828A-CCA6A22B7AE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A4D934A-ED20-4F33-86BE-C40F428AC41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65276F-BF39-439C-A185-47A324AB9A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42CD62-9D72-44A8-9A74-55CDEA1BE5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B3F309-CE73-4D45-873A-20CCD9DAED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3E674F-AAF5-464F-B620-669FD9955A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125DC3-F21A-4B18-9A86-2EC3A0EE92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FE6AAC-6AC1-4FB8-8875-ED6DE0916E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495539-5F70-4FDB-8A12-9A719C1D81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FC95D2-46D9-450A-B599-2F9DC5DF58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CC473C-4EE9-4678-810B-BFEA9DB61A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AAF830-109E-4E05-9EB8-AB672E76F7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88F50A2-6A99-4DA4-97B6-2C7C6AC49C2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58E3978-99A5-4950-86AC-7D80CCE79FE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3B89EBD-D9B5-45B9-BC5E-A09EEC52770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4C7BD0-C5AB-4114-966B-51BC5475D9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9F3C24A-B61D-4769-BD08-7365299BC6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353E35D-D056-432E-8115-9AFF469287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CFC3423-70C8-4F10-BB4F-938BD8B9643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900C126-997B-4E7C-85A8-C4102E8107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46A00D-4687-4F97-B0C5-502FCC5771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1F53D2-028E-453E-85B3-BE41CBB6D5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248E1C-D8B4-40CB-833E-20FAE677B1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72D3EC-F423-475A-BE62-18ABBD0FC6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591DB2-E23E-4023-97D1-62FE56FECD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04B2C55-A573-4DB4-8DC6-D63981EF2BD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8FF9EB-3FE1-4969-9A02-A94F9DDE6E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B17BC1B-E7A6-4415-8213-8D188C3E904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50B7990-D60E-46DC-99FE-9E032A8BD01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8AB07AB-77CD-4E2A-9F97-7DFB58114D3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1B0CCBD-E233-4B03-A634-522152E8A2F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3638CD3-7A20-4828-9215-609CD4B9809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7284C3-6230-40EA-B74B-22BE800E4BC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E17CD75-3211-4010-83C3-1AAFB85442F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4A474B-C785-42DA-89F9-BE8DBC42E2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4502C7-5742-4D9E-9F14-C8E79C2AFE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F7284C-0E4D-4127-BD70-42B7984D7E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D97CB-8ABB-45EA-AFC7-AF1F264C79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08FCF34-4F05-4AC5-9B35-E23EBB4B3CA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F5F7713-EAA3-47D4-BE46-2A0667491D9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897930B-3DBF-4A56-B4F1-7FD69A9CEC1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4366266-7D27-4313-8CC8-36BC5658571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4819CB4-C579-4080-AC55-F7BEB51B5EA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24CCFA8-540B-4A12-B9AA-5D8114ABC8D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C237CFD-68B7-4548-B391-772532F1E67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C7115D9-EE02-43EA-9BF6-3D45598CAC0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4E2091-5650-49FA-9CCD-019A64E27A6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EE87CE-4D14-4F38-AF19-54F5EE4073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4CBA0F-5CE2-4BE4-8737-B133251B4F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3B94B1-758B-4E1A-9B13-0D015BC960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7DDF12-861B-42E3-982A-A9B6BC7C8A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C5ACC89-8756-4CF2-86C7-71A5DBD2F14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AC409A7-54C3-406E-9674-CC2836EBA28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076CDB0-5644-47E1-9C57-0B5F6743F23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24BFAE-8F0B-4F4D-A5F4-4B2EB09343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A8804-7D4D-4D13-99A3-5E256BB8A836}"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Rectangle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Rectangle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ectangle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Rectangle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189CA-D953-42D0-8F47-3ED1F7E7C7DF}"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17"/>
          <p:cNvSpPr/>
          <p:nvPr/>
        </p:nvSpPr>
        <p:spPr>
          <a:xfrm>
            <a:off x="4829040" y="1073160"/>
            <a:ext cx="4321440" cy="579132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Freeform 18"/>
          <p:cNvSpPr/>
          <p:nvPr/>
        </p:nvSpPr>
        <p:spPr>
          <a:xfrm>
            <a:off x="374760" y="0"/>
            <a:ext cx="5513400" cy="661500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Freeform 19"/>
          <p:cNvSpPr/>
          <p:nvPr/>
        </p:nvSpPr>
        <p:spPr>
          <a:xfrm rot="5236200">
            <a:off x="4461120" y="1483200"/>
            <a:ext cx="4114800" cy="118908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Freeform 20"/>
          <p:cNvSpPr/>
          <p:nvPr/>
        </p:nvSpPr>
        <p:spPr>
          <a:xfrm>
            <a:off x="5943600" y="0"/>
            <a:ext cx="27432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Freeform 23"/>
          <p:cNvSpPr/>
          <p:nvPr/>
        </p:nvSpPr>
        <p:spPr>
          <a:xfrm>
            <a:off x="5943600" y="4267080"/>
            <a:ext cx="3200400" cy="11430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24"/>
          <p:cNvSpPr/>
          <p:nvPr/>
        </p:nvSpPr>
        <p:spPr>
          <a:xfrm>
            <a:off x="5943600" y="0"/>
            <a:ext cx="13716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25"/>
          <p:cNvSpPr/>
          <p:nvPr/>
        </p:nvSpPr>
        <p:spPr>
          <a:xfrm>
            <a:off x="5948280" y="4246560"/>
            <a:ext cx="2090880" cy="261144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26"/>
          <p:cNvSpPr/>
          <p:nvPr/>
        </p:nvSpPr>
        <p:spPr>
          <a:xfrm>
            <a:off x="5943600" y="4267080"/>
            <a:ext cx="160020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Freeform 27"/>
          <p:cNvSpPr/>
          <p:nvPr/>
        </p:nvSpPr>
        <p:spPr>
          <a:xfrm>
            <a:off x="5943600" y="1371600"/>
            <a:ext cx="3200400" cy="28954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Freeform 28"/>
          <p:cNvSpPr/>
          <p:nvPr/>
        </p:nvSpPr>
        <p:spPr>
          <a:xfrm>
            <a:off x="5943600" y="1752480"/>
            <a:ext cx="3200400" cy="25146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Freeform 29"/>
          <p:cNvSpPr/>
          <p:nvPr/>
        </p:nvSpPr>
        <p:spPr>
          <a:xfrm>
            <a:off x="990720" y="4267080"/>
            <a:ext cx="495288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Freeform 30"/>
          <p:cNvSpPr/>
          <p:nvPr/>
        </p:nvSpPr>
        <p:spPr>
          <a:xfrm>
            <a:off x="533520" y="4267080"/>
            <a:ext cx="533376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Freeform 31"/>
          <p:cNvSpPr/>
          <p:nvPr/>
        </p:nvSpPr>
        <p:spPr>
          <a:xfrm>
            <a:off x="366840" y="2438280"/>
            <a:ext cx="5638680" cy="18288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Freeform 32"/>
          <p:cNvSpPr/>
          <p:nvPr/>
        </p:nvSpPr>
        <p:spPr>
          <a:xfrm>
            <a:off x="366840" y="2133720"/>
            <a:ext cx="5638680" cy="213336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Freeform 33"/>
          <p:cNvSpPr/>
          <p:nvPr/>
        </p:nvSpPr>
        <p:spPr>
          <a:xfrm>
            <a:off x="4572000" y="4267080"/>
            <a:ext cx="1371600" cy="259092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Rectangle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D0217-DC55-4B05-A885-5A9F0608EF50}"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AC314-1E78-47B1-A428-520F034D02AD}"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Rectangle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Rectangle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EE3E0-300D-4E74-9EB5-3DE992AD48ED}"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4DBBE-B636-47E6-8CAE-4E69AEC88DDF}"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5" name="Group 19"/>
          <p:cNvGrpSpPr/>
          <p:nvPr/>
        </p:nvGrpSpPr>
        <p:grpSpPr>
          <a:xfrm>
            <a:off x="8516880" y="1217520"/>
            <a:ext cx="128160" cy="131400"/>
            <a:chOff x="8516880" y="1217520"/>
            <a:chExt cx="128160" cy="131400"/>
          </a:xfrm>
        </p:grpSpPr>
        <p:sp>
          <p:nvSpPr>
            <p:cNvPr id="316" name="Straight Connector 20"/>
            <p:cNvSpPr/>
            <p:nvPr/>
          </p:nvSpPr>
          <p:spPr>
            <a:xfrm>
              <a:off x="8573040" y="1217520"/>
              <a:ext cx="7200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17" name="Straight Connector 23"/>
            <p:cNvSpPr/>
            <p:nvPr/>
          </p:nvSpPr>
          <p:spPr>
            <a:xfrm>
              <a:off x="8516880" y="1282680"/>
              <a:ext cx="1018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Straight Connector 24"/>
            <p:cNvSpPr/>
            <p:nvPr/>
          </p:nvSpPr>
          <p:spPr>
            <a:xfrm flipV="1">
              <a:off x="8573040" y="1282320"/>
              <a:ext cx="7200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19" name="Group 25"/>
          <p:cNvGrpSpPr/>
          <p:nvPr/>
        </p:nvGrpSpPr>
        <p:grpSpPr>
          <a:xfrm>
            <a:off x="8669160" y="1370160"/>
            <a:ext cx="129240" cy="131400"/>
            <a:chOff x="8669160" y="1370160"/>
            <a:chExt cx="129240" cy="131400"/>
          </a:xfrm>
        </p:grpSpPr>
        <p:sp>
          <p:nvSpPr>
            <p:cNvPr id="320" name="Straight Connector 26"/>
            <p:cNvSpPr/>
            <p:nvPr/>
          </p:nvSpPr>
          <p:spPr>
            <a:xfrm>
              <a:off x="8726040" y="1370160"/>
              <a:ext cx="7236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1" name="Straight Connector 27"/>
            <p:cNvSpPr/>
            <p:nvPr/>
          </p:nvSpPr>
          <p:spPr>
            <a:xfrm>
              <a:off x="8669160" y="1435320"/>
              <a:ext cx="10224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Straight Connector 28"/>
            <p:cNvSpPr/>
            <p:nvPr/>
          </p:nvSpPr>
          <p:spPr>
            <a:xfrm flipV="1">
              <a:off x="8726040" y="1434960"/>
              <a:ext cx="7236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23" name="Group 29"/>
          <p:cNvGrpSpPr/>
          <p:nvPr/>
        </p:nvGrpSpPr>
        <p:grpSpPr>
          <a:xfrm>
            <a:off x="8321760" y="1473120"/>
            <a:ext cx="128160" cy="131400"/>
            <a:chOff x="8321760" y="1473120"/>
            <a:chExt cx="128160" cy="131400"/>
          </a:xfrm>
        </p:grpSpPr>
        <p:sp>
          <p:nvSpPr>
            <p:cNvPr id="324" name="Straight Connector 30"/>
            <p:cNvSpPr/>
            <p:nvPr/>
          </p:nvSpPr>
          <p:spPr>
            <a:xfrm>
              <a:off x="8377920" y="1473120"/>
              <a:ext cx="7200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5" name="Straight Connector 31"/>
            <p:cNvSpPr/>
            <p:nvPr/>
          </p:nvSpPr>
          <p:spPr>
            <a:xfrm>
              <a:off x="8321760" y="1538280"/>
              <a:ext cx="1018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Straight Connector 32"/>
            <p:cNvSpPr/>
            <p:nvPr/>
          </p:nvSpPr>
          <p:spPr>
            <a:xfrm flipV="1">
              <a:off x="8377920" y="1537920"/>
              <a:ext cx="7200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062FD-8101-4644-A8B8-9D956B44301C}"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Title 1" descr=""/>
          <p:cNvPicPr/>
          <p:nvPr/>
        </p:nvPicPr>
        <p:blipFill>
          <a:blip r:embed="rId1"/>
          <a:stretch/>
        </p:blipFill>
        <p:spPr>
          <a:xfrm>
            <a:off x="378000" y="579600"/>
            <a:ext cx="8010360" cy="1584000"/>
          </a:xfrm>
          <a:prstGeom prst="rect">
            <a:avLst/>
          </a:prstGeom>
          <a:ln w="0">
            <a:noFill/>
          </a:ln>
        </p:spPr>
      </p:pic>
      <p:sp>
        <p:nvSpPr>
          <p:cNvPr id="369" name="PlaceHolder 1"/>
          <p:cNvSpPr>
            <a:spLocks noGrp="1"/>
          </p:cNvSpPr>
          <p:nvPr>
            <p:ph type="subTitle"/>
          </p:nvPr>
        </p:nvSpPr>
        <p:spPr>
          <a:xfrm>
            <a:off x="990720" y="1676160"/>
            <a:ext cx="6400800" cy="3809880"/>
          </a:xfrm>
          <a:prstGeom prst="rect">
            <a:avLst/>
          </a:prstGeom>
          <a:noFill/>
          <a:ln w="0">
            <a:noFill/>
          </a:ln>
        </p:spPr>
        <p:txBody>
          <a:bodyPr lIns="100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We Have been using (RTG) Radioisotope thermoelectric generators as our main source of power in space. but  Radioisotope Generator (SRG) produces roughly four times the electric power as an RTG we mainly use RTG because it is a lot less dangerous then (SRG) Russia has over 30 fission reactors in space when we only have 1 fission reactor but we are working on something that is way better then what the Russians have.</a:t>
            </a: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Is it safe?</a:t>
            </a:r>
            <a:endParaRPr b="0" lang="en-US" sz="4000" spc="-1" strike="noStrike">
              <a:solidFill>
                <a:srgbClr val="c1eeff"/>
              </a:solidFill>
              <a:latin typeface="Consolas"/>
            </a:endParaRPr>
          </a:p>
        </p:txBody>
      </p:sp>
      <p:sp>
        <p:nvSpPr>
          <p:cNvPr id="371" name=""/>
          <p:cNvSpPr txBox="1"/>
          <p:nvPr/>
        </p:nvSpPr>
        <p:spPr>
          <a:xfrm>
            <a:off x="609480" y="1218960"/>
            <a:ext cx="8229600" cy="510516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 problem is do we need to redesign the way our reactors our build. People are coming out with new ideas on it all the time but a young man named Taylor Wilson has come up with a new design that heats up to 700 degrees Celsius. The laws of  thermodynamics say that high temperatures lead to high efficiencies, this reactor is 45 to 50 percent efficient </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Nuclear fusion equation</a:t>
            </a:r>
            <a:endParaRPr b="0" lang="en-US" sz="4000" spc="-1" strike="noStrike">
              <a:solidFill>
                <a:srgbClr val="c1eeff"/>
              </a:solidFill>
              <a:latin typeface="Consolas"/>
            </a:endParaRPr>
          </a:p>
        </p:txBody>
      </p:sp>
      <p:pic>
        <p:nvPicPr>
          <p:cNvPr id="373" name="Content Placeholder 3" descr="download.jpg"/>
          <p:cNvPicPr/>
          <p:nvPr/>
        </p:nvPicPr>
        <p:blipFill>
          <a:blip r:embed="rId1"/>
          <a:stretch/>
        </p:blipFill>
        <p:spPr>
          <a:xfrm>
            <a:off x="990720" y="1600200"/>
            <a:ext cx="7315200" cy="1295280"/>
          </a:xfrm>
          <a:prstGeom prst="rect">
            <a:avLst/>
          </a:prstGeom>
          <a:ln w="0">
            <a:noFill/>
          </a:ln>
        </p:spPr>
      </p:pic>
      <p:sp>
        <p:nvSpPr>
          <p:cNvPr id="374"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75" name="Content Placeholder 3" descr="download (1).jpg"/>
          <p:cNvPicPr/>
          <p:nvPr/>
        </p:nvPicPr>
        <p:blipFill>
          <a:blip r:embed="rId2"/>
          <a:stretch/>
        </p:blipFill>
        <p:spPr>
          <a:xfrm>
            <a:off x="1295280" y="2971800"/>
            <a:ext cx="6248520" cy="3352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p:nvPr>
        </p:nvSpPr>
        <p:spPr>
          <a:xfrm>
            <a:off x="380880" y="1828800"/>
            <a:ext cx="5718240" cy="2286000"/>
          </a:xfrm>
          <a:prstGeom prst="rect">
            <a:avLst/>
          </a:prstGeom>
          <a:noFill/>
          <a:ln w="0">
            <a:noFill/>
          </a:ln>
        </p:spPr>
        <p:txBody>
          <a:bodyPr lIns="82440" bIns="0" anchor="t">
            <a:normAutofit/>
          </a:bodyPr>
          <a:p>
            <a:pPr marL="54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SNAP-10A was a nuclear space reactor  that was build in the 1960’s  it was no where near as efficient as the SNAP-27A that we have build more recently       </a:t>
            </a:r>
            <a:endParaRPr b="0" lang="en-US" sz="2800" spc="-1" strike="noStrike">
              <a:solidFill>
                <a:srgbClr val="ffffff"/>
              </a:solidFill>
              <a:latin typeface="Corbel"/>
            </a:endParaRPr>
          </a:p>
        </p:txBody>
      </p:sp>
      <p:sp>
        <p:nvSpPr>
          <p:cNvPr id="377" name="PlaceHolder 2"/>
          <p:cNvSpPr>
            <a:spLocks noGrp="1"/>
          </p:cNvSpPr>
          <p:nvPr>
            <p:ph type="title"/>
          </p:nvPr>
        </p:nvSpPr>
        <p:spPr>
          <a:xfrm>
            <a:off x="705960" y="512280"/>
            <a:ext cx="8156520" cy="776520"/>
          </a:xfrm>
          <a:prstGeom prst="rect">
            <a:avLst/>
          </a:prstGeom>
          <a:noFill/>
          <a:ln w="0">
            <a:noFill/>
          </a:ln>
        </p:spPr>
        <p:txBody>
          <a:bodyPr lIns="90000" rIns="90000" tIns="6408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c1eeff"/>
                </a:solidFill>
                <a:latin typeface="Consolas"/>
              </a:rPr>
              <a:t>The SNAP-10A</a:t>
            </a:r>
            <a:endParaRPr b="0" lang="en-US" sz="3800" spc="-1" strike="noStrike">
              <a:solidFill>
                <a:srgbClr val="c1eeff"/>
              </a:solidFill>
              <a:latin typeface="Consolas"/>
            </a:endParaRPr>
          </a:p>
        </p:txBody>
      </p:sp>
      <p:pic>
        <p:nvPicPr>
          <p:cNvPr id="378" name="Content Placeholder 5" descr="220px-SNAP_10A_Space_Nuclear_Power_Plant.jpg"/>
          <p:cNvPicPr/>
          <p:nvPr/>
        </p:nvPicPr>
        <p:blipFill>
          <a:blip r:embed="rId1"/>
          <a:stretch/>
        </p:blipFill>
        <p:spPr>
          <a:xfrm>
            <a:off x="6599160" y="1219320"/>
            <a:ext cx="2544840" cy="5181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p:nvPr>
        </p:nvSpPr>
        <p:spPr>
          <a:xfrm>
            <a:off x="380880" y="1371600"/>
            <a:ext cx="8305920" cy="6019920"/>
          </a:xfrm>
          <a:prstGeom prst="rect">
            <a:avLst/>
          </a:prstGeom>
          <a:noFill/>
          <a:ln w="0">
            <a:noFill/>
          </a:ln>
        </p:spPr>
        <p:txBody>
          <a:bodyPr lIns="82440" bIns="0" anchor="t">
            <a:normAutofit/>
          </a:bodyPr>
          <a:p>
            <a:pPr marL="54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http://en.wikipedia.org/wiki/Nuclear_power_in_space</a:t>
            </a:r>
            <a:endParaRPr b="0" lang="en-US" sz="2800" spc="-1" strike="noStrike">
              <a:solidFill>
                <a:srgbClr val="ffffff"/>
              </a:solidFill>
              <a:latin typeface="Corbel"/>
            </a:endParaRPr>
          </a:p>
          <a:p>
            <a:pPr marL="54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http://www.world-nuclear.org/info/non-power-nuclear-applications/transport/nuclear-reactors-for-space/</a:t>
            </a:r>
            <a:endParaRPr b="0" lang="en-US" sz="2800" spc="-1" strike="noStrike">
              <a:solidFill>
                <a:srgbClr val="ffffff"/>
              </a:solidFill>
              <a:latin typeface="Corbel"/>
            </a:endParaRPr>
          </a:p>
          <a:p>
            <a:pPr marL="54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http://energy.gov/ne/nuclear-reactor-technologies/space-power-systems</a:t>
            </a:r>
            <a:endParaRPr b="0" lang="en-US" sz="2800" spc="-1" strike="noStrike">
              <a:solidFill>
                <a:srgbClr val="ffffff"/>
              </a:solidFill>
              <a:latin typeface="Corbel"/>
            </a:endParaRPr>
          </a:p>
          <a:p>
            <a:pPr marL="54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p:txBody>
      </p:sp>
      <p:sp>
        <p:nvSpPr>
          <p:cNvPr id="380" name="PlaceHolder 2"/>
          <p:cNvSpPr>
            <a:spLocks noGrp="1"/>
          </p:cNvSpPr>
          <p:nvPr>
            <p:ph type="title"/>
          </p:nvPr>
        </p:nvSpPr>
        <p:spPr>
          <a:xfrm>
            <a:off x="705960" y="512280"/>
            <a:ext cx="8156520" cy="776520"/>
          </a:xfrm>
          <a:prstGeom prst="rect">
            <a:avLst/>
          </a:prstGeom>
          <a:noFill/>
          <a:ln w="0">
            <a:noFill/>
          </a:ln>
        </p:spPr>
        <p:txBody>
          <a:bodyPr lIns="90000" rIns="90000" tIns="6408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c1eeff"/>
                </a:solidFill>
                <a:latin typeface="Consolas"/>
              </a:rPr>
              <a:t>Sources</a:t>
            </a:r>
            <a:endParaRPr b="0" lang="en-US" sz="3800" spc="-1" strike="noStrike">
              <a:solidFill>
                <a:srgbClr val="c1eeff"/>
              </a:solidFill>
              <a:latin typeface="Consola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9T17:55:50Z</dcterms:created>
  <dc:creator>506228</dc:creator>
  <dc:description/>
  <dc:language>en-US</dc:language>
  <cp:lastModifiedBy> </cp:lastModifiedBy>
  <dcterms:modified xsi:type="dcterms:W3CDTF">2014-03-21T18:12:18Z</dcterms:modified>
  <cp:revision>15</cp:revision>
  <dc:subject/>
  <dc:title>Nuclear tech in SPACE???</dc:title>
</cp:coreProperties>
</file>