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CA155-E9D6-4DB1-AC8D-96CFEE4F7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69C16-BDFC-41D0-A78B-91050D2A1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7C88C-9386-4FD4-AD17-5CB239FC7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472ED-1324-4B63-A3D4-7DE26F528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E0B643-D7BF-41DF-9908-247CBC418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2882E-38D4-4509-807F-EED459EAB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5906E-272D-4D17-BB63-BD94CF9C4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029BE-A357-4FAB-9C05-E0768EAC3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8EE90-185C-4813-BC23-192E8958B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5F350-8FD9-4575-A3D1-C1CEFA8C9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8EED1-A1D2-4D3E-A0B4-6E4D1C462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CEAEC-E10D-401A-BBE5-18BFB5FA1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AE327-08C6-47DB-B851-BC4E1DFD2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03C24-290A-4448-9937-7B90CFAF4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D9E62-ACCF-4D2D-BF21-80D60FCE8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50191A-F834-4756-A401-ECD500801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2532E2-C769-4D1B-B96F-F0BA264F81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EF4CF8-8950-4CD5-B5DC-7DDC356415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E76332-5228-4262-BB00-92FFD0EDB9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09C2F9-90B9-4F08-9797-0DBA22F2A3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561AF2-B582-4998-85F6-84358A7A6D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4C18A0-9E03-499C-BCB7-8EA648ACE4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4F37C-9AE6-4E5C-A040-BEA5FADFF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267F89-9578-401B-B720-F4BAC6DBD7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CFD0D2-28AF-4345-B389-45A1232207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E61DC6-2ECA-4CE3-900F-D49B84D164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041408-F68C-4FCA-AC17-5C050EA97D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CF559B-0518-4375-A03C-F90F5E8073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7D17E9-4145-4F0E-B692-9C7E9E5D04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F651E3-13A3-43A2-AC64-EE02826B36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E75CAA-B552-4FCE-9859-0CF6971588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7D5800-24FC-48A1-BF6A-33EFE7B078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4E4E8A-1B21-474A-87C8-8925AEEC23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81EC9-26D4-4837-901B-9B948D029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E05288-9D7C-47EA-B2ED-1DCD0ADF0F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923A67-4020-4CD0-8B7E-FBB647BE7E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4BC9B9-D348-4502-8206-47BC9798D0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B2EE36-CD27-4235-81D2-0CB4CF6365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2AFC39-DDD4-4176-8DFA-44847EB8F5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95687D-1B12-4BD7-9991-3776AF9B1F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87B47C-5FF2-4EF6-8D56-4E97CDD4F5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58EDE7-F44C-4B3B-9D27-55320ABE60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BA151D-C372-4BDB-BAEC-93316034FC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1E1D77-49F5-4918-A4C5-8B2DD7828B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395F3-8280-4192-A089-8735529D6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7863FE-60CC-4E3F-8884-E2825EEB85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9B622F-A15B-4C65-A888-FAC3C8C911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CF552C-B768-42C8-B4ED-484F273DAB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53EDF5-A8BF-4CDB-B608-5D52C2D8E2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45CBFB-E24E-444F-A930-6EF6107F78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ABD0A5-5C50-4DE3-A0F7-1BFCFC4FFF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874FCE-696C-49D2-9D85-EA4F781A2C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133DEF-27D4-4A7F-A1FB-69407F2C8A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785995-8590-4C95-9A41-3B11063B00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F1209D-C40B-4BAD-BD21-9B28B12C23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4FF1B-ED07-44E3-8C33-BA4FFB15F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AB2305-3FBF-42B7-85F7-5A50CCD419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FECC83-6B83-4BDA-8AB6-3BD37F0AA3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FA3124-63B9-45CD-AC86-F95E0FD99F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14C68A-9178-4365-9DF8-9E188F534B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64F780-0798-49BD-8BF0-9DF5F96FA8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AEEF24-8E35-45A8-BD15-B9A3426524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C5B179-5246-40C1-BDB7-B467D4D822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FDD009-5101-431D-807E-7F7700104F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EA4E6B-81B0-4D66-9F0C-59A1DBFB1C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14FA16-13B6-4438-90C0-E18D235E5B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A5A42-1FFC-4091-932B-F73587AD8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8DA49B-51BA-4CBD-8421-D24BCB00A4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1D85C2-3483-4EE0-9BBC-66230BFF2C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361912-6C1E-4D90-A5B0-393F049C54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22504A-146B-4860-896F-40A1A73DF8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0E7D41-610F-4109-8316-E4FE5A7914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E4C5DE-A084-48CC-8E0C-2369B7E8C5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474E63-3ABC-400A-92D3-B6A2E223B9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48973C-DA18-4726-9654-CB01474A26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0DD73F-AC1C-43E9-A592-54BED2A57B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292CD7-F2EA-4E94-A01F-ED685A64A1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67779-AE32-4A1F-8307-E53EEAED4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312729-CFE0-48E3-BC83-CFF5B7E433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4F204C-9F7B-4DED-89F8-3D147C30FE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99ECCE-8409-4020-BDCD-BEEB396D19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AFDDB5-212A-4B8D-8FD1-18AB1FE7C1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FD2A33-AB8C-4EE6-A7B6-792619432A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5E71C-0DA8-424A-8C57-A30B6DE4D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F3B7-4688-4B9E-8B35-5B6CCE91850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D90D-E9E5-4700-A77A-ADB7BE252D6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02DF-1938-4AEE-ADE4-AF5BEBFE461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03B0-240D-4BEE-959E-92475C13532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A03A-D09A-4FF5-8DCB-B1FCCCADF0E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D80F-11AA-484A-AFB9-1A03C10E0B2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445E-6405-48C2-AACC-EB6552682D1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378000" y="579600"/>
            <a:ext cx="8010360" cy="1584000"/>
          </a:xfrm>
          <a:prstGeom prst="rect">
            <a:avLst/>
          </a:prstGeom>
          <a:ln w="0">
            <a:noFill/>
          </a:ln>
        </p:spPr>
      </p:pic>
      <p:sp>
        <p:nvSpPr>
          <p:cNvPr id="369" name="PlaceHolder 1"/>
          <p:cNvSpPr>
            <a:spLocks noGrp="1"/>
          </p:cNvSpPr>
          <p:nvPr>
            <p:ph type="subTitle"/>
          </p:nvPr>
        </p:nvSpPr>
        <p:spPr>
          <a:xfrm>
            <a:off x="990720" y="1676160"/>
            <a:ext cx="6400800" cy="380988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e Have been using (RTG) Radioisotope thermoelectric generators as our main source of power in space. but  Radioisotope Generator (SRG) produces roughly four times the electric power as an RTG we mainly use RTG because it is a lot less dangerous then (SRG) Russia has over 30 fission reactors in space when we only have 1 fission reactor but we are working on something that is way better then what the Russians have.</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s it safe?</a:t>
            </a:r>
            <a:endParaRPr b="0" lang="en-US" sz="4000" spc="-1" strike="noStrike">
              <a:solidFill>
                <a:srgbClr val="c1eeff"/>
              </a:solidFill>
              <a:latin typeface="Consolas"/>
            </a:endParaRPr>
          </a:p>
        </p:txBody>
      </p:sp>
      <p:sp>
        <p:nvSpPr>
          <p:cNvPr id="371" name=""/>
          <p:cNvSpPr txBox="1"/>
          <p:nvPr/>
        </p:nvSpPr>
        <p:spPr>
          <a:xfrm>
            <a:off x="609480" y="1218960"/>
            <a:ext cx="8229600" cy="510516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oblem is do we need to redesign the way our reactors our build. People are coming out with new ideas on it all the time but a young man named Taylor Wilson has come up with a new design that heats up to 700 degrees Celsius. The laws of  thermodynamics say that high temperatures lead to high efficiencies, this reactor is 45 to 50 percent efficient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uclear fusion equation</a:t>
            </a:r>
            <a:endParaRPr b="0" lang="en-US" sz="4000" spc="-1" strike="noStrike">
              <a:solidFill>
                <a:srgbClr val="c1eeff"/>
              </a:solidFill>
              <a:latin typeface="Consolas"/>
            </a:endParaRPr>
          </a:p>
        </p:txBody>
      </p:sp>
      <p:pic>
        <p:nvPicPr>
          <p:cNvPr id="373" name="Content Placeholder 3" descr="download.jpg"/>
          <p:cNvPicPr/>
          <p:nvPr/>
        </p:nvPicPr>
        <p:blipFill>
          <a:blip r:embed="rId1"/>
          <a:stretch/>
        </p:blipFill>
        <p:spPr>
          <a:xfrm>
            <a:off x="990720" y="1600200"/>
            <a:ext cx="7315200" cy="1295280"/>
          </a:xfrm>
          <a:prstGeom prst="rect">
            <a:avLst/>
          </a:prstGeom>
          <a:ln w="0">
            <a:noFill/>
          </a:ln>
        </p:spPr>
      </p:pic>
      <p:sp>
        <p:nvSpPr>
          <p:cNvPr id="37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5" name="Content Placeholder 3" descr="download (1).jpg"/>
          <p:cNvPicPr/>
          <p:nvPr/>
        </p:nvPicPr>
        <p:blipFill>
          <a:blip r:embed="rId2"/>
          <a:stretch/>
        </p:blipFill>
        <p:spPr>
          <a:xfrm>
            <a:off x="1295280" y="2971800"/>
            <a:ext cx="624852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380880" y="1828800"/>
            <a:ext cx="5718240" cy="2286000"/>
          </a:xfrm>
          <a:prstGeom prst="rect">
            <a:avLst/>
          </a:prstGeom>
          <a:noFill/>
          <a:ln w="0">
            <a:noFill/>
          </a:ln>
        </p:spPr>
        <p:txBody>
          <a:bodyPr lIns="82440" bIns="0"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NAP-10A was a nuclear space reactor  that was build in the 1960’s  it was no where near as efficient as the SNAP-27A that we have build more recently       </a:t>
            </a:r>
            <a:endParaRPr b="0" lang="en-US" sz="2800" spc="-1" strike="noStrike">
              <a:solidFill>
                <a:srgbClr val="ffffff"/>
              </a:solidFill>
              <a:latin typeface="Corbel"/>
            </a:endParaRPr>
          </a:p>
        </p:txBody>
      </p:sp>
      <p:sp>
        <p:nvSpPr>
          <p:cNvPr id="377"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The SNAP-10A</a:t>
            </a:r>
            <a:endParaRPr b="0" lang="en-US" sz="3800" spc="-1" strike="noStrike">
              <a:solidFill>
                <a:srgbClr val="c1eeff"/>
              </a:solidFill>
              <a:latin typeface="Consolas"/>
            </a:endParaRPr>
          </a:p>
        </p:txBody>
      </p:sp>
      <p:pic>
        <p:nvPicPr>
          <p:cNvPr id="378" name="Content Placeholder 5" descr="220px-SNAP_10A_Space_Nuclear_Power_Plant.jpg"/>
          <p:cNvPicPr/>
          <p:nvPr/>
        </p:nvPicPr>
        <p:blipFill>
          <a:blip r:embed="rId1"/>
          <a:stretch/>
        </p:blipFill>
        <p:spPr>
          <a:xfrm>
            <a:off x="6599160" y="1219320"/>
            <a:ext cx="254484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380880" y="1371600"/>
            <a:ext cx="8305920" cy="6019920"/>
          </a:xfrm>
          <a:prstGeom prst="rect">
            <a:avLst/>
          </a:prstGeom>
          <a:noFill/>
          <a:ln w="0">
            <a:noFill/>
          </a:ln>
        </p:spPr>
        <p:txBody>
          <a:bodyPr lIns="82440" bIns="0"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ttp://en.wikipedia.org/wiki/Nuclear_power_in_space</a:t>
            </a:r>
            <a:endParaRPr b="0" lang="en-US" sz="2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ttp://www.world-nuclear.org/info/non-power-nuclear-applications/transport/nuclear-reactors-for-space/</a:t>
            </a:r>
            <a:endParaRPr b="0" lang="en-US" sz="2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ttp://energy.gov/ne/nuclear-reactor-technologies/space-power-systems</a:t>
            </a:r>
            <a:endParaRPr b="0" lang="en-US" sz="2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380"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Sources</a:t>
            </a:r>
            <a:endParaRPr b="0" lang="en-US" sz="38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7:55:50Z</dcterms:created>
  <dc:creator>506228</dc:creator>
  <dc:description/>
  <dc:language>en-US</dc:language>
  <cp:lastModifiedBy> </cp:lastModifiedBy>
  <dcterms:modified xsi:type="dcterms:W3CDTF">2014-03-21T18:12:18Z</dcterms:modified>
  <cp:revision>15</cp:revision>
  <dc:subject/>
  <dc:title>Nuclear tech in SPACE???</dc:title>
</cp:coreProperties>
</file>