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AEF3C-FFBE-483B-B7DF-7EB85B123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137A3-56C7-4ED8-A43E-19FB64A18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A4C19-EFF4-44BE-8AC9-9341688FA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89BBD-FB91-43A2-BCDE-28FEF7F9C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3BF62-F543-4B85-97FC-7950DF0F1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03B5C-FD70-4DF3-AEDB-131674D8A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9DA00-C8AA-49C6-8767-C725A4BEE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BA9D5-9CB8-4A7F-A25B-2FD227713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0B1EA-1470-49D3-B952-731945486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194A6-7FE8-4BC7-BF0C-48904B580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FA1A-0FC5-4450-89E0-A3583DC16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C361E-A68E-4486-8481-B34BBD2F7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A425-B935-4742-8A2D-79AD0A991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4F891-BEF5-4C4B-B0A9-AB5FBCF43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615AD-EE01-42B7-AFCE-2AA870D5E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7FEB2-C01B-4B6D-B6E9-23F962560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07661-FAF1-4D88-9F77-F7259D97D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6164B5-EBE0-4C6C-9158-FD327AB96E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64D02-71C1-4BD7-BB02-0CECBE881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E7885-E23E-4D4D-8721-B7CF0A9F4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2652E6-A831-425D-A0BE-E693D2433C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1D07E-541F-48D1-A668-F70C8845D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FC7EF-5E5B-4867-AAA3-A4009EAF4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25F18-0CB7-4463-BE74-DD0E03ADB1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EC887-E33F-497B-880A-DF9E638CB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4C464-1911-4D57-B90D-68CCA21C2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58697-E301-4219-B960-841879EF5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FFF14-2041-4695-A0E7-00D1359A9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06DB6B-0A91-43A1-B0E4-36ABF98160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6CBCCB-97F6-462C-B2B0-3EDC8B805D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021580-ADA4-4721-853C-C1407AB124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3098AA-3009-4373-92C7-F2D4B75B2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FB4AC-E65B-4F25-9D8A-C5FA94B3A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EA9C0-8FD8-4D1F-BB53-5F9450640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BAB74-1DDE-40DF-9F34-1FC2122AC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E9A00-ED56-41F9-A79B-D03719E36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E0F6A-607D-469F-816F-58CB6D674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1450B-F56F-41A4-BED6-9FD4DD5E9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8D083-C87D-4BEC-BA9C-FE03084F4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E89EF-22C3-4BFA-B8C6-45D95D175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B185D6-A855-4302-B403-BE617B3FC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140F71-7D8F-441A-957B-1E4C8E8CD0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61DC50-3047-4965-8C6E-9CBDF00E9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B80E9C-C304-4747-80AF-B36E9048D7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592F-8BB6-41D1-AABA-4B0B404B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33CD78-E382-46D9-9B22-67442F646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070BA-15F4-499F-A8A3-38505AC38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7FF7F1-286D-401B-8668-F4EFF4C82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EF288-EAF8-484D-A033-0EA29B0C6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C7492D-7982-4AFD-BC6C-09A7C4DBAD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32AD6-E925-4BAC-9DFF-97618318C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4DC49-EFB6-466F-AC52-E831EAD37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9C2EC-7563-46A2-87C3-25F3E3D54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ECDC9-7502-419D-975D-566937C488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99FEB9-C0E8-4D3D-8504-DFA7CADA5D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BBECB-3C84-4201-9953-579A6B1B3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AF5669-9409-436C-A84A-137FA4C905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B8B123-1E4A-49C1-B6B2-7CE9EBDE52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B901C8-6506-4C3A-9DEC-1C2017C3E1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13E5F9-597C-43F3-A9DC-19755746B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587F2-941E-455E-B9CB-6DDCA75A6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E6D78E-1E32-4928-A08A-2FEC70104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BB7F0-D08D-47AB-9606-D49C09CE19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2A17C-040C-4012-AD9B-7E087B191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5F1FB-1F76-4524-A18A-06F842339A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4BCFC-A4CB-4630-A4CD-62A1A99C64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4BAD-D48D-492A-86FB-AAC9E10BF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92B2E-BDE5-424F-A67C-F781C2E541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4F034E-C3FA-484C-B4EB-E3619F7324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C82B3B-71B9-4DDB-AE33-00CF60E4C8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B1F4BB-E32B-4242-8395-6CB201097C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2CA7C5-E6BE-477D-B174-DD2EE69AB9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E2B3C9-21A8-4050-84B2-0C65ACE5E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75F071-AE96-4006-8828-5FF7B64991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1BD897-1D7D-450D-B4A8-2A6019420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B2FEC9-624C-4E34-94A3-CEEC26510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A3D84-B6D0-4A14-B439-2A2B90592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AD02-9BE1-47FA-8CDE-2E8C7240C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ABB6DC-EEEC-4CB1-925A-A3356A8ABA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F76C9-5771-4D42-95AD-6537D8B6D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0983D-FD7C-465E-91C1-5D4AA53DE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C487BC-0521-41A4-A009-1AEAE304EF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ABD733-ADAB-4F1B-8923-9915796D49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1958D-7187-4122-9445-5B3D5D27A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86B8-8B31-4DEE-8BB1-E026DF8EC61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297D-D8CB-4566-932C-64CAE70B25B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4F97-33F7-443A-BF60-618B1B90807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2433-2085-49E7-86F0-57F494736EC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1F93-27BF-4AB8-B51A-BE1326D5686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3C14-FF1E-47E7-B270-6886B6BD754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B435-7E37-4B4C-9D2B-FBDDA58D504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78000" y="579600"/>
            <a:ext cx="8010360" cy="1584000"/>
          </a:xfrm>
          <a:prstGeom prst="rect">
            <a:avLst/>
          </a:prstGeom>
          <a:ln w="0">
            <a:noFill/>
          </a:ln>
        </p:spPr>
      </p:pic>
      <p:sp>
        <p:nvSpPr>
          <p:cNvPr id="369" name="PlaceHolder 1"/>
          <p:cNvSpPr>
            <a:spLocks noGrp="1"/>
          </p:cNvSpPr>
          <p:nvPr>
            <p:ph type="subTitle"/>
          </p:nvPr>
        </p:nvSpPr>
        <p:spPr>
          <a:xfrm>
            <a:off x="990720" y="1676160"/>
            <a:ext cx="6400800" cy="38098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e Have been using (RTG) Radioisotope thermoelectric generators as our main source of power in space. but  Radioisotope Generator (SRG) produces roughly four times the electric power as an RTG we mainly use RTG because it is a lot less dangerous then (SRG) Russia has over 30 fission reactors in space when we only have 1 fission reactor but we are working on something that is way better then what the Russians ha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it safe?</a:t>
            </a:r>
            <a:endParaRPr b="0" lang="en-US" sz="4000" spc="-1" strike="noStrike">
              <a:solidFill>
                <a:srgbClr val="c1eeff"/>
              </a:solidFill>
              <a:latin typeface="Consolas"/>
            </a:endParaRPr>
          </a:p>
        </p:txBody>
      </p:sp>
      <p:sp>
        <p:nvSpPr>
          <p:cNvPr id="371" name=""/>
          <p:cNvSpPr txBox="1"/>
          <p:nvPr/>
        </p:nvSpPr>
        <p:spPr>
          <a:xfrm>
            <a:off x="609480" y="1218960"/>
            <a:ext cx="8229600" cy="5105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blem is do we need to redesign the way our reactors our build. People are coming out with new ideas on it all the time but a young man named Taylor Wilson has come up with a new design that heats up to 700 degrees Celsius. The laws of  thermodynamics say that high temperatures lead to high efficiencies, this reactor is 45 to 50 percent efficien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fusion equation</a:t>
            </a:r>
            <a:endParaRPr b="0" lang="en-US" sz="4000" spc="-1" strike="noStrike">
              <a:solidFill>
                <a:srgbClr val="c1eeff"/>
              </a:solidFill>
              <a:latin typeface="Consolas"/>
            </a:endParaRPr>
          </a:p>
        </p:txBody>
      </p:sp>
      <p:pic>
        <p:nvPicPr>
          <p:cNvPr id="373" name="Content Placeholder 3" descr="download.jpg"/>
          <p:cNvPicPr/>
          <p:nvPr/>
        </p:nvPicPr>
        <p:blipFill>
          <a:blip r:embed="rId1"/>
          <a:stretch/>
        </p:blipFill>
        <p:spPr>
          <a:xfrm>
            <a:off x="990720" y="1600200"/>
            <a:ext cx="7315200" cy="1295280"/>
          </a:xfrm>
          <a:prstGeom prst="rect">
            <a:avLst/>
          </a:prstGeom>
          <a:ln w="0">
            <a:noFill/>
          </a:ln>
        </p:spPr>
      </p:pic>
      <p:sp>
        <p:nvSpPr>
          <p:cNvPr id="37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5" name="Content Placeholder 3" descr="download (1).jpg"/>
          <p:cNvPicPr/>
          <p:nvPr/>
        </p:nvPicPr>
        <p:blipFill>
          <a:blip r:embed="rId2"/>
          <a:stretch/>
        </p:blipFill>
        <p:spPr>
          <a:xfrm>
            <a:off x="1295280" y="2971800"/>
            <a:ext cx="62485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880" y="1828800"/>
            <a:ext cx="5718240" cy="2286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NAP-10A was a nuclear space reactor  that was build in the 1960’s  it was no where near as efficient as the SNAP-27A that we have build more recently       </a:t>
            </a:r>
            <a:endParaRPr b="0" lang="en-US" sz="2800" spc="-1" strike="noStrike">
              <a:solidFill>
                <a:srgbClr val="ffffff"/>
              </a:solidFill>
              <a:latin typeface="Corbel"/>
            </a:endParaRPr>
          </a:p>
        </p:txBody>
      </p:sp>
      <p:sp>
        <p:nvSpPr>
          <p:cNvPr id="377"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The SNAP-10A</a:t>
            </a:r>
            <a:endParaRPr b="0" lang="en-US" sz="3800" spc="-1" strike="noStrike">
              <a:solidFill>
                <a:srgbClr val="c1eeff"/>
              </a:solidFill>
              <a:latin typeface="Consolas"/>
            </a:endParaRPr>
          </a:p>
        </p:txBody>
      </p:sp>
      <p:pic>
        <p:nvPicPr>
          <p:cNvPr id="378" name="Content Placeholder 5" descr="220px-SNAP_10A_Space_Nuclear_Power_Plant.jpg"/>
          <p:cNvPicPr/>
          <p:nvPr/>
        </p:nvPicPr>
        <p:blipFill>
          <a:blip r:embed="rId1"/>
          <a:stretch/>
        </p:blipFill>
        <p:spPr>
          <a:xfrm>
            <a:off x="6599160" y="1219320"/>
            <a:ext cx="25448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380880" y="1371600"/>
            <a:ext cx="8305920" cy="601992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wikipedia.org/wiki/Nuclear_power_in_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www.world-nuclear.org/info/non-power-nuclear-applications/transport/nuclear-reactors-for-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ergy.gov/ne/nuclear-reactor-technologies/space-power-systems</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8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Sources</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5:50Z</dcterms:created>
  <dc:creator>506228</dc:creator>
  <dc:description/>
  <dc:language>en-US</dc:language>
  <cp:lastModifiedBy> </cp:lastModifiedBy>
  <dcterms:modified xsi:type="dcterms:W3CDTF">2014-03-21T18:12:18Z</dcterms:modified>
  <cp:revision>15</cp:revision>
  <dc:subject/>
  <dc:title>Nuclear tech in SPACE???</dc:title>
</cp:coreProperties>
</file>