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A7D8-E680-49B9-897D-467E787A1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F911-7D28-4AE8-B183-C92BF26F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C0E37-47BA-4677-A72D-E8B937E6D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B11D0-B514-4279-9C24-2E00AFCC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4F952-C3B7-4606-9E7B-17D8C9195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B92BA-3E22-4187-A599-53D5160BB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E7E14-911B-49CE-9DE0-CF348A3E6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F3910-494F-4B1E-B267-DF81F385D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0B421-DE37-4376-9887-FB62128B6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AFABF-ED97-400A-B8D7-F7B48131D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40A49-66F3-44FA-A51C-4D331997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B3BC-70E0-4D56-9677-33F672AB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99631-DB96-40FD-A3AA-82E297C9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7CB3C-88B3-4B14-8DF2-B8D180592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387F7-2EFD-400B-ACA4-C0115E225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6EA81-30FF-4256-ACCD-9DC912036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105CA-563E-4D97-A30A-318685563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A73B08-8A33-42AC-B19B-6FCEA39AA4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4D5792-F4C4-40A7-B862-9F726FA5D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412780-5091-4904-B962-E006834FF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1F82C5-4C3F-47F6-93A4-9BD9A9E60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607504-0C21-46A1-805D-6E60E70C5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FB6B-BD9E-4D1E-89C1-4575C803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F2CAD3-D8E8-4218-821B-B8241DD97D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9E0FBD-04FE-402D-8676-986CCBB32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A0AE9B-3F75-4B87-A47D-5A6506B4D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F1029C-AA7B-4DB3-86F7-B78281D10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D2F8BA-D052-496D-92D8-D11920368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6FA25D-ADFE-4CC9-A9A3-D57F2401D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0D881E-9666-4EBF-A1D2-75CF2DAC1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F62641-562A-47FB-ABC6-5C6B4FE22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3CC2C-BF8E-43A5-942E-4F3900E98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E7F4F-FE74-4C10-9BC1-4B8F6336B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253A-0CBB-4645-A436-0DFC277E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DD614-0EB7-49B1-811F-A02BBF710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579E6-FCEF-478E-A2A4-AEF235B2D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E8B38-66F2-46B4-B022-6C2628EC8D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9F0BF-363A-4CB3-B39E-6DA1A6487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64C03-98A8-409C-A804-185E35CED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00A8D-5D4D-4A32-8301-E99590DDC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4AD7C-36C5-4090-B54B-8C035401F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B557E-0EB5-4E67-94B2-C3FB26D2C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F10BCB-A005-40FC-B880-2C354537B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A32B6-74BF-4CD6-8AEB-A6273CFF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BFE4-486D-4781-967A-EC0ED5BD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F039-8B18-4192-8D23-C1E63BA1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DA61-AF45-478F-9237-D54B9241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C24F-6522-4C16-944B-AC8F84980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9975-481C-4399-AA23-66EBCF2544E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B84D-F8F4-48AD-8510-3BA65E5B8ED4}"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40EC-DBAD-4BBA-BAAC-71E929A047F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7045-A5B7-47B3-9F03-5FFADAA3972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FUKUSHIMA DAIICHI NUCLEAR DISAST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 </a:t>
            </a:r>
            <a:r>
              <a:rPr b="0" lang="en-US" sz="1800" spc="-1" strike="noStrike">
                <a:solidFill>
                  <a:srgbClr val="424242"/>
                </a:solidFill>
                <a:latin typeface="Century Gothic"/>
              </a:rPr>
              <a:t>BY RAHAD NESMITH </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CHEM PROJECT</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S.AGOSTINE</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ISTORY ABOUT KUKUSHIMA DAIICHI NUCLEAR DISASTER.</a:t>
            </a:r>
            <a:endParaRPr b="0" lang="en-US" sz="3600" spc="-1" strike="noStrike">
              <a:solidFill>
                <a:srgbClr val="94c600"/>
              </a:solidFill>
              <a:latin typeface="Century Gothic"/>
            </a:endParaRPr>
          </a:p>
        </p:txBody>
      </p:sp>
      <p:sp>
        <p:nvSpPr>
          <p:cNvPr id="33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n March 11, 2011 the Fukushima Daiichi hit Japan.</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A tsunami hit and took out power supplies and the cooling.</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here were three Fukushima Daiichi reactors that caused the nuclear disaster in Japan. They also melted within the first three days.</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It was rated a 7 on the INES scale.</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Four reactors were due to damage in the accident.</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ithin 4 to 6 days a total of 940 PBQ ( I-131 EQ) radioactive material was released.</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BRIEF EXPLANATION OF MY TOPIC</a:t>
            </a:r>
            <a:endParaRPr b="0" lang="en-US" sz="3600" spc="-1" strike="noStrike">
              <a:solidFill>
                <a:srgbClr val="94c600"/>
              </a:solidFill>
              <a:latin typeface="Century Gothic"/>
            </a:endParaRPr>
          </a:p>
        </p:txBody>
      </p:sp>
      <p:sp>
        <p:nvSpPr>
          <p:cNvPr id="340" name=""/>
          <p:cNvSpPr txBox="1"/>
          <p:nvPr/>
        </p:nvSpPr>
        <p:spPr>
          <a:xfrm>
            <a:off x="457200" y="1219320"/>
            <a:ext cx="8229600" cy="45259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brief explanation of the Daiichi nuclear disaster. The Daiichi nuclear disaster hit japan on march 11, 2011. There were 3 reactors involved in the disaster. It was rated a 7 on the scale. This is one of the biggest disaster that hit japan. The total amount of reactors that were included in the nuclear disaster are. All of the damage was within 4-6 days. That was a lot of work to rebuild things and replace the reactors that were taken out during the Kukushima Daiichi disaster.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ics </a:t>
            </a:r>
            <a:endParaRPr b="0" lang="en-US" sz="4000" spc="-1" strike="noStrike">
              <a:solidFill>
                <a:srgbClr val="94c600"/>
              </a:solidFill>
              <a:latin typeface="Century Gothic"/>
            </a:endParaRPr>
          </a:p>
        </p:txBody>
      </p:sp>
      <p:pic>
        <p:nvPicPr>
          <p:cNvPr id="342" name="Content Placeholder 3" descr=""/>
          <p:cNvPicPr/>
          <p:nvPr/>
        </p:nvPicPr>
        <p:blipFill>
          <a:blip r:embed="rId1"/>
          <a:stretch/>
        </p:blipFill>
        <p:spPr>
          <a:xfrm>
            <a:off x="304920" y="228600"/>
            <a:ext cx="3695760" cy="2476440"/>
          </a:xfrm>
          <a:prstGeom prst="rect">
            <a:avLst/>
          </a:prstGeom>
          <a:ln w="0">
            <a:noFill/>
          </a:ln>
        </p:spPr>
      </p:pic>
      <p:pic>
        <p:nvPicPr>
          <p:cNvPr id="343" name="Picture 4" descr=""/>
          <p:cNvPicPr/>
          <p:nvPr/>
        </p:nvPicPr>
        <p:blipFill>
          <a:blip r:embed="rId2"/>
          <a:stretch/>
        </p:blipFill>
        <p:spPr>
          <a:xfrm>
            <a:off x="5680080" y="228600"/>
            <a:ext cx="2857320" cy="2057400"/>
          </a:xfrm>
          <a:prstGeom prst="rect">
            <a:avLst/>
          </a:prstGeom>
          <a:ln w="0">
            <a:noFill/>
          </a:ln>
        </p:spPr>
      </p:pic>
      <p:pic>
        <p:nvPicPr>
          <p:cNvPr id="344" name="Picture 6" descr=""/>
          <p:cNvPicPr/>
          <p:nvPr/>
        </p:nvPicPr>
        <p:blipFill>
          <a:blip r:embed="rId3"/>
          <a:stretch/>
        </p:blipFill>
        <p:spPr>
          <a:xfrm>
            <a:off x="304920" y="2968560"/>
            <a:ext cx="2895480" cy="2044800"/>
          </a:xfrm>
          <a:prstGeom prst="rect">
            <a:avLst/>
          </a:prstGeom>
          <a:ln w="0">
            <a:noFill/>
          </a:ln>
        </p:spPr>
      </p:pic>
      <p:pic>
        <p:nvPicPr>
          <p:cNvPr id="345" name="Picture 7" descr=""/>
          <p:cNvPicPr/>
          <p:nvPr/>
        </p:nvPicPr>
        <p:blipFill>
          <a:blip r:embed="rId4"/>
          <a:stretch/>
        </p:blipFill>
        <p:spPr>
          <a:xfrm>
            <a:off x="5549760" y="2514600"/>
            <a:ext cx="3117960" cy="2178000"/>
          </a:xfrm>
          <a:prstGeom prst="rect">
            <a:avLst/>
          </a:prstGeom>
          <a:ln w="0">
            <a:noFill/>
          </a:ln>
        </p:spPr>
      </p:pic>
      <p:pic>
        <p:nvPicPr>
          <p:cNvPr id="346" name="Picture 8" descr=""/>
          <p:cNvPicPr/>
          <p:nvPr/>
        </p:nvPicPr>
        <p:blipFill>
          <a:blip r:embed="rId5"/>
          <a:stretch/>
        </p:blipFill>
        <p:spPr>
          <a:xfrm>
            <a:off x="3370320" y="4809960"/>
            <a:ext cx="2238480" cy="20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05:07Z</dcterms:created>
  <dc:creator>30659</dc:creator>
  <dc:description/>
  <dc:language>en-US</dc:language>
  <cp:lastModifiedBy>ASD</cp:lastModifiedBy>
  <dcterms:modified xsi:type="dcterms:W3CDTF">2014-03-28T18:02:51Z</dcterms:modified>
  <cp:revision>14</cp:revision>
  <dc:subject/>
  <dc:title>FUKUSHIMA DAIICHI NUCLEAR DISASTER.</dc:title>
</cp:coreProperties>
</file>