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5DB-A259-404A-A811-93944EB6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C46-1881-4DA2-87C3-3ABE689A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A01-7729-4A34-8DD7-68139DDE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D07-25EA-4A78-ACBE-0F340BE3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5F1-0666-419F-9681-C338A1D3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275-CC70-4D7E-9721-306C2BC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0AE-AC2E-49C1-92AD-B251DC2E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FC2-28AD-4E3E-BCD5-D925E11F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D7D-E140-4C42-B33C-E9CC1DCA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167-1C3D-4530-B3F3-F495DD9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691-C69E-45A9-B8F8-9BF6F5C2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F66-69A8-49B2-8341-8D49B0BA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1FA3-4366-48C8-BC75-9D9D61322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.navy.mil/sites/nmcphc/Documents/environmental-programs/risk-communication/posters/radon2.pdf" TargetMode="External"/><Relationship Id="rId2" Type="http://schemas.openxmlformats.org/officeDocument/2006/relationships/hyperlink" Target="http://www.science.gov/topicpages/r/radon+treatment+controversy.html" TargetMode="External"/><Relationship Id="rId3" Type="http://schemas.openxmlformats.org/officeDocument/2006/relationships/hyperlink" Target="http://www.science.gov/topicpages/r/radon+treatment+controversy.html" TargetMode="External"/><Relationship Id="rId4" Type="http://schemas.openxmlformats.org/officeDocument/2006/relationships/hyperlink" Target="http://www.wisegeek.com/what-is-radium.htm#didyouknowout" TargetMode="External"/><Relationship Id="rId5" Type="http://schemas.openxmlformats.org/officeDocument/2006/relationships/hyperlink" Target="http://www.wisegeek.com/what-is-radium.htm#didyouknowout" TargetMode="External"/><Relationship Id="rId6" Type="http://schemas.openxmlformats.org/officeDocument/2006/relationships/hyperlink" Target="http://healthvermont.gov/enviro/rad/Radium.aspx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log.modernmechanix.com/mags/ModernMechanix/1-1933/radium_condemned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Nuclear Mate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hley Radclif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es Thorium get into the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al thorium is present in very small quant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high concentrations occur in rock, thorium produces waste products such as mill tai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are exposed to Thor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y inhale contaminated dust, or swallow thorium with food or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near a thorium contaminated site, or working in an industry where thorium is used, increases your chance of exposure to tho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o moderate level exposure to ionizing radiation is increased risk of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ies have shown that breathing in  thorium dust causes an increased risk of developing lung cancer, and cancer of the panc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cancer risk is also increased because thorium may be stored in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is a very heavy metal which can be used as an abundant source of concentrat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Uranium occurs in most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has a melting point is 1132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463760" y="96840"/>
            <a:ext cx="572292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can be exposed to uranium by inhaling dust in air, or ingesting water and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daily intake of uranium from food ranges from 0.07 to 1.1 micrograms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akes of uranium exceeding EPA standards can lead to increased cancer risk, liver damage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Long term chronic intakes of uranium isotopes in food, water, or air can lead to internal irradiation and chemic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4805280" cy="480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y  G.T. Seaborg, J.W. Kennedy, E.M. McMillan, A.C. 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for the planet Pl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t is used f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used as an explosive in nuclea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kilogram of plutonium is equivalent to 22 million kilowatt hours of heat energy, so plutonium is important for nuclear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the b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may inhale plutonium as a contaminant in dust. It is in water  Most people have low inhalation of plutoni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live near government weapons production or testing facilities may have increased exposure. Plutonium exposure external to the body poses very little health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is a cancer-causing radioactiv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see, taste, or smell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found in soil, rock,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113600" cy="185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6294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71"/>
                </a:solidFill>
                <a:latin typeface="Arial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28600" y="35607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92560" y="356076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6781680" y="356076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to plutonium poses very little health risk since plutonium isotopes emit alpha radiation and almost no beta or gamma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exposure to plutonium is an extremely serious health haz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5699160" cy="115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lutonium.jpg"/>
          <p:cNvPicPr/>
          <p:nvPr/>
        </p:nvPicPr>
        <p:blipFill>
          <a:blip r:embed="rId1"/>
          <a:stretch/>
        </p:blipFill>
        <p:spPr>
          <a:xfrm>
            <a:off x="0" y="1728720"/>
            <a:ext cx="4637160" cy="512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picture of plutonium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med.navy.mil/sites/nmcphc/Documents/environmental-programs/risk-communication/posters/radon2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science.gov/topicpages/r/radon+treatment+controvers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www.wisegeek.com/what-is-radium.htm#didyouknow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http://healthvermont.gov/enviro/rad/Radium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alelements.com/elements/r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ool.com/elements/thorium.html</a:t>
            </a:r>
            <a:br>
              <a:rPr sz="2000"/>
            </a:b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rsc.org/periodic-table/element/90/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epa.gov/radiation/radionuclides/thorium.html#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Radon enters th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usually enters homes through cracks  and ope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amount enters through well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Radon levels are usually found in lower areas of a home such as a basement and craw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Radon causes lung damage which can lead to lung cancer throughout your life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Radon is the second leading cause of lung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re are no known short-term health effects from exposure to ra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on Treatment Controver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s utilizing radon-rich air or water have not been unequivocally embraced by modern medic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e work is to examine factors that contribute to this continuing controver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vidence and patients' testimonials regarding effectiveness of radon spa treatments of various ailments, most notably rheumatoid arthritis are accumulating worldw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a highly radioactive chemical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among the alkaline earth metals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found in trace amounts in uranium ore, and it is significantly more radioactive than 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7223040" cy="10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175284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used to treat some types of can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ected into a vein once a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act dose and schedule of carboplatin depends on your size, among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Radium.png"/>
          <p:cNvPicPr/>
          <p:nvPr/>
        </p:nvPicPr>
        <p:blipFill>
          <a:blip r:embed="rId1"/>
          <a:stretch/>
        </p:blipFill>
        <p:spPr>
          <a:xfrm>
            <a:off x="0" y="1684440"/>
            <a:ext cx="3656160" cy="51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.modernmechanix.com/mags/qf/c/ModernMechanix/1-1933/med_radium_condemn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59092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4"/>
          <a:stretch/>
        </p:blipFill>
        <p:spPr>
          <a:xfrm>
            <a:off x="1305000" y="128520"/>
            <a:ext cx="6308640" cy="1127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Background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discovered by a chemist named Jons Jacob Berzeli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named after Thor, the Scandinavian god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55:51Z</dcterms:created>
  <dc:creator> </dc:creator>
  <dc:description/>
  <dc:language>en-US</dc:language>
  <cp:lastModifiedBy>Abington School District</cp:lastModifiedBy>
  <dcterms:modified xsi:type="dcterms:W3CDTF">2014-03-24T16:47:29Z</dcterms:modified>
  <cp:revision>27</cp:revision>
  <dc:subject/>
  <dc:title>Slide 1</dc:title>
</cp:coreProperties>
</file>