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067-A13A-4B96-9508-54F61DFA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199-B956-4748-AAA6-A65FBFBD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7A3-FC01-4BD8-A258-E763EAD2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D6A-1E16-421F-B867-DBD7569F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201-364E-4AA8-BED5-EC37D603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38FD-1FA2-49A1-8039-460406CA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374-68ED-475A-BFDB-B261054F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FA6-648A-483A-9BD2-E0EC9CEA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D1A-A017-4FF3-B808-21671468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B7C-9258-409F-8E51-2359B18D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DFF-F4E4-43F3-BCA2-D7374D53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17C-5E21-45CA-A1D5-B05DD4B1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F35A-4EB4-4D7B-92E4-E5A337BE2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ed.navy.mil/sites/nmcphc/Documents/environmental-programs/risk-communication/posters/radon2.pdf" TargetMode="External"/><Relationship Id="rId2" Type="http://schemas.openxmlformats.org/officeDocument/2006/relationships/hyperlink" Target="http://www.science.gov/topicpages/r/radon+treatment+controversy.html" TargetMode="External"/><Relationship Id="rId3" Type="http://schemas.openxmlformats.org/officeDocument/2006/relationships/hyperlink" Target="http://www.science.gov/topicpages/r/radon+treatment+controversy.html" TargetMode="External"/><Relationship Id="rId4" Type="http://schemas.openxmlformats.org/officeDocument/2006/relationships/hyperlink" Target="http://www.wisegeek.com/what-is-radium.htm#didyouknowout" TargetMode="External"/><Relationship Id="rId5" Type="http://schemas.openxmlformats.org/officeDocument/2006/relationships/hyperlink" Target="http://www.wisegeek.com/what-is-radium.htm#didyouknowout" TargetMode="External"/><Relationship Id="rId6" Type="http://schemas.openxmlformats.org/officeDocument/2006/relationships/hyperlink" Target="http://healthvermont.gov/enviro/rad/Radium.aspx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blog.modernmechanix.com/mags/ModernMechanix/1-1933/radium_condemned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of Nuclear Mate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shley Radclif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does Thorium get into the environ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tural thorium is present in very small quant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high concentrations occur in rock, thorium produces waste products such as mill tail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b6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eople are exposed to Thor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may inhale contaminated dust, or swallow thorium with food or wa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near a thorium contaminated site, or working in an industry where thorium is used, increases your chance of exposure to tho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157a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to moderate level exposure to ionizing radiation is increased risk of canc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ies have shown that breathing in  thorium dust causes an increased risk of developing lung cancer, and cancer of the pancr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cancer risk is also increased because thorium may be stored in b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anium is a very heavy metal which can be used as an abundant source of concentrated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Uranium occurs in most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anium has a melting point is 1132°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1463760" y="96840"/>
            <a:ext cx="5722920" cy="1135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ent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can be exposed to uranium by inhaling dust in air, or ingesting water and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verage daily intake of uranium from food ranges from 0.07 to 1.1 micrograms per 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ntakes of uranium exceeding EPA standards can lead to increased cancer risk, liver damage, or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Long term chronic intakes of uranium isotopes in food, water, or air can lead to internal irradiation and chemical tox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anium Pi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2052720"/>
            <a:ext cx="4805280" cy="4805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4680000" cy="3505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157a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ton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vered by  G.T. Seaborg, J.W. Kennedy, E.M. McMillan, A.C. Wo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for the planet Plu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t is used f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 is used as an explosive in nuclear weap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kilogram of plutonium is equivalent to 22 million kilowatt hours of heat energy, so plutonium is important for nuclear p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enters the bod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may inhale plutonium as a contaminant in dust. It is in water  Most people have low inhalation of plutoni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live near government weapons production or testing facilities may have increased exposure. Plutonium exposure external to the body poses very little health ri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on is a cancer-causing radioactive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not see, taste, or smell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found in soil, rock, and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4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7113600" cy="1852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6629400" y="380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71"/>
                </a:solidFill>
                <a:latin typeface="Arial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28600" y="356076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3292560" y="3560760"/>
            <a:ext cx="3263760" cy="252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6781680" y="3560760"/>
            <a:ext cx="2238480" cy="204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to plutonium poses very little health risk since plutonium isotopes emit alpha radiation and almost no beta or gamma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al exposure to plutonium is an extremely serious health haz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1139760" y="103320"/>
            <a:ext cx="5699160" cy="1152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Plutonium.jpg"/>
          <p:cNvPicPr/>
          <p:nvPr/>
        </p:nvPicPr>
        <p:blipFill>
          <a:blip r:embed="rId1"/>
          <a:stretch/>
        </p:blipFill>
        <p:spPr>
          <a:xfrm>
            <a:off x="0" y="1728720"/>
            <a:ext cx="4637160" cy="512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picture of plutonium"/>
          <p:cNvPicPr/>
          <p:nvPr/>
        </p:nvPicPr>
        <p:blipFill>
          <a:blip r:embed="rId2"/>
          <a:stretch/>
        </p:blipFill>
        <p:spPr>
          <a:xfrm>
            <a:off x="4800600" y="2362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Work Ci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http://www.med.navy.mil/sites/nmcphc/Documents/environmental-programs/risk-communication/posters/radon2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3"/>
              </a:rPr>
              <a:t>www.science.gov/topicpages/r/radon+treatment+controvers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5"/>
              </a:rPr>
              <a:t>www.wisegeek.com/what-is-radium.htm#didyouknow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6"/>
              </a:rPr>
              <a:t>http://healthvermont.gov/enviro/rad/Radium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chemicalelements.com/elements/ra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chemicool.com/elements/thorium.html</a:t>
            </a:r>
            <a:br>
              <a:rPr sz="2000"/>
            </a:b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rsc.org/periodic-table/element/90/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epa.gov/radiation/radionuclides/thorium.html#prope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Radon enters the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on usually enters homes through cracks  and open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mall amount enters through well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st Radon levels are usually found in lower areas of a home such as a basement and crawl spa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alibri"/>
              </a:rPr>
              <a:t>Radon causes lung damage which can lead to lung cancer throughout your life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Radon is the second leading cause of lung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re are no known short-term health effects from exposure to ra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on Treatment Controver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ments utilizing radon-rich air or water have not been unequivocally embraced by modern medic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bjective of the work is to examine factors that contribute to this continuing controver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l evidence and patients' testimonials regarding effectiveness of radon spa treatments of various ailments, most notably rheumatoid arthritis are accumulating worldwi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a highly radioactive chemical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among the alkaline earth metals of the periodic table of e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found in trace amounts in uranium ore, and it is significantly more radioactive than 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957240" y="133200"/>
            <a:ext cx="7223040" cy="109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581280" y="4724280"/>
            <a:ext cx="1752840" cy="189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used to treat some types of canc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jected into a vein once a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act dose and schedule of carboplatin depends on your size, among other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Radium.png"/>
          <p:cNvPicPr/>
          <p:nvPr/>
        </p:nvPicPr>
        <p:blipFill>
          <a:blip r:embed="rId1"/>
          <a:stretch/>
        </p:blipFill>
        <p:spPr>
          <a:xfrm>
            <a:off x="0" y="1684440"/>
            <a:ext cx="3656160" cy="517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blog.modernmechanix.com/mags/qf/c/ModernMechanix/1-1933/med_radium_condemne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259092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" descr=""/>
          <p:cNvPicPr/>
          <p:nvPr/>
        </p:nvPicPr>
        <p:blipFill>
          <a:blip r:embed="rId4"/>
          <a:stretch/>
        </p:blipFill>
        <p:spPr>
          <a:xfrm>
            <a:off x="1305000" y="128520"/>
            <a:ext cx="6308640" cy="11271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rium Background Infor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was discovered by a chemist named Jons Jacob Berzeli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is named after Thor, the Scandinavian god of w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7:55:51Z</dcterms:created>
  <dc:creator> </dc:creator>
  <dc:description/>
  <dc:language>en-US</dc:language>
  <cp:lastModifiedBy>Abington School District</cp:lastModifiedBy>
  <dcterms:modified xsi:type="dcterms:W3CDTF">2014-03-24T16:47:29Z</dcterms:modified>
  <cp:revision>27</cp:revision>
  <dc:subject/>
  <dc:title>Slide 1</dc:title>
</cp:coreProperties>
</file>