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E1DF-DDC3-433A-A0C8-446C47D7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5088-BD95-45CA-8174-796F69A1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0168-89EC-4D17-9359-043BC415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F705-10B6-49EC-A032-A1A3D991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AB3F-975E-4355-A421-F0EE308A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A5FB-B0F0-4279-8064-BE452984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ADC-3A76-4A53-8198-DB1954A7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E70A-C5A9-4347-82D6-A15EFF9C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4EDC-8834-40BE-AB7E-40CE47FB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8005-A4B3-42F3-9ADF-F6E1F9F9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3E9C-CCBC-4D22-8A8A-EC4DB841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C299-43F2-4FCD-9B7E-83145F79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779D-78B1-467A-90D9-5155BAB65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ed.navy.mil/sites/nmcphc/Documents/environmental-programs/risk-communication/posters/radon2.pdf" TargetMode="External"/><Relationship Id="rId2" Type="http://schemas.openxmlformats.org/officeDocument/2006/relationships/hyperlink" Target="http://www.science.gov/topicpages/r/radon+treatment+controversy.html" TargetMode="External"/><Relationship Id="rId3" Type="http://schemas.openxmlformats.org/officeDocument/2006/relationships/hyperlink" Target="http://www.science.gov/topicpages/r/radon+treatment+controversy.html" TargetMode="External"/><Relationship Id="rId4" Type="http://schemas.openxmlformats.org/officeDocument/2006/relationships/hyperlink" Target="http://www.wisegeek.com/what-is-radium.htm#didyouknowout" TargetMode="External"/><Relationship Id="rId5" Type="http://schemas.openxmlformats.org/officeDocument/2006/relationships/hyperlink" Target="http://www.wisegeek.com/what-is-radium.htm#didyouknowout" TargetMode="External"/><Relationship Id="rId6" Type="http://schemas.openxmlformats.org/officeDocument/2006/relationships/hyperlink" Target="http://healthvermont.gov/enviro/rad/Radium.aspx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blog.modernmechanix.com/mags/ModernMechanix/1-1933/radium_condemned.jpg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of Nuclear Materi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shley Radcliff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does Thorium get into the environme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tural thorium is present in very small quant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high concentrations occur in rock, thorium produces waste products such as mill tail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b6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people are exposed to Thoriu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may inhale contaminated dust, or swallow thorium with food or wa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ing near a thorium contaminated site, or working in an industry where thorium is used, increases your chance of exposure to thor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157a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lth Effec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to moderate level exposure to ionizing radiation is increased risk of canc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ies have shown that breathing in  thorium dust causes an increased risk of developing lung cancer, and cancer of the pancre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e cancer risk is also increased because thorium may be stored in b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ranium is a very heavy metal which can be used as an abundant source of concentrated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•</a:t>
            </a:r>
            <a:r>
              <a:rPr b="0" lang="en-US" sz="3200" spc="-1" strike="noStrike">
                <a:solidFill>
                  <a:srgbClr val="00ff00"/>
                </a:solidFill>
                <a:latin typeface="Calibri"/>
              </a:rPr>
              <a:t>Uranium occurs in most roc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ranium has a melting point is 1132°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Rectangle 3" descr=""/>
          <p:cNvPicPr/>
          <p:nvPr/>
        </p:nvPicPr>
        <p:blipFill>
          <a:blip r:embed="rId1"/>
          <a:stretch/>
        </p:blipFill>
        <p:spPr>
          <a:xfrm>
            <a:off x="1463760" y="96840"/>
            <a:ext cx="5722920" cy="1135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it ente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can be exposed to uranium by inhaling dust in air, or ingesting water and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verage daily intake of uranium from food ranges from 0.07 to 1.1 micrograms per 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th Effec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ntakes of uranium exceeding EPA standards can lead to increased cancer risk, liver damage, or bo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Long term chronic intakes of uranium isotopes in food, water, or air can lead to internal irradiation and chemical toxi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d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ranium Pictur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2052720"/>
            <a:ext cx="4805280" cy="4805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4343400" y="3352680"/>
            <a:ext cx="4680000" cy="35053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157a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toniu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overed by  G.T. Seaborg, J.W. Kennedy, E.M. McMillan, A.C. Wo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for the planet Plu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t is used f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utonium is used as an explosive in nuclear weap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kilogram of plutonium is equivalent to 22 million kilowatt hours of heat energy, so plutonium is important for nuclear pow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it enters the bod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may inhale plutonium as a contaminant in dust. It is in water  Most people have low inhalation of plutoniu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ho live near government weapons production or testing facilities may have increased exposure. Plutonium exposure external to the body poses very little health ris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on is a cancer-causing radioactive e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not see, taste, or smell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found in soil, rock, and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Rectangle 4" descr=""/>
          <p:cNvPicPr/>
          <p:nvPr/>
        </p:nvPicPr>
        <p:blipFill>
          <a:blip r:embed="rId1"/>
          <a:stretch/>
        </p:blipFill>
        <p:spPr>
          <a:xfrm>
            <a:off x="-6480" y="-36360"/>
            <a:ext cx="7113600" cy="1852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6629400" y="380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71"/>
                </a:solidFill>
                <a:latin typeface="Arial"/>
              </a:rPr>
              <a:t>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228600" y="356076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3292560" y="3560760"/>
            <a:ext cx="3263760" cy="2521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4"/>
          <a:stretch/>
        </p:blipFill>
        <p:spPr>
          <a:xfrm>
            <a:off x="6781680" y="3560760"/>
            <a:ext cx="2238480" cy="204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exposure to plutonium poses very little health risk since plutonium isotopes emit alpha radiation and almost no beta or gamma rad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nal exposure to plutonium is an extremely serious health haz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Rectangle 3" descr=""/>
          <p:cNvPicPr/>
          <p:nvPr/>
        </p:nvPicPr>
        <p:blipFill>
          <a:blip r:embed="rId1"/>
          <a:stretch/>
        </p:blipFill>
        <p:spPr>
          <a:xfrm>
            <a:off x="1139760" y="103320"/>
            <a:ext cx="5699160" cy="1152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Content Placeholder 3" descr="Plutonium.jpg"/>
          <p:cNvPicPr/>
          <p:nvPr/>
        </p:nvPicPr>
        <p:blipFill>
          <a:blip r:embed="rId1"/>
          <a:stretch/>
        </p:blipFill>
        <p:spPr>
          <a:xfrm>
            <a:off x="0" y="1728720"/>
            <a:ext cx="4637160" cy="5129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picture of plutonium"/>
          <p:cNvPicPr/>
          <p:nvPr/>
        </p:nvPicPr>
        <p:blipFill>
          <a:blip r:embed="rId2"/>
          <a:stretch/>
        </p:blipFill>
        <p:spPr>
          <a:xfrm>
            <a:off x="4800600" y="23623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Work Cite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1"/>
              </a:rPr>
              <a:t>http://www.med.navy.mil/sites/nmcphc/Documents/environmental-programs/risk-communication/posters/radon2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3"/>
              </a:rPr>
              <a:t>www.science.gov/topicpages/r/radon+treatment+controversy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4"/>
              </a:rPr>
              <a:t>http://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5"/>
              </a:rPr>
              <a:t>www.wisegeek.com/what-is-radium.htm#didyouknow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6"/>
              </a:rPr>
              <a:t>http://healthvermont.gov/enviro/rad/Radium.asp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f71"/>
                </a:solidFill>
                <a:latin typeface="Calibri"/>
              </a:rPr>
              <a:t>http://www.chemicalelements.com/elements/ra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f71"/>
                </a:solidFill>
                <a:latin typeface="Calibri"/>
              </a:rPr>
              <a:t>http://www.chemicool.com/elements/thorium.html</a:t>
            </a:r>
            <a:br>
              <a:rPr sz="2000"/>
            </a:br>
            <a:r>
              <a:rPr b="0" lang="en-US" sz="2000" spc="-1" strike="noStrike">
                <a:solidFill>
                  <a:srgbClr val="2c3f71"/>
                </a:solidFill>
                <a:latin typeface="Calibri"/>
              </a:rPr>
              <a:t>http://www.rsc.org/periodic-table/element/90/tho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f71"/>
                </a:solidFill>
                <a:latin typeface="Calibri"/>
              </a:rPr>
              <a:t>http://www.epa.gov/radiation/radionuclides/thorium.html#proper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Radon enters the h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on usually enters homes through cracks  and open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mall amount enters through well wa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est Radon levels are usually found in lower areas of a home such as a basement and crawl spa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lth Effec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alibri"/>
              </a:rPr>
              <a:t>Radon causes lung damage which can lead to lung cancer throughout your lifeti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libri"/>
              </a:rPr>
              <a:t>Radon is the second leading cause of lung can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ere are no known short-term health effects from exposure to rad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don Treatment Controvers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atments utilizing radon-rich air or water have not been unequivocally embraced by modern medici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bjective of the work is to examine factors that contribute to this continuing controvers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cal evidence and patients' testimonials regarding effectiveness of radon spa treatments of various ailments, most notably rheumatoid arthritis are accumulating worldwid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um is a highly radioactive chemical e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fied among the alkaline earth metals of the periodic table of ele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um is found in trace amounts in uranium ore, and it is significantly more radioactive than ura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Rectangle 1" descr=""/>
          <p:cNvPicPr/>
          <p:nvPr/>
        </p:nvPicPr>
        <p:blipFill>
          <a:blip r:embed="rId1"/>
          <a:stretch/>
        </p:blipFill>
        <p:spPr>
          <a:xfrm>
            <a:off x="957240" y="133200"/>
            <a:ext cx="7223040" cy="1098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3581280" y="4724280"/>
            <a:ext cx="1752840" cy="1890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u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um is used to treat some types of canc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jected into a vein once a mon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act dose and schedule of carboplatin depends on your size, among other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3" descr="Radium.png"/>
          <p:cNvPicPr/>
          <p:nvPr/>
        </p:nvPicPr>
        <p:blipFill>
          <a:blip r:embed="rId1"/>
          <a:stretch/>
        </p:blipFill>
        <p:spPr>
          <a:xfrm>
            <a:off x="0" y="1684440"/>
            <a:ext cx="3656160" cy="517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blog.modernmechanix.com/mags/qf/c/ModernMechanix/1-1933/med_radium_condemned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2590920"/>
            <a:ext cx="4724280" cy="27432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1" descr=""/>
          <p:cNvPicPr/>
          <p:nvPr/>
        </p:nvPicPr>
        <p:blipFill>
          <a:blip r:embed="rId4"/>
          <a:stretch/>
        </p:blipFill>
        <p:spPr>
          <a:xfrm>
            <a:off x="1305000" y="128520"/>
            <a:ext cx="6308640" cy="11271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orium Background Inform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rium was discovered by a chemist named Jons Jacob Berzeli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rium is named after Thor, the Scandinavian god of wa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17:55:51Z</dcterms:created>
  <dc:creator> </dc:creator>
  <dc:description/>
  <dc:language>en-US</dc:language>
  <cp:lastModifiedBy>Abington School District</cp:lastModifiedBy>
  <dcterms:modified xsi:type="dcterms:W3CDTF">2014-03-24T16:47:29Z</dcterms:modified>
  <cp:revision>27</cp:revision>
  <dc:subject/>
  <dc:title>Slide 1</dc:title>
</cp:coreProperties>
</file>