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10.png" ContentType="image/png"/>
  <Override PartName="/ppt/media/image2.png" ContentType="image/png"/>
  <Override PartName="/ppt/media/image3.jpeg" ContentType="image/jpeg"/>
  <Override PartName="/ppt/media/image4.png" ContentType="image/png"/>
  <Override PartName="/ppt/media/image5.png" ContentType="image/png"/>
  <Override PartName="/ppt/media/image8.jpeg" ContentType="image/jpeg"/>
  <Override PartName="/ppt/media/image6.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9C90D-B161-455A-8140-F16F12CCF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47089-43A4-4BF5-A71D-0D3980B11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0D987-9208-4957-AA17-C61E9B7BC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64CBB-77A0-4CAB-848A-9BFC3D107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5DAF8F-B185-4E2F-9F17-4CD110BFF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9CC80-C6E3-4C2F-B0A7-EB6847835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7CE41-72F1-496C-B32F-945B5F7E6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B55EA-2E4C-4141-9D74-4B6135D6D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94F32-8E2E-4238-B193-CC915E17C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9EE1D-13D2-4605-9B73-7AB834A76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2F7A9-FFBF-418D-9672-3BC5C515E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6397F-AC03-493F-89AC-BFAF6F36C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6BB34-1089-4160-BA2E-D8700106E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395D3-A01C-435A-A332-3717A5F97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1C0A1-E448-4E34-9B61-F3BB7B072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E6FD70-E848-4687-8D83-7FC683DA75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16A43-B97D-4121-846C-BAF7D4C40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DACAF-3065-4EC3-B4B9-B3013E154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FE2C6-5D5B-4956-A482-39B349F77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9B6FD-ECCE-4AEC-BA8D-130C61D66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7A339-FBCF-40FC-B505-9B7F83679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A2BA0-5F21-445E-A96A-743327790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E6926-A0EC-4A20-9E1B-136009731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FD3E7-A09C-452A-82AD-3DD5AE6F5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1CDF-8ED5-4AD6-A436-2B49A0321133}"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738D-CD0D-4799-8639-94A8266C23A9}"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hemistry.tutorvista.com/nuclear-chemistry.html"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609480" y="914400"/>
            <a:ext cx="7772400" cy="1560600"/>
          </a:xfrm>
          <a:prstGeom prst="rect">
            <a:avLst/>
          </a:prstGeom>
          <a:ln w="0">
            <a:noFill/>
          </a:ln>
        </p:spPr>
      </p:pic>
      <p:pic>
        <p:nvPicPr>
          <p:cNvPr id="83" name="Picture 3" descr="radioactivity_atom.jpg"/>
          <p:cNvPicPr/>
          <p:nvPr/>
        </p:nvPicPr>
        <p:blipFill>
          <a:blip r:embed="rId2"/>
          <a:stretch/>
        </p:blipFill>
        <p:spPr>
          <a:xfrm>
            <a:off x="3200400" y="3200400"/>
            <a:ext cx="2768760" cy="27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57200" y="274680"/>
            <a:ext cx="8229600" cy="114624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uclear chemistry is a branch of chemistry  in which the nuclear chemists  frequently cover several areas such as organic, analytical, inorganic, and physical chemistr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uclear chemistry is based off of changes happening in the nucleus of the atom</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146240"/>
          </a:xfrm>
          <a:prstGeom prst="rect">
            <a:avLst/>
          </a:prstGeom>
          <a:ln w="0">
            <a:noFill/>
          </a:ln>
        </p:spPr>
      </p:pic>
      <p:sp>
        <p:nvSpPr>
          <p:cNvPr id="87" name=""/>
          <p:cNvSpPr txBox="1"/>
          <p:nvPr/>
        </p:nvSpPr>
        <p:spPr>
          <a:xfrm>
            <a:off x="457200" y="1600200"/>
            <a:ext cx="8229600" cy="51055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dern nuclear chemistry is sometimes referred to as  radiochemistr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hemical techniques pioneered by nuclear chemist have become so important that biologists , geologists and physicists use nuclear chemistry for ordinary tools of their disciplin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e source of radioactive nuclides is called anthropogenic &amp; results from human activity in produce of nuclear power , weapons or through use of particle accelerator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57200" y="274680"/>
            <a:ext cx="8229600" cy="1146240"/>
          </a:xfrm>
          <a:prstGeom prst="rect">
            <a:avLst/>
          </a:prstGeom>
          <a:ln w="0">
            <a:noFill/>
          </a:ln>
        </p:spPr>
      </p:pic>
      <p:sp>
        <p:nvSpPr>
          <p:cNvPr id="8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hould the government take steps to facilitate the construction of at least some new nuclear plants in The United States or should the decision be up to owners of private compani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1768320" y="324000"/>
            <a:ext cx="5639040" cy="626760"/>
          </a:xfrm>
          <a:prstGeom prst="rect">
            <a:avLst/>
          </a:prstGeom>
          <a:ln w="0">
            <a:noFill/>
          </a:ln>
        </p:spPr>
      </p:pic>
      <p:pic>
        <p:nvPicPr>
          <p:cNvPr id="91" name="Content Placeholder 3" descr="Atome.jpg"/>
          <p:cNvPicPr/>
          <p:nvPr/>
        </p:nvPicPr>
        <p:blipFill>
          <a:blip r:embed="rId2"/>
          <a:stretch/>
        </p:blipFill>
        <p:spPr>
          <a:xfrm>
            <a:off x="833400" y="1284120"/>
            <a:ext cx="2327400" cy="2362320"/>
          </a:xfrm>
          <a:prstGeom prst="rect">
            <a:avLst/>
          </a:prstGeom>
          <a:ln w="0">
            <a:noFill/>
          </a:ln>
        </p:spPr>
      </p:pic>
      <p:pic>
        <p:nvPicPr>
          <p:cNvPr id="92" name="Picture 4" descr="nuclear-weapons.jpg"/>
          <p:cNvPicPr/>
          <p:nvPr/>
        </p:nvPicPr>
        <p:blipFill>
          <a:blip r:embed="rId3"/>
          <a:stretch/>
        </p:blipFill>
        <p:spPr>
          <a:xfrm>
            <a:off x="3666960" y="2895480"/>
            <a:ext cx="2346480" cy="1760760"/>
          </a:xfrm>
          <a:prstGeom prst="rect">
            <a:avLst/>
          </a:prstGeom>
          <a:ln w="0">
            <a:noFill/>
          </a:ln>
        </p:spPr>
      </p:pic>
      <p:pic>
        <p:nvPicPr>
          <p:cNvPr id="93" name="Picture 5" descr="conceptmap.gif"/>
          <p:cNvPicPr/>
          <p:nvPr/>
        </p:nvPicPr>
        <p:blipFill>
          <a:blip r:embed="rId4"/>
          <a:stretch/>
        </p:blipFill>
        <p:spPr>
          <a:xfrm>
            <a:off x="490680" y="4170240"/>
            <a:ext cx="3014640" cy="2306880"/>
          </a:xfrm>
          <a:prstGeom prst="rect">
            <a:avLst/>
          </a:prstGeom>
          <a:ln w="0">
            <a:noFill/>
          </a:ln>
        </p:spPr>
      </p:pic>
      <p:pic>
        <p:nvPicPr>
          <p:cNvPr id="94" name="Picture 2" descr=""/>
          <p:cNvPicPr/>
          <p:nvPr/>
        </p:nvPicPr>
        <p:blipFill>
          <a:blip r:embed="rId5"/>
          <a:stretch/>
        </p:blipFill>
        <p:spPr>
          <a:xfrm>
            <a:off x="6513480" y="1058760"/>
            <a:ext cx="2228760" cy="2133720"/>
          </a:xfrm>
          <a:prstGeom prst="rect">
            <a:avLst/>
          </a:prstGeom>
          <a:ln w="0">
            <a:noFill/>
          </a:ln>
        </p:spPr>
      </p:pic>
      <p:pic>
        <p:nvPicPr>
          <p:cNvPr id="95" name="Picture 3" descr=""/>
          <p:cNvPicPr/>
          <p:nvPr/>
        </p:nvPicPr>
        <p:blipFill>
          <a:blip r:embed="rId6"/>
          <a:stretch/>
        </p:blipFill>
        <p:spPr>
          <a:xfrm>
            <a:off x="6137280" y="4876920"/>
            <a:ext cx="2604960" cy="177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457200" y="274680"/>
            <a:ext cx="8229600" cy="11462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2"/>
              </a:rPr>
              <a:t>http://chemistry.tutorvista.com/nuclear-chemistry.htm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rff.org/rff/Documents/RFF_Resources_156_nuclear.pdf</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chemistryexplained.com/Ne-Nu/Nuclear-Chemistry.html#b</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7200" y="274680"/>
            <a:ext cx="8229600" cy="1146240"/>
          </a:xfrm>
          <a:prstGeom prst="rect">
            <a:avLst/>
          </a:prstGeom>
          <a:ln w="0">
            <a:noFill/>
          </a:ln>
        </p:spPr>
      </p:pic>
      <p:sp>
        <p:nvSpPr>
          <p:cNvPr id="99" name=""/>
          <p:cNvSpPr txBox="1"/>
          <p:nvPr/>
        </p:nvSpPr>
        <p:spPr>
          <a:xfrm>
            <a:off x="609480" y="1523880"/>
            <a:ext cx="8229600" cy="47088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noliesradio.org/archives/67426 the nuclear bomb explos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mysciencework.com/news/2014/what-if-the-curie-and-joliot-curie-families-spoke-to-us-of-nuclear-pow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edtech2.boisestate.edu/douglasschunk/502/conceptmap.htm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chemistryexplained.com/Ne-Nu/Nuclear-Chemistry.html#b</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7:54:43Z</dcterms:created>
  <dc:creator> </dc:creator>
  <dc:description/>
  <dc:language>en-US</dc:language>
  <cp:lastModifiedBy>Scott Brown</cp:lastModifiedBy>
  <dcterms:modified xsi:type="dcterms:W3CDTF">2014-03-10T02:04:24Z</dcterms:modified>
  <cp:revision>21</cp:revision>
  <dc:subject/>
  <dc:title>History of Nuclear Chemistry</dc:title>
</cp:coreProperties>
</file>