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BE5-D72E-4D11-8602-D66B4E15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3EF-3CEF-4DE9-8727-A3E69928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07F-6C65-4F9B-B263-022A1C41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F38-6E61-43F0-BE79-DF804891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1899-BFF6-4DD0-83D2-49437466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DD3B-54F2-40A9-85E7-FB72C44F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DEDF-6ADC-4E40-89A6-01931296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30FD-28A3-4C58-8857-1D27A71B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B75E-0940-485B-8CB6-FAB3F3C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8EE0-BFAE-403A-8FC9-80C8BD2F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9836-D40B-4CD5-9218-2E1002A0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761-26CE-43E2-973F-262F8EDA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B375-1182-4B99-BD0A-C5B8EB1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5629-F36A-466F-A35A-C8069B59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0B09-92AF-4D71-98CB-CBE0EA3C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1E02-908F-4E30-B7B9-DEA49606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4F77-D4CD-4390-80A3-F0C4AA93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0CE5-60AC-471B-A5E6-1C39F64F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C368-CD81-4C95-9A75-F8390832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9896-58E0-43CB-8F04-23763CB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EF96-E206-44F9-B51F-022B5651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C3FD-9D74-4606-A55C-D097DB4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931-95C5-4BFC-848A-DDC0331E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5CF5-BED5-4BD2-BDE6-F4B9FE42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8B09A-52C7-4AC1-9269-FF880B4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32ED-AA62-431E-B6E0-86A17084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78BB-FE26-469B-882A-02A10066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FF74-FED9-43E0-ABAA-8EED33F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0BF9-A20D-4D35-9426-E303A9D1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3959-7151-43FB-8564-73AC50A3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A65F-CA50-43E4-9B9D-1D6F5BD2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1338-F977-4439-8E7D-A265C1D6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C9DB4-CCCC-4C75-B2C3-B6E39997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370-1BFF-4F4E-B8E8-7DFE7E46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470C-9BBD-4D9A-A4F6-7875806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3A31-23CC-40CC-812E-10A134F5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5ABE-2E80-4026-B801-2003A0FC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38CF-3DE0-48A5-BD6D-449E08C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D836-BD1A-4470-9324-AA810E4C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C3FB-F3BD-4F75-859C-9746215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0F90-F2F9-41C5-AF11-3161829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58B4-F5AB-4F5B-B3E2-730450F3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3FAA-CBB2-45BF-9FE4-9E625671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DDA3-EED2-4297-8771-F4C109BC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A97-402A-4C72-8911-604E9D81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A2938-C6CD-4F7B-BA68-2219736E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82E2-970F-4ACC-87C1-D969556D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2227B-214F-4440-8D9D-0E81E513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20982-88D4-4422-A68B-83EB20A4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4D87-5C27-4CFF-B43B-49DFF87C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D1FE9-18B7-4010-BDB7-DC87C31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3DBCB-579E-450B-A751-F080AE4E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119DE-7F9B-41D8-971F-4AE9C170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0F6AA-BE5C-4195-9093-B0A8E3B9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5E269-C120-413B-95ED-29851AAF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FC1-19DB-4A1A-BFE7-903A7E9B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A9CE-D8F1-437C-868D-22FCD70B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465-B518-4109-B333-F6E6452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344-A355-4BEA-813A-E81CF212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AF9-BE11-406C-A582-F4DD4571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1CBE-0E7D-4C26-8F41-08684BC8ADAA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F461-E070-46E1-8A03-01BA4B73AFC6}" type="slidenum">
              <a:rPr b="0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9746-CA67-4B0F-87AE-9CE2881F636A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BE45-5601-4085-A372-D1AC5F0EEFE8}" type="slidenum">
              <a:rPr b="0" lang="en-US" sz="1100" spc="-1" strike="noStrike">
                <a:solidFill>
                  <a:srgbClr val="f4e7ed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3613-DA51-476C-AE60-7E903680DA61}" type="slidenum">
              <a:rPr b="0" lang="en-US" sz="1100" spc="-1" strike="noStrike">
                <a:solidFill>
                  <a:srgbClr val="b13f9a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google.com/url?q=http://www.hko.gov.hk/education/dbcp/radiation/eng/r15.htm&amp;sa=U&amp;ei=QqIpU6O8GIie0AGqz4CwCA&amp;ved=0CDMQ9QEwAw&amp;usg=AFQjCNFY8nJ639fs5CW-hUp0GfRoMg7RCA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hyperlink" Target="https://www.google.com/url?q=http://www.enviroreporter.com/2013/02/radiation-food-lab/all/1&amp;sa=U&amp;ei=oKUpU_bTAujb0QG7yoDQDA&amp;ved=0CEMQ9QEwCw&amp;usg=AFQjCNFTPGj0EYgO_9zAqCBDkw1jc-CkJQ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03360" y="378000"/>
            <a:ext cx="8186760" cy="2315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22" name="Picture 2" descr="https://encrypted-tbn0.gstatic.com/images?q=tbn:ANd9GcSZsozEGZQ4DBLXPGV_eEP2r4lZShV_L0zFDREhiksnOKS0w9w91nn2S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29718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Recorded Sound" descr=""/>
          <p:cNvPicPr/>
          <p:nvPr/>
        </p:nvPicPr>
        <p:blipFill>
          <a:blip r:embed="rId4"/>
          <a:stretch/>
        </p:blipFill>
        <p:spPr>
          <a:xfrm>
            <a:off x="6858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603360" y="36360"/>
            <a:ext cx="7254720" cy="1268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Ω helps it stay fresh, and not spoil as fast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l-GR" sz="40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also helps to improve food production and packaging 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26" name="Recorded Sound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s://encrypted-tbn0.gstatic.com/images?q=tbn:ANd9GcQJZkmYhbG9LlhD9y71K_NpBNf-KTaGltvCIoDXzcMd1ohvyBUAE3ADnf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886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925880" y="1139760"/>
            <a:ext cx="4138920" cy="2067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Helps disinfect our drinking wate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230" name="Recorded Sound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s://encrypted-tbn2.gstatic.com/images?q=tbn:ANd9GcSHk2-z69w5KFY6rvwOF8UDoQNFa_P12FlvGnrw8HCvx5ZxvqSz-GcR9WQ-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6230880" cy="1182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Its also used to help remove toxic pollutants suck as exhaust gases from coal fires power stations and industry's.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01600" y="-152280"/>
            <a:ext cx="7577280" cy="1682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80520" y="160020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ambria"/>
              </a:rPr>
              <a:t>Ω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X-ray’s, uses radiation to see broken bones or stuff inside of humans and animals.  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276720" y="396252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973760" y="1139760"/>
            <a:ext cx="4017960" cy="2067120"/>
          </a:xfrm>
          <a:prstGeom prst="rect">
            <a:avLst/>
          </a:prstGeom>
          <a:ln w="0">
            <a:noFill/>
          </a:ln>
        </p:spPr>
      </p:pic>
      <p:grpSp>
        <p:nvGrpSpPr>
          <p:cNvPr id="238" name="Picture Placeholder 4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9" name="Picture Placeholder 4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2" descr="https://encrypted-tbn3.gstatic.com/images?q=tbn:ANd9GcQTyzGcaADRozC2r1apkttLG2QvN15lzLpnGEkkSYedkGnsxBHLTF7U7x2o"/>
          <p:cNvPicPr/>
          <p:nvPr/>
        </p:nvPicPr>
        <p:blipFill>
          <a:blip r:embed="rId3"/>
          <a:stretch/>
        </p:blipFill>
        <p:spPr>
          <a:xfrm>
            <a:off x="685800" y="1066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90400" y="378000"/>
            <a:ext cx="6231240" cy="1182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3520" y="205740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http://www.nrc.gov/radiation/ around-us/uses-radiation.html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3:40:21Z</dcterms:created>
  <dc:creator> </dc:creator>
  <dc:description/>
  <dc:language>en-US</dc:language>
  <cp:lastModifiedBy> </cp:lastModifiedBy>
  <dcterms:modified xsi:type="dcterms:W3CDTF">2014-03-24T13:41:38Z</dcterms:modified>
  <cp:revision>13</cp:revision>
  <dc:subject/>
  <dc:title>Slide 1</dc:title>
</cp:coreProperties>
</file>