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B36-CF00-4C6A-BD5C-0C3DCB34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0D3-5A30-4A2A-9FBA-6E46D8A6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A15-3873-47AC-9853-D6972A21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585-28EA-4726-B84D-4F0C4D55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E6ED-A76E-48C4-8515-C5D4CE49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EA0-9A7D-4AE9-BDF8-2B34615E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589-74CC-45AF-AD1F-7763283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F810-75C1-435F-995B-575ED4A2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827E-A2B3-47FE-A915-0928A93F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3D7A-E588-4B1C-95A0-793921BB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4DD0-76F9-4362-8AD9-5C8FEE5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6E9-CF0A-48DE-BF4A-9F7E3B9E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4CCC-48AC-4273-BBC2-998B362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B907-0250-4E03-AA56-21C11C0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888-5593-4CB3-A3CA-8FE8708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1EAD-55D0-4BC9-8C98-83424730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722A-9B81-4580-972D-05E4F15D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457F-58C9-4BBD-8A26-B4A88127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C804-EF2E-4DD9-B994-310EBB04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4D21-E0CA-41E6-826C-5224E938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26F0-AAD9-45F1-A552-FF5C9BD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6566-4B96-4B10-9C5F-34CC9748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FCE-55C7-4B80-8CD3-86B1F901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EA3A-E0CB-4E49-9317-09551C0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2166-B541-4C3C-A75C-DF32B00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27AC-892F-45A0-B93F-3C28404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17A0E-888D-4B93-A702-944D94B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447E-490A-4BB7-B33D-E87A1B1A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043C-A7E8-4BE4-B86D-9EDE7DD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7DA4-C237-4E5C-ABA6-49CA6D19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19BE-8E38-44C7-BF04-BDAD4797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9617-C7D0-42D1-8A65-E748478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7311-91BB-4DE5-B9C2-A18D3A63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1E6-6AF9-4156-AAED-377CB0A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2A77-6833-489C-A6FE-6C7A8DE5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9E08-75A3-4F02-9B75-EDF81F1C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97ED-56CC-41E0-8623-6FCA1AF0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949A-EBEE-461C-80F5-325B262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53DC-166D-4B7F-B594-F0C764F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4B23-35D7-4405-8F93-C420AEB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29B8-94AD-4F45-B40D-7FC811C7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6F4E-D70C-4BB2-8AAE-58758710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D0A4-1823-487B-85DB-D356F593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F588-A825-4129-8586-FEE217F7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2F0-2967-4EEC-B9A2-F2C1301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EC47-F210-43D6-931A-F5C89F26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C8409-85DB-4D1D-B34A-10BD7A01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3AAA-7F04-4B29-BCB7-200F43A1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58A0-0E33-4002-B748-6139298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3045-ED35-4E23-9C1E-8624E11D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A95C-340F-4BA2-ADBE-1840CF1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A9FC-04C7-4948-8151-1FD82CA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E01A5-EA56-4D8F-A5DE-9BD7434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B55D-7901-47BD-927F-96BC6D6B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5129-115B-4B7D-BF18-F5A4DD1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A66-AE03-4476-8106-443178A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FEDA-BA63-4534-AC52-0ED00218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ED9-D14F-4128-BE8D-66C78F9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0F5-C3C7-48A5-83A6-E170E35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F79-61D1-4AEC-B4A1-AEF4453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020-707F-4A06-8F13-C336641B6B55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38C9-4541-43B1-BACD-6AFE43A818B1}" type="slidenum">
              <a:rPr b="0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46DF-A11A-438F-81F7-CA6A6BF69B25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723-A240-4FAA-8FCE-B431054668B2}" type="slidenum">
              <a:rPr b="0" lang="en-US" sz="1100" spc="-1" strike="noStrike">
                <a:solidFill>
                  <a:srgbClr val="f4e7ed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53D-D89A-4613-A01C-367A63897464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google.com/url?q=http://www.hko.gov.hk/education/dbcp/radiation/eng/r15.htm&amp;sa=U&amp;ei=QqIpU6O8GIie0AGqz4CwCA&amp;ved=0CDMQ9QEwAw&amp;usg=AFQjCNFY8nJ639fs5CW-hUp0GfRoMg7RCA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https://www.google.com/url?q=http://www.enviroreporter.com/2013/02/radiation-food-lab/all/1&amp;sa=U&amp;ei=oKUpU_bTAujb0QG7yoDQDA&amp;ved=0CEMQ9QEwCw&amp;usg=AFQjCNFTPGj0EYgO_9zAqCBDkw1jc-CkJQ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378000"/>
            <a:ext cx="8186760" cy="2315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22" name="Picture 2" descr="https://encrypted-tbn0.gstatic.com/images?q=tbn:ANd9GcSZsozEGZQ4DBLXPGV_eEP2r4lZShV_L0zFDREhiksnOKS0w9w91nn2S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718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7254720" cy="126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Ω helps it stay fresh, and not spoil as fast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also helps to improve food production and packaging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26" name="Recorded Sound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encrypted-tbn0.gstatic.com/images?q=tbn:ANd9GcQJZkmYhbG9LlhD9y71K_NpBNf-KTaGltvCIoDXzcMd1ohvyBUAE3ADnf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925880" y="1139760"/>
            <a:ext cx="4138920" cy="2067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Helps disinfect our drinking wat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s://encrypted-tbn2.gstatic.com/images?q=tbn:ANd9GcSHk2-z69w5KFY6rvwOF8UDoQNFa_P12FlvGnrw8HCvx5ZxvqSz-GcR9WQ-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6230880" cy="1182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Its also used to help remove toxic pollutants suck as exhaust gases from coal fires power stations and industry's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01600" y="-152280"/>
            <a:ext cx="7577280" cy="168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80520" y="160020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X-ray’s, uses radiation to see broken bones or stuff inside of humans and animals. 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3962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973760" y="1139760"/>
            <a:ext cx="401796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38" name="Picture Placeholder 4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9" name="Picture Placeholder 4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2" descr="https://encrypted-tbn3.gstatic.com/images?q=tbn:ANd9GcQTyzGcaADRozC2r1apkttLG2QvN15lzLpnGEkkSYedkGnsxBHLTF7U7x2o"/>
          <p:cNvPicPr/>
          <p:nvPr/>
        </p:nvPicPr>
        <p:blipFill>
          <a:blip r:embed="rId3"/>
          <a:stretch/>
        </p:blipFill>
        <p:spPr>
          <a:xfrm>
            <a:off x="685800" y="1066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6231240" cy="118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3520" y="20574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ttp://www.nrc.gov/radiation/ around-us/uses-radiation.html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3:40:21Z</dcterms:created>
  <dc:creator> </dc:creator>
  <dc:description/>
  <dc:language>en-US</dc:language>
  <cp:lastModifiedBy> </cp:lastModifiedBy>
  <dcterms:modified xsi:type="dcterms:W3CDTF">2014-03-24T13:41:38Z</dcterms:modified>
  <cp:revision>13</cp:revision>
  <dc:subject/>
  <dc:title>Slide 1</dc:title>
</cp:coreProperties>
</file>