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CAF-6EEB-48D1-99BA-04893028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738-336D-4122-8DD0-D70975FA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29AE-36C5-4BE5-A0DC-31489E50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91A-915C-489B-BBD1-8A8E8874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4550-D835-43B9-AEC9-C9E379F0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61BC-F092-417C-9C00-BF334F45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397F-CE2D-4ED3-B558-371C4689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5BAB-BFCC-4D22-99F6-806892CD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34F9-A7DF-4341-B5CD-C233BF1E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081B-EC70-4492-9EBF-2B467255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F14A-03FE-437F-85D7-5837A5AE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264-D7B0-4E80-9E77-F5C745BC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0452-1B1B-40D1-BFF5-26258D50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7A33-2D9B-4D69-AAD8-11A81271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B2C3-2299-4BA6-99AE-EF651A6D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8E79-F077-4863-B9B1-3ECE1FDD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1096-22A0-484B-B350-0BC6DE22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8184F-85FA-42FA-921C-4E2D93B4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441A0-244C-4AB5-AAC0-CC784957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08D52-7D1F-4EA0-BF62-4DACA035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0525C-D0C2-4BF4-924F-C7933B92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E0F7A-6DA1-410D-B9F3-2EA8CA1B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D16-D0AE-46D6-B6D0-0DB1172D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A5BBB-8EE3-46FE-8215-E5E8EA62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DF07F-A8AF-49FB-84DD-28A2E6E9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EF3C7-88C8-4BFF-92BF-EDB368CC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5243B-4696-42FB-9A1E-4456BE59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1AA4A-1BD5-4190-87E0-7155A21E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0B5A6-23FE-4554-9A40-ACBDE965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A8BDB-6101-4F71-99AB-4BB1D3D9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797D7-BC12-42E7-AC36-933229C9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BE2CC-8DCB-4AB8-8C50-891BF511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F4989-E8A9-4838-8F36-566A5255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A5A8-1D1B-48F1-92F8-D48D734E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7C82A-843B-44AC-820A-162F0209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17D12-03CF-4966-882D-73C7FDC7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AA847-EBB2-4EE3-868F-4B5A33A2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B1093-944E-49F0-A4BE-1A983D06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3CD38-A988-4203-A733-DF9125CD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B0649-D6E6-42DE-9745-A7CE7D96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02246-E362-4E96-B06D-9C934F0A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89AFC-E999-49DC-A037-FDEBAD03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A70B7-5CE5-4001-888F-DBE144D9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FF155-C18A-402C-AEB0-A1C00142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541-FAFA-4A54-8D50-BB806091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F5450-72B3-435E-A871-7E09F5FA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4BA65-E48F-49A8-B396-2159BEC5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3A0E0-31F0-4FDF-9071-ABB03921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A0AFD-2B67-46A9-B707-47AF2B91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4D53D-4A81-48AE-A168-A3B0224D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5A4AE-86B7-4F50-817B-30ED49ED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5F595-B07E-40A1-BD6B-3C22730C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E1F1A-8171-4134-9B0C-D54478D0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82362-8728-4289-A4A7-E635C6F4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54538-2FF0-4142-9AB2-EEFF9416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411-C592-43A4-90DC-EDD9EC72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D2A49-C94E-4448-8DF6-1CC61A84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D1B-E3BA-4E17-8591-35452251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8ACD-5C2C-40A5-81AE-A9ED5E86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D0A-CA34-467B-B590-65B77CAF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70C8-3E2E-468B-A0C2-463585B9EA59}" type="slidenum">
              <a:rPr b="0" lang="en-US" sz="1100" spc="-1" strike="noStrike">
                <a:solidFill>
                  <a:srgbClr val="b13f9a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FAE0-8E67-4E96-A401-48AA6EC3350B}" type="slidenum">
              <a:rPr b="0" lang="en-US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8FBB-D470-4D1B-8438-BE3588F20166}" type="slidenum">
              <a:rPr b="0" lang="en-US" sz="1100" spc="-1" strike="noStrike">
                <a:solidFill>
                  <a:srgbClr val="b13f9a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7E36-867C-40B7-BE83-77A3DCE45D66}" type="slidenum">
              <a:rPr b="0" lang="en-US" sz="1100" spc="-1" strike="noStrike">
                <a:solidFill>
                  <a:srgbClr val="f4e7ed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C34A-D776-48EB-A30F-0CE575442B68}" type="slidenum">
              <a:rPr b="0" lang="en-US" sz="1100" spc="-1" strike="noStrike">
                <a:solidFill>
                  <a:srgbClr val="b13f9a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www.google.com/url?q=http://www.hko.gov.hk/education/dbcp/radiation/eng/r15.htm&amp;sa=U&amp;ei=QqIpU6O8GIie0AGqz4CwCA&amp;ved=0CDMQ9QEwAw&amp;usg=AFQjCNFY8nJ639fs5CW-hUp0GfRoMg7RCA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hyperlink" Target="https://www.google.com/url?q=http://www.enviroreporter.com/2013/02/radiation-food-lab/all/1&amp;sa=U&amp;ei=oKUpU_bTAujb0QG7yoDQDA&amp;ved=0CEMQ9QEwCw&amp;usg=AFQjCNFTPGj0EYgO_9zAqCBDkw1jc-CkJQ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603360" y="378000"/>
            <a:ext cx="8186760" cy="2315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222" name="Picture 2" descr="https://encrypted-tbn0.gstatic.com/images?q=tbn:ANd9GcSZsozEGZQ4DBLXPGV_eEP2r4lZShV_L0zFDREhiksnOKS0w9w91nn2SQ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7920" y="2971800"/>
            <a:ext cx="3352680" cy="2819520"/>
          </a:xfrm>
          <a:prstGeom prst="rect">
            <a:avLst/>
          </a:prstGeom>
          <a:ln w="0">
            <a:noFill/>
          </a:ln>
        </p:spPr>
      </p:pic>
      <p:pic>
        <p:nvPicPr>
          <p:cNvPr id="223" name="Recorded Sound" descr=""/>
          <p:cNvPicPr/>
          <p:nvPr/>
        </p:nvPicPr>
        <p:blipFill>
          <a:blip r:embed="rId4"/>
          <a:stretch/>
        </p:blipFill>
        <p:spPr>
          <a:xfrm>
            <a:off x="6858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603360" y="36360"/>
            <a:ext cx="7254720" cy="1268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Ω helps it stay fresh, and not spoil as fast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l-GR" sz="40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also helps to improve food production and packaging 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226" name="Recorded Sound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ttps://encrypted-tbn0.gstatic.com/images?q=tbn:ANd9GcQJZkmYhbG9LlhD9y71K_NpBNf-KTaGltvCIoDXzcMd1ohvyBUAE3ADnf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388620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4925880" y="1139760"/>
            <a:ext cx="4138920" cy="20671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Helps disinfect our drinking water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230" name="Recorded Sound" descr=""/>
          <p:cNvPicPr/>
          <p:nvPr/>
        </p:nvPicPr>
        <p:blipFill>
          <a:blip r:embed="rId2"/>
          <a:stretch/>
        </p:blipFill>
        <p:spPr>
          <a:xfrm>
            <a:off x="678168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https://encrypted-tbn2.gstatic.com/images?q=tbn:ANd9GcSHk2-z69w5KFY6rvwOF8UDoQNFa_P12FlvGnrw8HCvx5ZxvqSz-GcR9WQ-"/>
          <p:cNvPicPr/>
          <p:nvPr/>
        </p:nvPicPr>
        <p:blipFill>
          <a:blip r:embed="rId3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895320" y="225360"/>
            <a:ext cx="6230880" cy="1182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 Its also used to help remove toxic pollutants suck as exhaust gases from coal fires power stations and industry's.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01600" y="-152280"/>
            <a:ext cx="7577280" cy="1682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80520" y="1600200"/>
            <a:ext cx="72392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 X-ray’s, uses radiation to see broken bones or stuff inside of humans and animals.  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3276720" y="3962520"/>
            <a:ext cx="838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4973760" y="1139760"/>
            <a:ext cx="4017960" cy="2067120"/>
          </a:xfrm>
          <a:prstGeom prst="rect">
            <a:avLst/>
          </a:prstGeom>
          <a:ln w="0">
            <a:noFill/>
          </a:ln>
        </p:spPr>
      </p:pic>
      <p:grpSp>
        <p:nvGrpSpPr>
          <p:cNvPr id="238" name="Picture Placeholder 4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39" name="Picture Placeholder 4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2" descr="https://encrypted-tbn3.gstatic.com/images?q=tbn:ANd9GcQTyzGcaADRozC2r1apkttLG2QvN15lzLpnGEkkSYedkGnsxBHLTF7U7x2o"/>
          <p:cNvPicPr/>
          <p:nvPr/>
        </p:nvPicPr>
        <p:blipFill>
          <a:blip r:embed="rId3"/>
          <a:stretch/>
        </p:blipFill>
        <p:spPr>
          <a:xfrm>
            <a:off x="685800" y="10666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590400" y="378000"/>
            <a:ext cx="6231240" cy="11826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533520" y="205740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http://www.nrc.gov/radiation/ around-us/uses-radiation.html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3:40:21Z</dcterms:created>
  <dc:creator> </dc:creator>
  <dc:description/>
  <dc:language>en-US</dc:language>
  <cp:lastModifiedBy> </cp:lastModifiedBy>
  <dcterms:modified xsi:type="dcterms:W3CDTF">2014-03-24T13:41:38Z</dcterms:modified>
  <cp:revision>13</cp:revision>
  <dc:subject/>
  <dc:title>Slide 1</dc:title>
</cp:coreProperties>
</file>