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372-DF0A-4E09-A26B-44EA5370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3C0-FD24-4064-95B1-119B0E5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733-CDED-41D2-93B9-87478CD4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C0B-7566-47CA-9872-15E20750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9DB-F026-4A9D-98D7-DFB080D2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265D-AC47-4388-9FC4-E097962F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430-CFEA-4BEA-9E3E-A686A405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6604-25E6-4673-BD1A-0EC55E4A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A13-B4F0-4A4B-A7D4-2749938C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674D-9E24-49EE-8178-CDC80D7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0350-9E22-4C6D-8733-9F6AFC0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D49-4F21-43CC-BDDB-15F05E9D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EF25-EF8D-48DF-B69C-1917874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EE2-494B-4C81-BDAC-245309DC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9786-BC44-44AE-B074-1DAA825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C217-94CF-461C-BA3C-0E190B6E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D97-A9B6-4493-96B7-8C690F28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83FA-8801-4069-953C-5E5728B6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AE6C-046D-4FD0-B728-480EE7E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6D09-EF0B-4488-97F7-657CCDB3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8767-9C71-49D4-9B83-5055AD22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FD56-3910-4CAE-AE56-C0836147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E80-5957-45F9-88CC-D62B5AAE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AC1E-2C4D-4DC5-A8E2-23829E8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4294-F8FE-4010-9078-4B6DA3C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C6F8-833E-493D-BC9F-A0ACA25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3BF5-7147-42C1-A398-C8C77A7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D732-2F13-4C75-8DBE-DA007D7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C04C-5A46-4B83-A817-CD75AC28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3FA6-041B-46F7-966D-66F38243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D325-1AF0-44F6-B9D8-AC16D432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9DEA-CC7F-46F7-B184-563475CE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D808-A1C0-4B72-8DA4-7E5F336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DFA-41EB-4201-BA12-5377E56D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C919-2BBF-4F0C-9F0E-D186F8F2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5F8D8-2DF9-4488-A1AB-1043E97A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4736-B0FA-4761-903A-6730671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B468-FF2D-45AC-BA3B-2F18DB7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E6A7-CBCF-454C-BC50-B691103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7E84-DCC2-4F3A-BADA-C12F1B2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575F-0158-48E5-8B42-A02CEE0B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5565-A83C-442F-AAE0-6E26A766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27BF-DFF4-40F1-BAF0-07DC3C14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6B77-7216-4402-A75A-3FFE7607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F29-FE5F-4654-8DC8-991D1FC6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335C-40E8-43C1-AFB6-D0276AFC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37B9-77C9-450E-A680-BFAB7A87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3872-4DB9-48D9-A008-CDB58535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2A36-688A-4458-88D8-47EB268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FF0F-43FB-4CA4-94A1-6A32FEA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0EC4-ECCF-4B50-A5E6-CDBA351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84902-6AAB-425D-BDE9-2CA98237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5987-0E0A-4775-88EB-44B73E7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2A48-33EC-4630-A902-35FB28C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7DB6-18FE-4C76-9380-2E5B69B4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84F-C652-4531-B740-EB771F7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E27E-5754-47DF-82ED-5DD36CEE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0F4-9595-43E7-BFE1-455CE9B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C54-51EB-4F42-AE06-4623EA38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12B-F874-457D-9F4F-FF158E0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EFEB-E645-44F3-8ADD-BE0B762C50F3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562-563C-46D8-8590-FBF6924085BC}" type="slidenum">
              <a:rPr b="0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BEA-D3DF-4D34-8A97-4AAAB73B54A6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B103-F817-4773-A237-77E9A61F2B99}" type="slidenum">
              <a:rPr b="0" lang="en-US" sz="1100" spc="-1" strike="noStrike">
                <a:solidFill>
                  <a:srgbClr val="f4e7ed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A85A-9FA0-4CF6-A066-167399AFBBB8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google.com/url?q=http://www.hko.gov.hk/education/dbcp/radiation/eng/r15.htm&amp;sa=U&amp;ei=QqIpU6O8GIie0AGqz4CwCA&amp;ved=0CDMQ9QEwAw&amp;usg=AFQjCNFY8nJ639fs5CW-hUp0GfRoMg7RCA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https://www.google.com/url?q=http://www.enviroreporter.com/2013/02/radiation-food-lab/all/1&amp;sa=U&amp;ei=oKUpU_bTAujb0QG7yoDQDA&amp;ved=0CEMQ9QEwCw&amp;usg=AFQjCNFTPGj0EYgO_9zAqCBDkw1jc-CkJQ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378000"/>
            <a:ext cx="8186760" cy="2315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22" name="Picture 2" descr="https://encrypted-tbn0.gstatic.com/images?q=tbn:ANd9GcSZsozEGZQ4DBLXPGV_eEP2r4lZShV_L0zFDREhiksnOKS0w9w91nn2S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718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7254720" cy="126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Ω helps it stay fresh, and not spoil as fast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also helps to improve food production and packaging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26" name="Recorded Sound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encrypted-tbn0.gstatic.com/images?q=tbn:ANd9GcQJZkmYhbG9LlhD9y71K_NpBNf-KTaGltvCIoDXzcMd1ohvyBUAE3ADnf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925880" y="1139760"/>
            <a:ext cx="4138920" cy="2067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Helps disinfect our drinking wat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s://encrypted-tbn2.gstatic.com/images?q=tbn:ANd9GcSHk2-z69w5KFY6rvwOF8UDoQNFa_P12FlvGnrw8HCvx5ZxvqSz-GcR9WQ-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6230880" cy="1182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Its also used to help remove toxic pollutants suck as exhaust gases from coal fires power stations and industry's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01600" y="-152280"/>
            <a:ext cx="7577280" cy="168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80520" y="160020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X-ray’s, uses radiation to see broken bones or stuff inside of humans and animals. 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3962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973760" y="1139760"/>
            <a:ext cx="401796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38" name="Picture Placeholder 4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9" name="Picture Placeholder 4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2" descr="https://encrypted-tbn3.gstatic.com/images?q=tbn:ANd9GcQTyzGcaADRozC2r1apkttLG2QvN15lzLpnGEkkSYedkGnsxBHLTF7U7x2o"/>
          <p:cNvPicPr/>
          <p:nvPr/>
        </p:nvPicPr>
        <p:blipFill>
          <a:blip r:embed="rId3"/>
          <a:stretch/>
        </p:blipFill>
        <p:spPr>
          <a:xfrm>
            <a:off x="685800" y="1066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6231240" cy="118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3520" y="20574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ttp://www.nrc.gov/radiation/ around-us/uses-radiation.html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3:40:21Z</dcterms:created>
  <dc:creator> </dc:creator>
  <dc:description/>
  <dc:language>en-US</dc:language>
  <cp:lastModifiedBy> </cp:lastModifiedBy>
  <dcterms:modified xsi:type="dcterms:W3CDTF">2014-03-24T13:41:38Z</dcterms:modified>
  <cp:revision>13</cp:revision>
  <dc:subject/>
  <dc:title>Slide 1</dc:title>
</cp:coreProperties>
</file>