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66F-0947-4B9C-8B52-C2829CFD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C00-1E37-493E-99C4-B6FF42D1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E62-8381-4B71-B90F-014DDE9F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B9D-74EC-405C-B080-357BCF54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4DF4-0469-47B8-9D19-3D244E4C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0CCA-E746-4C4F-B903-5C27BED0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417B-8743-4F70-9E07-70326DD6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FAB3-BAF5-4DB5-B36C-2C9DD2CE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6EB4-4E54-4691-80D2-29EAEF84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F858-C4F7-4C3B-9616-B08F5741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5CC6-09DC-4F7F-B0B2-AFD3F142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13A-3B63-4E1B-A466-90D329F4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318E-3C50-4316-B9E0-738792D2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FC03-900C-4284-B93E-E879812A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4D6E-8DE4-46AF-A120-081B0D6D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AB34-FC75-4CE6-9BA6-9FF16183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B4AC-5DEC-475F-B7FA-2897705B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91FDB-C093-418C-B161-3122F82B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33CE-03AB-4AF4-B055-9EAE533F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9261-5E79-456C-BF70-5E18751D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F015-269F-4F25-8859-4D432BEA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0AA4-1F42-48E2-B835-081D81BD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C4F-9360-411E-9E15-ED6A2359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343D-427C-4877-8A7A-73529779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8B92-E10E-4CF5-90C3-CB9FE95A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98C8-BFF3-4175-B9F1-FF4D5B82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1144-66D9-4172-8DBE-86059B4F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CA56-0FFB-4B40-B3FA-CB8F664A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70D7C-1FC7-473B-A14C-1517AE9F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5E1A2-9F9A-4F44-8A77-83D6B316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B51D-971F-4D2C-9C30-54EF5F62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E27C-3B05-437C-B188-CFC76039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136D-2E44-434C-B3E5-EA340F23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712-85B1-4D47-9726-AF106EFB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7D13-90AC-4FDC-A08E-F6895EA9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2EA4-463E-4A66-9F7B-94525733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49956-969C-4AB5-9B93-E630813F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3140-7CB1-401A-A67F-D8696302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A014E-BD74-4D2E-AF1F-3FBE2340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0732C-0EFF-4153-B1ED-F2D5EB0A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DA55-7528-4B37-997A-2470AE04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9B0F4-0CFC-4345-8D27-CF2A159F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994FD-1ED7-4623-8875-EFCF8C5E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9B147-9D35-4314-AB5A-CFC10B21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4CA-D994-4059-8D7B-53BAF1CC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6D69F-44BB-4E27-85D6-466C1BB8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BE2B-B187-4120-8A9C-2C70CE97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8F0F3-A10C-4A72-AE46-B1581551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5EF77-2FB6-455D-B5C7-31585C2A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D9D94-D2B5-4129-A8C5-E8124ADE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EEE4D-3107-4A7C-82D3-859A5066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ADEC8-76B3-465A-85D1-F4DD1452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3D25A-0509-433D-9A8A-DB9CEA0E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78C4-E100-408C-836D-F08C8B2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DB14D-0A30-40E8-B827-6FED8489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4BA-68CA-46E5-ACCA-592A0EE5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064F0-A458-40F9-AC38-0FF2E346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FA0-0AF2-442C-8D85-3FB211E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E69-3280-4E32-B144-C99ED11B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E80-3033-445B-BBD8-A5FF6DA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72AA-16E3-4BD3-B9C5-BE3EDE23BB3B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78E1-39A2-4443-8B32-C1DD224F9067}" type="slidenum">
              <a:rPr b="0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AFA7-93A8-4293-B13E-F94A47A5FC8B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9D47-96EC-4F78-992D-EFE75657BCDD}" type="slidenum">
              <a:rPr b="0" lang="en-US" sz="1100" spc="-1" strike="noStrike">
                <a:solidFill>
                  <a:srgbClr val="f4e7ed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489A-C083-4315-925F-81119521A5C3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google.com/url?q=http://www.hko.gov.hk/education/dbcp/radiation/eng/r15.htm&amp;sa=U&amp;ei=QqIpU6O8GIie0AGqz4CwCA&amp;ved=0CDMQ9QEwAw&amp;usg=AFQjCNFY8nJ639fs5CW-hUp0GfRoMg7RCA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hyperlink" Target="https://www.google.com/url?q=http://www.enviroreporter.com/2013/02/radiation-food-lab/all/1&amp;sa=U&amp;ei=oKUpU_bTAujb0QG7yoDQDA&amp;ved=0CEMQ9QEwCw&amp;usg=AFQjCNFTPGj0EYgO_9zAqCBDkw1jc-CkJQ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603360" y="378000"/>
            <a:ext cx="8186760" cy="2315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22" name="Picture 2" descr="https://encrypted-tbn0.gstatic.com/images?q=tbn:ANd9GcSZsozEGZQ4DBLXPGV_eEP2r4lZShV_L0zFDREhiksnOKS0w9w91nn2S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971800"/>
            <a:ext cx="3352680" cy="2819520"/>
          </a:xfrm>
          <a:prstGeom prst="rect">
            <a:avLst/>
          </a:prstGeom>
          <a:ln w="0">
            <a:noFill/>
          </a:ln>
        </p:spPr>
      </p:pic>
      <p:pic>
        <p:nvPicPr>
          <p:cNvPr id="223" name="Recorded Sound" descr=""/>
          <p:cNvPicPr/>
          <p:nvPr/>
        </p:nvPicPr>
        <p:blipFill>
          <a:blip r:embed="rId4"/>
          <a:stretch/>
        </p:blipFill>
        <p:spPr>
          <a:xfrm>
            <a:off x="6858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603360" y="36360"/>
            <a:ext cx="7254720" cy="126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Ω helps it stay fresh, and not spoil as fast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l-GR" sz="40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also helps to improve food production and packaging 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26" name="Recorded Sound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s://encrypted-tbn0.gstatic.com/images?q=tbn:ANd9GcQJZkmYhbG9LlhD9y71K_NpBNf-KTaGltvCIoDXzcMd1ohvyBUAE3ADnf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3886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4925880" y="1139760"/>
            <a:ext cx="4138920" cy="2067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Helps disinfect our drinking wate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30" name="Recorded Sound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s://encrypted-tbn2.gstatic.com/images?q=tbn:ANd9GcSHk2-z69w5KFY6rvwOF8UDoQNFa_P12FlvGnrw8HCvx5ZxvqSz-GcR9WQ-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895320" y="225360"/>
            <a:ext cx="6230880" cy="1182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Its also used to help remove toxic pollutants suck as exhaust gases from coal fires power stations and industry's.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01600" y="-152280"/>
            <a:ext cx="7577280" cy="1682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80520" y="160020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X-ray’s, uses radiation to see broken bones or stuff inside of humans and animals.  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3276720" y="396252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973760" y="1139760"/>
            <a:ext cx="4017960" cy="2067120"/>
          </a:xfrm>
          <a:prstGeom prst="rect">
            <a:avLst/>
          </a:prstGeom>
          <a:ln w="0">
            <a:noFill/>
          </a:ln>
        </p:spPr>
      </p:pic>
      <p:grpSp>
        <p:nvGrpSpPr>
          <p:cNvPr id="238" name="Picture Placeholder 4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9" name="Picture Placeholder 4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2" descr="https://encrypted-tbn3.gstatic.com/images?q=tbn:ANd9GcQTyzGcaADRozC2r1apkttLG2QvN15lzLpnGEkkSYedkGnsxBHLTF7U7x2o"/>
          <p:cNvPicPr/>
          <p:nvPr/>
        </p:nvPicPr>
        <p:blipFill>
          <a:blip r:embed="rId3"/>
          <a:stretch/>
        </p:blipFill>
        <p:spPr>
          <a:xfrm>
            <a:off x="685800" y="1066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90400" y="378000"/>
            <a:ext cx="6231240" cy="1182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33520" y="205740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ttp://www.nrc.gov/radiation/ around-us/uses-radiation.html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3:40:21Z</dcterms:created>
  <dc:creator> </dc:creator>
  <dc:description/>
  <dc:language>en-US</dc:language>
  <cp:lastModifiedBy> </cp:lastModifiedBy>
  <dcterms:modified xsi:type="dcterms:W3CDTF">2014-03-24T13:41:38Z</dcterms:modified>
  <cp:revision>13</cp:revision>
  <dc:subject/>
  <dc:title>Slide 1</dc:title>
</cp:coreProperties>
</file>