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E53-399B-4F9A-BDA2-AC92D5E6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ADE-38FE-46E2-AB99-15CB7710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12A2-3E3E-4E29-842A-BCF651B8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C6E-B4B6-463F-8036-C19F0A30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05F-5874-4A1B-8265-2ABA0323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E3-2740-4218-A89D-2C1FD8F4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421-018F-43E8-B4C3-F03BA45B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DD8-DF67-4828-9ED3-A55BBD9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870-62DC-4964-903D-E967402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DC9-540A-4CB9-BBA5-A54F78B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8B1-E730-4B75-B955-00EA7ED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236E-FDDD-4E92-A6EB-0B88692E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DF5-4039-4711-9661-109A4958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17E1-0AFB-4F60-B44C-9FA77A1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331-683F-427A-9B97-CAD4BBC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8634-C431-4A1A-8097-B7E9173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5FE4-093A-4864-AA95-120DE82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088-6665-4DB8-AAD3-1CC32A04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8EA-BD38-435F-914D-FA6C0773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C4B7-A894-4688-A0CB-04E38A8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0064-80FA-4AD5-AF62-6956DFDF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16E6-2E60-43A5-9C44-2B5C942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EDD5-D9A3-4DB2-B5D8-FFA6A52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F55C-AFB9-44DF-9519-A121DC2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F9C7-B9A3-4E7B-B48F-EC785A46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498-7C63-45EC-8B0B-8EC79211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AE5B-2ECD-4C39-8C41-857040C8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BF96-26E2-471E-9279-505297A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D8F6-1C41-451C-883C-AB4A7ED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4B70-5718-426B-AAB6-9805143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4C87-FAC9-4595-880A-3F868BD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3C3A-F35C-487B-9521-D7DDE35B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445E-F9DE-409E-A889-21E5305A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E772-FB68-467C-8E2C-B4BE6EBA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7F5C7-BA9C-4E0B-8977-A8BE701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D723-A26B-4B3B-AD08-208585EF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11A-D937-4E0E-AFCD-A5B1D41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A894-E59D-40EC-920D-6F01765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337B-2987-4EBB-B932-EB6C91C4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EE27-D7D4-4771-B71E-BFD540B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ACAD-B6CB-4679-968F-E0900CD7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17E4-61E2-4E7F-AFD6-BCE472F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9C1C-DAFA-4DE0-8571-DBB5148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F058-E035-46C2-95E1-250DA9EA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FB25-1497-45DF-992C-0845ED6B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2243-A9BC-4EC1-9B28-8B12F676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6317-A280-46C6-8DF4-C419E423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B99-24D8-4CF1-8F9A-F240B70B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BBFC-683E-4583-A1FC-A870409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3930-A129-43BE-9E2B-AB11A95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A5A9-BD63-46EA-B64C-DCCF3B4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7EA9-2362-4DB6-BEF9-09422B9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8C11-B42D-4690-B161-E1B1DEA8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67EE-CF25-4E77-8693-FBDFB95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2C84-BEFB-4E2F-9163-4403772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BDE0-4DA9-4F9D-B252-8E92433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0B93-0DF2-40DB-9777-9921612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3941-385B-4C50-94E9-E28B4EFF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2D4-A241-44A4-B952-091F056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CCF9D-4808-4D5F-9412-27A518B4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C69-0BAB-4512-9F46-2CB86B13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C64-74EE-4802-A3FE-C1F6E25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F9D-255E-44B7-ADFC-3FE1CBB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338B-1B63-4EC5-A8E5-B1D0BBFA352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B183-67A3-41F6-AC4D-9709CE54D87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F070-989B-4100-9574-93633E0CD70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041-9C03-474C-B56C-E478EA5619F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A40-00CE-4C95-9500-88D37E2A331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google.com/url?q=http://www.etitesting.com/ETI_Testing/Industrial_Radiography/Industrial_Radiography/industrial_radiography_1.html&amp;sa=U&amp;ei=6N8pU7D_N8HN0gHHwIDYDA&amp;ved=0CC0Q9QEwAA&amp;usg=AFQjCNEEZAvblhdd4OR81DjVVXhUJ5x3r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Shaft_mining" TargetMode="External"/><Relationship Id="rId3" Type="http://schemas.openxmlformats.org/officeDocument/2006/relationships/hyperlink" Target="http://en.wikipedia.org/wiki/Boring_(earth)" TargetMode="External"/><Relationship Id="rId4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5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6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7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8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9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0" Type="http://schemas.openxmlformats.org/officeDocument/2006/relationships/hyperlink" Target="http://www.google.com/url?sa=i&amp;rct=j&amp;q=&amp;esrc=s&amp;frm=1&amp;source=images&amp;cd=&amp;cad=rja&amp;uact=8&amp;docid=B0y9mDxX3-xYbM&amp;tbnid=QLNqWU1OULM2FM:&amp;ved=0CAYQjRw&amp;url=http%3A%2F%2Figs.indiana.edu%2FallenCounty%2FgammaRay.cfm&amp;ei=WhoqU7DRBIfg0gGP6oAQ&amp;bvm=bv.62922401,d.dmQ&amp;psig=AFQjCNEu3jE2NOfRuN96pStDmXU8TaSSWA&amp;ust=1395354578396049" TargetMode="External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These are the industries that use radioactive materials in their processes and products: automobile and aircraft manufacturers, mining and oil companies, and construction companies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480520" cy="1152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is the use of ionizing radiation to view objects in a way that cannot be seen otherwis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dustrial radiography uses  radioactive elements such as cobalt-60 and iridium-1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balt-60 has a half life of 5.2714 ye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idium-192 has a half life of 73.83 day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5" descr="https://encrypted-tbn3.gstatic.com/images?q=tbn:ANd9GcSH-BWhwlUP-Srrgs-M31k7VaU-5uNiGyd4VdzaOYNVgNhrU--HC-xtd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http://4.bp.blogspot.com/-dU-ADgYNe8s/TdsnhDTKhMI/AAAAAAAALsw/VHMg-IjtsRc/s400/Cobalt%2B60.jpg"/>
          <p:cNvPicPr/>
          <p:nvPr/>
        </p:nvPicPr>
        <p:blipFill>
          <a:blip r:embed="rId4"/>
          <a:stretch/>
        </p:blipFill>
        <p:spPr>
          <a:xfrm>
            <a:off x="3048120" y="5334120"/>
            <a:ext cx="3809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ll logging, also known as borehole logging is the practice of making a detailed record of the geologic formations penetrated by a boreho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Borehole-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boreho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s a narrow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shaf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bor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in the ground, either vertically or horizontall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ople normally use gamma rays to characterize the rock or sediment in a borehole or drill hole. They find elements such as thorium and uranium in the sediment they dig 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5">
            <a:hlinkClick r:id="rId4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>
            <a:hlinkClick r:id="rId5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>
            <a:hlinkClick r:id="rId6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>
            <a:hlinkClick r:id="rId7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3">
            <a:hlinkClick r:id="rId8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rId9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>
            <a:hlinkClick r:id="rId10"/>
          </p:cNvPr>
          <p:cNvSpPr/>
          <p:nvPr/>
        </p:nvSpPr>
        <p:spPr>
          <a:xfrm>
            <a:off x="117360" y="-185112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0" y="-1928880"/>
            <a:ext cx="2962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2" descr="C:\Users\liam\AppData\Local\Microsoft\Windows\Temporary Internet Files\Content.IE5\QNSI52X0\MC900186014[1].wmf"/>
          <p:cNvPicPr/>
          <p:nvPr/>
        </p:nvPicPr>
        <p:blipFill>
          <a:blip r:embed="rId11"/>
          <a:stretch/>
        </p:blipFill>
        <p:spPr>
          <a:xfrm>
            <a:off x="6781680" y="44956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concern about anthropogenic climate change has grown, a number of high-profile environmentalists have decided that this is a more serious problem than their previous concerns with nuclear power. They have to varying degrees either changed their public stance, or conceded that since nuclear power is virtually emission-free regarding CO2, it merits at least grudging support as part of the response to increasing atmospheric CO2 levels and depletion of fossil fu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utomobile industry, uses radioactive material test the quality of steel in vehi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rcraft manufacturers, use radioactive material to check for flaws in jet eng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ning and petroleum companies, use radioactive material to locate and quantify oil, natural gas and mineral depo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manufacturers, use radioactive material to obtain the proper thickness of tin and alumin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ipeline companies, use radioactive material to look for defects in wel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ei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nrc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epa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28:10Z</dcterms:created>
  <dc:creator>liam sweeney</dc:creator>
  <dc:description/>
  <dc:language>en-US</dc:language>
  <cp:lastModifiedBy> </cp:lastModifiedBy>
  <dcterms:modified xsi:type="dcterms:W3CDTF">2014-03-21T18:06:47Z</dcterms:modified>
  <cp:revision>17</cp:revision>
  <dc:subject/>
  <dc:title>Slide 1</dc:title>
</cp:coreProperties>
</file>