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75B-E34F-459D-8FA3-4EB547DE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5C65-92ED-4BEE-814A-41624965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0AD7-A18D-4E2B-A24A-EB8E759B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3E8-CF60-421D-9D94-03684ADD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102-40C9-4D33-9F8C-D6FA93E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7CD-FF82-416C-9D1C-DF16C7B6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561-B58B-42EE-854F-51CA8991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3613-63E1-4223-9A4C-2A7463CF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5A5B-2892-4B26-9FEF-3E6789F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B15C-5802-41BB-8FAA-44FA21FF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2AF8-CCEC-4E37-993C-5C9CB31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5C88-E46C-4242-8C55-C2A1126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C78D-391F-49D4-ADCF-303E7F3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571-A6C1-4504-BB72-1A8487B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F3A-3641-42F4-A91F-00ED3A3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227E-183F-4B7A-A9B9-F993385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FBC-B002-4C9E-867C-04B37AA7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F4FA-EF25-4620-8BDB-CE23F8D7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2EF5-0BFA-42FD-AEB6-E565FED1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20EB-8C73-4744-A1C4-E25DBB40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A39F-F1D5-41E0-B04E-360EE0C5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9F94-31E1-49D6-B6E3-D6BF953B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846C-9E08-4B12-B34C-37EC6431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AE69-36B3-41A0-8283-72AD3EB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1C02-2DB8-4666-A50A-5E4A9593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A36-65EC-45E9-B056-54AB18F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A4BC-05B5-49C2-8B5B-B330CFC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8EE4-A6AD-4891-8799-8448C761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DAA83-1DF9-4303-A9A3-7101AB8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AD7E-E289-4C95-A838-F9AF614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F56A-9BE0-4298-B77F-D8201BED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E945-BB8A-4EE3-9D42-E92237DB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53C3-1AB8-4A01-B56D-F22D2523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D7E0-8048-4A95-8DBC-945C2FDC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3692-798A-4B3E-81C3-D797D39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71B4-9B8B-4674-82C1-2B682F8F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3AD-1286-48A0-ABCE-302C99EA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789D-9DA1-4517-9D4C-701CFFB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DC20-2D64-42D2-84C3-BFCB6DC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2C06-1391-4796-8EE5-F8318B7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2CF2-C7BA-4CBD-BD64-0732F24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EAE1-42ED-4F75-BA98-2BD76063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6A8F-A2BD-4226-A4E6-BB2F19C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36ED-329D-4766-8F0F-729C7CA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840D-DE6B-432D-8771-B7467F4F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6908-16A6-4672-AAA4-B9E7F6B3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A33FE-BB5E-4CFB-B9E2-FD5DABA1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31C-052E-4C8C-A93B-4254670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509F-2B26-4577-84AD-D6EFD672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66EA-1040-4B67-A50B-A08089B2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B1DCF-4E6B-4AE1-AF55-B773ECA4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8AE7-A96E-4267-82EE-19CE5FA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36D7-7026-4373-8BE0-54968FD8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5A89-81D5-4001-8CCE-FC06390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E3F77-7D3E-4A5E-B6AA-209DA79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69F8-C2A7-4BFC-B36E-6AA5611B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238FF-5F3F-4B86-8E99-85E957D7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2C10D-912B-4AD4-9718-AC0873E8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D4E-BFCE-46C9-B143-D194B8E0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C326-0ABC-4604-81C7-734B4373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413-61DC-4213-B646-F17D3EF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5A7-92F2-4433-835B-96D0783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56B-3219-4432-A362-DEA8CAFC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753A-B878-46BF-B5A5-B9821667F22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64FD-B492-497C-B841-41915C0B4C8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E955-8D39-4A71-8665-FD516969A50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5E5-9272-4E0B-98A6-691E2A6CB9A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1FA6-80B3-4F5B-AFD0-6943341506F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google.com/url?q=http://www.etitesting.com/ETI_Testing/Industrial_Radiography/Industrial_Radiography/industrial_radiography_1.html&amp;sa=U&amp;ei=6N8pU7D_N8HN0gHHwIDYDA&amp;ved=0CC0Q9QEwAA&amp;usg=AFQjCNEEZAvblhdd4OR81DjVVXhUJ5x3r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Shaft_mining" TargetMode="External"/><Relationship Id="rId3" Type="http://schemas.openxmlformats.org/officeDocument/2006/relationships/hyperlink" Target="http://en.wikipedia.org/wiki/Boring_(earth)" TargetMode="External"/><Relationship Id="rId4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5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6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7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8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9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0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ese are the industries that use radioactive materials in their processes and products: automobile and aircraft manufacturers, mining and oil companies, and construction companies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is the use of ionizing radiation to view objects in a way that cannot be seen otherwi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uses  radioactive elements such as cobalt-60 and iridium-1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balt-60 has a half life of 5.2714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idium-192 has a half life of 73.83 da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https://encrypted-tbn3.gstatic.com/images?q=tbn:ANd9GcSH-BWhwlUP-Srrgs-M31k7VaU-5uNiGyd4VdzaOYNVgNhrU--HC-xtd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http://4.bp.blogspot.com/-dU-ADgYNe8s/TdsnhDTKhMI/AAAAAAAALsw/VHMg-IjtsRc/s400/Cobalt%2B60.jpg"/>
          <p:cNvPicPr/>
          <p:nvPr/>
        </p:nvPicPr>
        <p:blipFill>
          <a:blip r:embed="rId4"/>
          <a:stretch/>
        </p:blipFill>
        <p:spPr>
          <a:xfrm>
            <a:off x="3048120" y="5334120"/>
            <a:ext cx="380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ll logging, also known as borehole logging is the practice of making a detailed record of the geologic formations penetrated by a borehol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rehole-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reho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s a narrow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shaf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bor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n the ground, either vertically or horizontall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ople normally use gamma rays to characterize the rock or sediment in a borehole or drill hole. They find elements such as thorium and uranium in the sediment they dig 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5">
            <a:hlinkClick r:id="rId4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>
            <a:hlinkClick r:id="rId5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>
            <a:hlinkClick r:id="rId6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7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>
            <a:hlinkClick r:id="rId8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rId9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>
            <a:hlinkClick r:id="rId10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0" y="-192888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C:\Users\liam\AppData\Local\Microsoft\Windows\Temporary Internet Files\Content.IE5\QNSI52X0\MC900186014[1].wmf"/>
          <p:cNvPicPr/>
          <p:nvPr/>
        </p:nvPicPr>
        <p:blipFill>
          <a:blip r:embed="rId11"/>
          <a:stretch/>
        </p:blipFill>
        <p:spPr>
          <a:xfrm>
            <a:off x="6781680" y="44956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concern about anthropogenic climate change has grown, a number of high-profile environmentalists have decided that this is a more serious problem than their previous concerns with nuclear power. They have to varying degrees either changed their public stance, or conceded that since nuclear power is virtually emission-free regarding CO2, it merits at least grudging support as part of the response to increasing atmospheric CO2 levels and depletion of fossil fuel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utomobile industry, uses radioactive material test the quality of steel in vehi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rcraft manufacturers, use radioactive material to check for flaws in jet eng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ing and petroleum companies, use radioactive material to locate and quantify oil, natural gas and mineral depo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manufacturers, use radioactive material to obtain the proper thickness of tin and alumin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peline companies, use radioactive material to look for defects in wel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ei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rc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pa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28:10Z</dcterms:created>
  <dc:creator>liam sweeney</dc:creator>
  <dc:description/>
  <dc:language>en-US</dc:language>
  <cp:lastModifiedBy> </cp:lastModifiedBy>
  <dcterms:modified xsi:type="dcterms:W3CDTF">2014-03-21T18:06:47Z</dcterms:modified>
  <cp:revision>17</cp:revision>
  <dc:subject/>
  <dc:title>Slide 1</dc:title>
</cp:coreProperties>
</file>