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433-A33A-41AA-BFBD-44E642ABF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CEB-A767-40EC-863C-9D2132CA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C39-792B-4022-8A5F-F6555181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A5D-1576-403F-B126-684EA5FE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E29-0BA9-4EEA-BD0D-E591F954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8A3-CD09-4E03-BD62-A4DBC19E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DCA-9B6E-453C-A512-43623768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5EA7-84B3-4186-9ABB-F709929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DE3-2D64-4978-B8AC-2949FA2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66BF-3406-4F3F-8E1C-3406A510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7A9-DEF8-48D2-ADEC-38763F1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066C-35F9-4B9F-986D-D6E5A5E0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3B2D-7826-471F-886B-36663BC0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40D-FBA5-427D-A031-636836D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BCC-8014-47F9-BAFA-1467853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083D-A579-4C3C-94D9-BFF57F0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4C37-C678-4FBB-BC53-CEFD486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9B1F-9E0E-472C-81DE-3C9E304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618-805D-464B-A1B2-E54568C5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5A21-737E-4FCB-9153-2D40C50B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A3F1-B981-4A29-AC69-ABB1DF72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6987-95C0-4279-906C-A8ED3E2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AA45-6603-4081-A0A7-BC40C960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D4B4-E0D6-4C6D-A31C-C02C9B07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27DA-B498-462C-9E7A-ECF19BC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D69-4381-46AB-B816-2F5829B5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61F2-5468-4592-A1CF-8D258B33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1485-C491-4190-9D03-3C248C2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12F6-E9F5-4276-B162-879F699E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4840-D9AA-4D8D-9B93-BF2677B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A6AA-5F0E-4CD1-847A-B26A338B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1A5F-10FD-4453-B522-C285A8A8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D51E-FA71-49A4-B2BA-A0EC2508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0243-14AC-4404-AA9E-A0280381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E77E-B1A4-430F-8EA0-A867B94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CDD3E-B316-4E20-B943-B560B7F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371-456F-4CDC-926C-E3012AA8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7AF4-5730-472A-A33E-8431A8F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FFC5-D06A-458E-A9AF-E71E673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0E6A-AED5-46AF-807F-73F5B431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9372-5B7F-4085-B3AF-66BB6B73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F626-660C-445A-862A-3AD22AB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3C8C7-E18E-4DE4-8C1D-1D29024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999E-0724-4A61-A909-68129A92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0E04-EE84-464F-A50C-506AEB0D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E44F-0448-4876-AB28-D1E0E327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D0D9-7B55-472B-B2D1-D3668471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287-48F8-4258-97EF-24B46F6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8CF9B-F71C-4780-9A9C-60326C4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559F-9DDB-43F9-AAD4-228750F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144E-8468-489B-A142-2AF6341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B822-6EE5-4586-B82F-7775639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AEC1-130A-4AB1-9BFD-1C617C51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D97A-7532-497B-97CB-6CDA5A4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764FD-2E48-4A13-83A7-9832D2A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874F-9976-426D-9522-034E24E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EE32-AF4B-4EAD-A3F2-E01115B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5F90-BF6B-4065-8E80-43F78AD8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66C-64AD-4E15-A60A-680CF111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9F53-4FFF-4492-99B9-9C14A995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3B2-4EB9-42F7-89FD-CF425D44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DAB-0F3F-4728-9D5A-F3FA5F4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587-FE41-49DA-BCAA-A597F00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ABC4-1660-4BF4-945F-1F2E63827FD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5E2-5B01-4B85-9196-4C93ACD9C6A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04E-98BF-4AC0-8462-0A97F11C2AD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78F7-3F2A-4A46-87EA-7F903C1A036B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7CD0-B79B-485D-8250-880641D8989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google.com/url?q=http://www.etitesting.com/ETI_Testing/Industrial_Radiography/Industrial_Radiography/industrial_radiography_1.html&amp;sa=U&amp;ei=6N8pU7D_N8HN0gHHwIDYDA&amp;ved=0CC0Q9QEwAA&amp;usg=AFQjCNEEZAvblhdd4OR81DjVVXhUJ5x3r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Shaft_mining" TargetMode="External"/><Relationship Id="rId3" Type="http://schemas.openxmlformats.org/officeDocument/2006/relationships/hyperlink" Target="http://en.wikipedia.org/wiki/Boring_(earth)" TargetMode="External"/><Relationship Id="rId4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5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6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7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8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9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0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ese are the industries that use radioactive materials in their processes and products: automobile and aircraft manufacturers, mining and oil companies, and construction companie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is the use of ionizing radiation to view objects in a way that cannot be seen otherwi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uses  radioactive elements such as cobalt-60 and iridium-1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balt-60 has a half life of 5.271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idium-192 has a half life of 73.83 da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https://encrypted-tbn3.gstatic.com/images?q=tbn:ANd9GcSH-BWhwlUP-Srrgs-M31k7VaU-5uNiGyd4VdzaOYNVgNhrU--HC-xtd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http://4.bp.blogspot.com/-dU-ADgYNe8s/TdsnhDTKhMI/AAAAAAAALsw/VHMg-IjtsRc/s400/Cobalt%2B60.jpg"/>
          <p:cNvPicPr/>
          <p:nvPr/>
        </p:nvPicPr>
        <p:blipFill>
          <a:blip r:embed="rId4"/>
          <a:stretch/>
        </p:blipFill>
        <p:spPr>
          <a:xfrm>
            <a:off x="3048120" y="5334120"/>
            <a:ext cx="380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ll logging, also known as borehole logging is the practice of making a detailed record of the geologic formations penetrated by a boreho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rehole-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reho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s a narrow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shaf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bor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n the ground, either vertically or horizontall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normally use gamma rays to characterize the rock or sediment in a borehole or drill hole. They find elements such as thorium and uranium in the sediment they dig 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5">
            <a:hlinkClick r:id="rId4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>
            <a:hlinkClick r:id="rId5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>
            <a:hlinkClick r:id="rId6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7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>
            <a:hlinkClick r:id="rId8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rId9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>
            <a:hlinkClick r:id="rId10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0" y="-192888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C:\Users\liam\AppData\Local\Microsoft\Windows\Temporary Internet Files\Content.IE5\QNSI52X0\MC900186014[1].wmf"/>
          <p:cNvPicPr/>
          <p:nvPr/>
        </p:nvPicPr>
        <p:blipFill>
          <a:blip r:embed="rId11"/>
          <a:stretch/>
        </p:blipFill>
        <p:spPr>
          <a:xfrm>
            <a:off x="6781680" y="44956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concern about anthropogenic climate change has grown, a number of high-profile environmentalists have decided that this is a more serious problem than their previous concerns with nuclear power. They have to varying degrees either changed their public stance, or conceded that since nuclear power is virtually emission-free regarding CO2, it merits at least grudging support as part of the response to increasing atmospheric CO2 levels and depletion of fossil fu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utomobile industry, uses radioactive material test the quality of steel in vehi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rcraft manufacturers, use radioactive material to check for flaws in jet eng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ing and petroleum companies, use radioactive material to locate and quantify oil, natural gas and mineral depo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manufacturers, use radioactive material to obtain the proper thickness of tin and alumin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peline companies, use radioactive material to look for defects in wel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ei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rc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pa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28:10Z</dcterms:created>
  <dc:creator>liam sweeney</dc:creator>
  <dc:description/>
  <dc:language>en-US</dc:language>
  <cp:lastModifiedBy> </cp:lastModifiedBy>
  <dcterms:modified xsi:type="dcterms:W3CDTF">2014-03-21T18:06:47Z</dcterms:modified>
  <cp:revision>17</cp:revision>
  <dc:subject/>
  <dc:title>Slide 1</dc:title>
</cp:coreProperties>
</file>