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DD3A-41F5-4B92-83DC-014007521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4F54-149B-4382-ACAC-2B07DC628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43B-A397-4475-BC03-F4902C0A2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525-55A0-4599-81AA-C7943521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CA0-C073-4FA1-8A34-BE634CCA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A6A-688F-426D-AF27-A81D71BB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5BA-6FAB-487A-BB2F-895D32C9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DF30-BA2A-456A-8816-3EB7DBA0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DC5F-E99D-487A-BE69-4AEDA1E9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1783-0F79-4966-A03E-D1E7DB58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79BC-5DA7-466F-B318-5E3A8464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570C-2949-485A-AF47-8AFF9B08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825D-1C7E-4DFC-B27F-88085D5D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07B0-37F4-46D4-870B-DDAAB796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810-94CD-471F-A15D-3C36A03D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D64B-7F82-41F2-9F49-CDA35C67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5E43-B763-4F5B-BAF4-5FEC76BD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D469-C7DC-4DD9-9DBD-DFBD8EB0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328A-A4E3-4964-A668-B7A34AF5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ACA7-5710-4102-846C-851397B3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526F-6717-4F53-A9C7-E8BB4CA6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985E-0B1E-464B-B988-04C1EAB4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985B-3DC3-4658-B39C-FCCCE138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42F8-2E2D-40E7-BD3C-7EA90F9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1910-15D2-4FB8-876A-7B974D4A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75A-3D36-4D9B-A275-C2A141E3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6A8B-C7F0-412D-B681-12FF8395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28DE-5742-40B5-93D2-4D5EE4E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A4A2-EA25-4DF2-AF0C-6B81D6F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9EEB6-2655-4190-9BF1-74502554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2F9A-99EF-4CEF-A357-74619F6A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3631-9477-434B-A73E-A381D957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724C-4A5D-4F8A-ABE7-5D8A0087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D319-C156-42B9-9CC8-8DF4F8D0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6D8F-4BA5-422D-AE2B-32820C36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105F2-A404-49E7-9FEE-2FCD6B4D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869-4EEA-4B81-B0F6-28EF84A7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12A4-B5B1-4412-9BBC-2A7B50DF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61D4-543E-466A-BC47-CA106169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0B0A-B634-452A-B9D5-435B6C57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3D33D-B7D5-4C68-A6FD-E8E9908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AF4D-855B-4072-8894-38C13C63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4D3DB-80EF-4DCE-897A-251651B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B6A42-5586-42A5-88FD-D01BF4F0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6D55-3688-4E4E-8DFB-49A817E7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0E56E-5E68-4F1F-8A5E-32A24DF6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AAD1-5250-4AB5-955A-BB162D20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B80-3496-48E6-AE34-B7107909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25305-508E-42A8-BA81-7F56848F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D1E9F-0228-4B09-856F-D650F333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4CD99-6CD7-461A-AB4F-61B470C7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1934A-4347-4980-BA74-2A122652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085C0-2C6E-4E6B-9492-4043DA56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3DEF-9949-46FE-82C3-D832BF43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E8A0D-AC3F-4A81-924C-C045EA1A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40B0-710B-4E91-92A1-3E54E332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966CA-00B2-480A-9AD2-8D65F274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E610B-C115-4174-BFDF-6F50E4BB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A06-DED7-48FF-B018-FC636B2E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F6641-EEC3-4BB3-9A91-407EBD7E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6CF-1194-4A5B-90A5-398ABD31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AC8-4726-4063-A122-7193DB19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5D4-3B77-4865-B44A-85C2DD5A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F5A8-F398-4D55-A729-117EE933065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3BE4-8A2B-495E-A993-03BE450158C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FEEF-0925-490A-B568-5126A5400DF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838F-C303-4B38-A5E3-336641C17B6E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A1BF-998D-4B32-BD4C-174A0E0BDA5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google.com/url?q=http://www.etitesting.com/ETI_Testing/Industrial_Radiography/Industrial_Radiography/industrial_radiography_1.html&amp;sa=U&amp;ei=6N8pU7D_N8HN0gHHwIDYDA&amp;ved=0CC0Q9QEwAA&amp;usg=AFQjCNEEZAvblhdd4OR81DjVVXhUJ5x3r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n.wikipedia.org/wiki/Shaft_mining" TargetMode="External"/><Relationship Id="rId3" Type="http://schemas.openxmlformats.org/officeDocument/2006/relationships/hyperlink" Target="http://en.wikipedia.org/wiki/Boring_(earth)" TargetMode="External"/><Relationship Id="rId4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5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6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7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8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9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0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ese are the industries that use radioactive materials in their processes and products: automobile and aircraft manufacturers, mining and oil companies, and construction companies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480520" cy="1152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is the use of ionizing radiation to view objects in a way that cannot be seen otherwis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uses  radioactive elements such as cobalt-60 and iridium-192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balt-60 has a half life of 5.2714 ye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ridium-192 has a half life of 73.83 day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5" descr="https://encrypted-tbn3.gstatic.com/images?q=tbn:ANd9GcSH-BWhwlUP-Srrgs-M31k7VaU-5uNiGyd4VdzaOYNVgNhrU--HC-xtd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http://4.bp.blogspot.com/-dU-ADgYNe8s/TdsnhDTKhMI/AAAAAAAALsw/VHMg-IjtsRc/s400/Cobalt%2B60.jpg"/>
          <p:cNvPicPr/>
          <p:nvPr/>
        </p:nvPicPr>
        <p:blipFill>
          <a:blip r:embed="rId4"/>
          <a:stretch/>
        </p:blipFill>
        <p:spPr>
          <a:xfrm>
            <a:off x="3048120" y="5334120"/>
            <a:ext cx="3809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8480520" cy="1152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ll logging, also known as borehole logging is the practice of making a detailed record of the geologic formations penetrated by a borehol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Borehole-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oreho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s a narrow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shaf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bore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n the ground, either vertically or horizontall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ople normally use gamma rays to characterize the rock or sediment in a borehole or drill hole. They find elements such as thorium and uranium in the sediment they dig up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AutoShape 5">
            <a:hlinkClick r:id="rId4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>
            <a:hlinkClick r:id="rId5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>
            <a:hlinkClick r:id="rId6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>
            <a:hlinkClick r:id="rId7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>
            <a:hlinkClick r:id="rId8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5">
            <a:hlinkClick r:id="rId9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>
            <a:hlinkClick r:id="rId10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0" y="-192888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2" descr="C:\Users\liam\AppData\Local\Microsoft\Windows\Temporary Internet Files\Content.IE5\QNSI52X0\MC900186014[1].wmf"/>
          <p:cNvPicPr/>
          <p:nvPr/>
        </p:nvPicPr>
        <p:blipFill>
          <a:blip r:embed="rId11"/>
          <a:stretch/>
        </p:blipFill>
        <p:spPr>
          <a:xfrm>
            <a:off x="6781680" y="449568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concern about anthropogenic climate change has grown, a number of high-profile environmentalists have decided that this is a more serious problem than their previous concerns with nuclear power. They have to varying degrees either changed their public stance, or conceded that since nuclear power is virtually emission-free regarding CO2, it merits at least grudging support as part of the response to increasing atmospheric CO2 levels and depletion of fossil fuel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utomobile industry, uses radioactive material test the quality of steel in vehic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ircraft manufacturers, use radioactive material to check for flaws in jet eng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ning and petroleum companies, use radioactive material to locate and quantify oil, natural gas and mineral depo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n manufacturers, use radioactive material to obtain the proper thickness of tin and aluminu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ipeline companies, use radioactive material to look for defects in wel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ei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rc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epa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28:10Z</dcterms:created>
  <dc:creator>liam sweeney</dc:creator>
  <dc:description/>
  <dc:language>en-US</dc:language>
  <cp:lastModifiedBy> </cp:lastModifiedBy>
  <dcterms:modified xsi:type="dcterms:W3CDTF">2014-03-21T18:06:47Z</dcterms:modified>
  <cp:revision>17</cp:revision>
  <dc:subject/>
  <dc:title>Slide 1</dc:title>
</cp:coreProperties>
</file>