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0.wmf" ContentType="image/x-wmf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media/image1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F3B43-6BB5-4EC9-8515-670832320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C9082-74DD-43A2-A3EA-D7270A4E4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D4DA0-9DAF-4DDD-9415-9EB9A16FE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5227-7F34-4C07-88FC-CA7F23D39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C515-72B6-4AEC-868B-D103C23F1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5808-0AE9-4DD9-B3A9-A6598D79E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132E-37FD-4DC3-8944-0C35C7874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4AEB9-FEB1-44AA-8867-AB0FD6C59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0602F-F730-4C22-8C8F-1577C42D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1F7FF-4BE0-4DA0-95C6-DD502322C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60FB7-F3DC-43B0-8A43-ABD2931C2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3F288-C7E7-4810-A5D4-0B16EEAF5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772C4-C3AF-45AD-BB36-7B1DE501F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D1456-E511-4A3A-9DA8-C14AFAD3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50EC-D8DA-46B0-9019-CC1358EEF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E0B25-FD5A-4840-BAD8-8B577FD1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96993-4F0B-4341-AE07-20D07429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69226-13A0-472E-A8F7-BA07CF27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2CD88-A559-4B55-AEA8-30947B3D6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38C4-DE8E-4A8C-88A7-3330C618D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C4090-6908-4C85-A1F0-6AFF99AE2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AB32C-9C7B-4F88-BED1-7DF702B31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50963-AD86-4392-A57E-F4A0244B2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348FC-6938-4CDC-904D-AA87C9E74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49DF9-C460-447E-B79D-79579C7C1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A26C-DD08-4DE9-980A-921CEB600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9538A-484C-41B8-B327-B17A1B855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B9AA0-659A-41EB-9FE8-BE07FBDE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8F476-E515-437C-B81E-7BC2AE32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2A636-A376-48F0-B558-2EA74E11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9F5E5-2519-4D22-9EDF-294FC8127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65FB7-CF28-45A6-A1CC-3D7E5DADF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503F9-F2EF-45B9-B62E-C0AE964E5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214BE-113C-4BA3-B5C1-C68C17FDB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B7FDE-00BE-42C8-BD9A-50E3BEFB6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B162D-EFBB-4A67-85C6-53541D41B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A7CA-B403-403C-814F-416011560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D4830-AACD-43D2-9146-75D7F162A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D9659-BD67-4F41-B6A5-F9B0D013B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DF2D7-B3BC-4E03-A6F5-C9A24967C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152AC-34C0-4ADF-B3E0-42BA7038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39547-8AF8-440C-A366-8ED87643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44659-FB30-4DD3-B2A5-3BBD277E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21C6B-E15C-44BD-A094-7D0475BBD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72EEB-B95E-46E0-BF86-98C69C38B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EA014-A299-4C17-8481-0181906C9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F3F26-57F2-4CE6-83C9-1CFE93E51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547B-B78D-4415-934A-BA2FD4960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985FE-1235-49A2-B25D-98D2980E1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92CCC-6794-4B73-82AC-3CBDDF0D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9B923-2146-4CD9-A9E3-ED35D06DA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C38B7-5709-4A62-A8CB-51A8CA9E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C9266-86D1-4680-8ACE-83AF17985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D6213-DA6C-49C9-93AC-B2D00A24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7DD41-B93D-469D-90D7-AC43B67E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827B4-BC66-4FA5-A1D3-FE4BB006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D79E2-C77C-46B1-BC83-04F1D209F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C87F2-681F-4B07-A3F6-D49F6E77B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3D06-E147-452D-988D-15D6FEAAD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3A9D2-1794-4ABA-908D-AD127072B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C73E-A141-4A76-A195-66108F13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793F-3B8D-489D-AFA9-DDA994FA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58BB-DFD0-4BF4-8E3C-5C8EBF00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9EB16-E887-46AA-90B5-EE8BDBD5A86B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2467D-6825-4F8E-A213-BEB01BCE2DCD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922DE-7E0C-499B-84C0-ADF2ACFD50F5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EAB5-3D24-43EA-A65A-E1B93867939E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04B64-F608-40F6-A3B4-A000DCD9F592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s://www.google.com/url?q=http://www.etitesting.com/ETI_Testing/Industrial_Radiography/Industrial_Radiography/industrial_radiography_1.html&amp;sa=U&amp;ei=6N8pU7D_N8HN0gHHwIDYDA&amp;ved=0CC0Q9QEwAA&amp;usg=AFQjCNEEZAvblhdd4OR81DjVVXhUJ5x3rg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en.wikipedia.org/wiki/Shaft_mining" TargetMode="External"/><Relationship Id="rId3" Type="http://schemas.openxmlformats.org/officeDocument/2006/relationships/hyperlink" Target="http://en.wikipedia.org/wiki/Boring_(earth)" TargetMode="External"/><Relationship Id="rId4" Type="http://schemas.openxmlformats.org/officeDocument/2006/relationships/hyperlink" Target="http://www.google.com/url?sa=i&amp;rct=j&amp;q=&amp;esrc=s&amp;frm=1&amp;source=images&amp;cd=&amp;cad=rja&amp;uact=8&amp;docid=B0y9mDxX3-xYbM&amp;tbnid=QLNqWU1OULM2FM:&amp;ved=0CAYQjRw&amp;url=http%3A%2F%2Figs.indiana.edu%2FallenCounty%2FgammaRay.cfm&amp;ei=WhoqU7DRBIfg0gGP6oAQ&amp;bvm=bv.62922401,d.dmQ&amp;psig=AFQjCNEu3jE2NOfRuN96pStDmXU8TaSSWA&amp;ust=1395354578396049" TargetMode="External"/><Relationship Id="rId5" Type="http://schemas.openxmlformats.org/officeDocument/2006/relationships/hyperlink" Target="http://www.google.com/url?sa=i&amp;rct=j&amp;q=&amp;esrc=s&amp;frm=1&amp;source=images&amp;cd=&amp;cad=rja&amp;uact=8&amp;docid=B0y9mDxX3-xYbM&amp;tbnid=QLNqWU1OULM2FM:&amp;ved=0CAYQjRw&amp;url=http%3A%2F%2Figs.indiana.edu%2FallenCounty%2FgammaRay.cfm&amp;ei=WhoqU7DRBIfg0gGP6oAQ&amp;bvm=bv.62922401,d.dmQ&amp;psig=AFQjCNEu3jE2NOfRuN96pStDmXU8TaSSWA&amp;ust=1395354578396049" TargetMode="External"/><Relationship Id="rId6" Type="http://schemas.openxmlformats.org/officeDocument/2006/relationships/hyperlink" Target="http://www.google.com/url?sa=i&amp;rct=j&amp;q=&amp;esrc=s&amp;frm=1&amp;source=images&amp;cd=&amp;cad=rja&amp;uact=8&amp;docid=B0y9mDxX3-xYbM&amp;tbnid=QLNqWU1OULM2FM:&amp;ved=0CAYQjRw&amp;url=http%3A%2F%2Figs.indiana.edu%2FallenCounty%2FgammaRay.cfm&amp;ei=WhoqU7DRBIfg0gGP6oAQ&amp;bvm=bv.62922401,d.dmQ&amp;psig=AFQjCNEu3jE2NOfRuN96pStDmXU8TaSSWA&amp;ust=1395354578396049" TargetMode="External"/><Relationship Id="rId7" Type="http://schemas.openxmlformats.org/officeDocument/2006/relationships/hyperlink" Target="http://www.google.com/url?sa=i&amp;rct=j&amp;q=&amp;esrc=s&amp;frm=1&amp;source=images&amp;cd=&amp;cad=rja&amp;uact=8&amp;docid=B0y9mDxX3-xYbM&amp;tbnid=QLNqWU1OULM2FM:&amp;ved=0CAYQjRw&amp;url=http%3A%2F%2Figs.indiana.edu%2FallenCounty%2FgammaRay.cfm&amp;ei=WhoqU7DRBIfg0gGP6oAQ&amp;bvm=bv.62922401,d.dmQ&amp;psig=AFQjCNEu3jE2NOfRuN96pStDmXU8TaSSWA&amp;ust=1395354578396049" TargetMode="External"/><Relationship Id="rId8" Type="http://schemas.openxmlformats.org/officeDocument/2006/relationships/hyperlink" Target="http://www.google.com/url?sa=i&amp;rct=j&amp;q=&amp;esrc=s&amp;frm=1&amp;source=images&amp;cd=&amp;cad=rja&amp;uact=8&amp;docid=B0y9mDxX3-xYbM&amp;tbnid=QLNqWU1OULM2FM:&amp;ved=0CAYQjRw&amp;url=http%3A%2F%2Figs.indiana.edu%2FallenCounty%2FgammaRay.cfm&amp;ei=WhoqU7DRBIfg0gGP6oAQ&amp;bvm=bv.62922401,d.dmQ&amp;psig=AFQjCNEu3jE2NOfRuN96pStDmXU8TaSSWA&amp;ust=1395354578396049" TargetMode="External"/><Relationship Id="rId9" Type="http://schemas.openxmlformats.org/officeDocument/2006/relationships/hyperlink" Target="http://www.google.com/url?sa=i&amp;rct=j&amp;q=&amp;esrc=s&amp;frm=1&amp;source=images&amp;cd=&amp;cad=rja&amp;uact=8&amp;docid=B0y9mDxX3-xYbM&amp;tbnid=QLNqWU1OULM2FM:&amp;ved=0CAYQjRw&amp;url=http%3A%2F%2Figs.indiana.edu%2FallenCounty%2FgammaRay.cfm&amp;ei=WhoqU7DRBIfg0gGP6oAQ&amp;bvm=bv.62922401,d.dmQ&amp;psig=AFQjCNEu3jE2NOfRuN96pStDmXU8TaSSWA&amp;ust=1395354578396049" TargetMode="External"/><Relationship Id="rId10" Type="http://schemas.openxmlformats.org/officeDocument/2006/relationships/hyperlink" Target="http://www.google.com/url?sa=i&amp;rct=j&amp;q=&amp;esrc=s&amp;frm=1&amp;source=images&amp;cd=&amp;cad=rja&amp;uact=8&amp;docid=B0y9mDxX3-xYbM&amp;tbnid=QLNqWU1OULM2FM:&amp;ved=0CAYQjRw&amp;url=http%3A%2F%2Figs.indiana.edu%2FallenCounty%2FgammaRay.cfm&amp;ei=WhoqU7DRBIfg0gGP6oAQ&amp;bvm=bv.62922401,d.dmQ&amp;psig=AFQjCNEu3jE2NOfRuN96pStDmXU8TaSSWA&amp;ust=1395354578396049" TargetMode="External"/><Relationship Id="rId11" Type="http://schemas.openxmlformats.org/officeDocument/2006/relationships/image" Target="../media/image10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le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546880" cy="28782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These are the industries that use radioactive materials in their processes and products: automobile and aircraft manufacturers, mining and oil companies, and construction companies.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Title 1" descr=""/>
          <p:cNvPicPr/>
          <p:nvPr/>
        </p:nvPicPr>
        <p:blipFill>
          <a:blip r:embed="rId1"/>
          <a:stretch/>
        </p:blipFill>
        <p:spPr>
          <a:xfrm>
            <a:off x="212760" y="225360"/>
            <a:ext cx="8480520" cy="11527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ndustrial radiography is the use of ionizing radiation to view objects in a way that cannot be seen otherwis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ndustrial radiography uses  radioactive elements such as cobalt-60 and iridium-192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obalt-60 has a half life of 5.2714 year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ridium-192 has a half life of 73.83 day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Picture 5" descr="https://encrypted-tbn3.gstatic.com/images?q=tbn:ANd9GcSH-BWhwlUP-Srrgs-M31k7VaU-5uNiGyd4VdzaOYNVgNhrU--HC-xtd9c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2120" y="54864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http://4.bp.blogspot.com/-dU-ADgYNe8s/TdsnhDTKhMI/AAAAAAAALsw/VHMg-IjtsRc/s400/Cobalt%2B60.jpg"/>
          <p:cNvPicPr/>
          <p:nvPr/>
        </p:nvPicPr>
        <p:blipFill>
          <a:blip r:embed="rId4"/>
          <a:stretch/>
        </p:blipFill>
        <p:spPr>
          <a:xfrm>
            <a:off x="3048120" y="5334120"/>
            <a:ext cx="3809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1" descr=""/>
          <p:cNvPicPr/>
          <p:nvPr/>
        </p:nvPicPr>
        <p:blipFill>
          <a:blip r:embed="rId1"/>
          <a:stretch/>
        </p:blipFill>
        <p:spPr>
          <a:xfrm>
            <a:off x="212760" y="378000"/>
            <a:ext cx="8480520" cy="11523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Well logging, also known as borehole logging is the practice of making a detailed record of the geologic formations penetrated by a borehole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(Borehole-A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borehole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is a narrow </a:t>
            </a:r>
            <a:r>
              <a:rPr b="0" lang="en-US" sz="2000" spc="-1" strike="noStrike" u="sng">
                <a:solidFill>
                  <a:srgbClr val="ffde66"/>
                </a:solidFill>
                <a:uFillTx/>
                <a:latin typeface="Trebuchet MS"/>
                <a:hlinkClick r:id="rId2"/>
              </a:rPr>
              <a:t>shaft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 u="sng">
                <a:solidFill>
                  <a:srgbClr val="ffde66"/>
                </a:solidFill>
                <a:uFillTx/>
                <a:latin typeface="Trebuchet MS"/>
                <a:hlinkClick r:id="rId3"/>
              </a:rPr>
              <a:t>bored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in the ground, either vertically or horizontally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eople normally use gamma rays to characterize the rock or sediment in a borehole or drill hole. They find elements such as thorium and uranium in the sediment they dig up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AutoShape 5">
            <a:hlinkClick r:id="rId4"/>
          </p:cNvPr>
          <p:cNvSpPr/>
          <p:nvPr/>
        </p:nvSpPr>
        <p:spPr>
          <a:xfrm>
            <a:off x="117360" y="-1851120"/>
            <a:ext cx="29624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7">
            <a:hlinkClick r:id="rId5"/>
          </p:cNvPr>
          <p:cNvSpPr/>
          <p:nvPr/>
        </p:nvSpPr>
        <p:spPr>
          <a:xfrm>
            <a:off x="117360" y="-1851120"/>
            <a:ext cx="29624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9">
            <a:hlinkClick r:id="rId6"/>
          </p:cNvPr>
          <p:cNvSpPr/>
          <p:nvPr/>
        </p:nvSpPr>
        <p:spPr>
          <a:xfrm>
            <a:off x="117360" y="-1851120"/>
            <a:ext cx="29624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1">
            <a:hlinkClick r:id="rId7"/>
          </p:cNvPr>
          <p:cNvSpPr/>
          <p:nvPr/>
        </p:nvSpPr>
        <p:spPr>
          <a:xfrm>
            <a:off x="117360" y="-1851120"/>
            <a:ext cx="29624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3">
            <a:hlinkClick r:id="rId8"/>
          </p:cNvPr>
          <p:cNvSpPr/>
          <p:nvPr/>
        </p:nvSpPr>
        <p:spPr>
          <a:xfrm>
            <a:off x="117360" y="-1851120"/>
            <a:ext cx="29624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5">
            <a:hlinkClick r:id="rId9"/>
          </p:cNvPr>
          <p:cNvSpPr/>
          <p:nvPr/>
        </p:nvSpPr>
        <p:spPr>
          <a:xfrm>
            <a:off x="117360" y="-1851120"/>
            <a:ext cx="29624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7">
            <a:hlinkClick r:id="rId10"/>
          </p:cNvPr>
          <p:cNvSpPr/>
          <p:nvPr/>
        </p:nvSpPr>
        <p:spPr>
          <a:xfrm>
            <a:off x="117360" y="-1851120"/>
            <a:ext cx="29624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9"/>
          <p:cNvSpPr/>
          <p:nvPr/>
        </p:nvSpPr>
        <p:spPr>
          <a:xfrm>
            <a:off x="0" y="-1928880"/>
            <a:ext cx="29624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21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22" descr="C:\Users\liam\AppData\Local\Microsoft\Windows\Temporary Internet Files\Content.IE5\QNSI52X0\MC900186014[1].wmf"/>
          <p:cNvPicPr/>
          <p:nvPr/>
        </p:nvPicPr>
        <p:blipFill>
          <a:blip r:embed="rId11"/>
          <a:stretch/>
        </p:blipFill>
        <p:spPr>
          <a:xfrm>
            <a:off x="6781680" y="4495680"/>
            <a:ext cx="182736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s concern about anthropogenic climate change has grown, a number of high-profile environmentalists have decided that this is a more serious problem than their previous concerns with nuclear power. They have to varying degrees either changed their public stance, or conceded that since nuclear power is virtually emission-free regarding CO2, it merits at least grudging support as part of the response to increasing atmospheric CO2 levels and depletion of fossil fuel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automobile industry, uses radioactive material test the quality of steel in vehicl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ircraft manufacturers, use radioactive material to check for flaws in jet engin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ining and petroleum companies, use radioactive material to locate and quantify oil, natural gas and mineral deposit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an manufacturers, use radioactive material to obtain the proper thickness of tin and aluminum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ipeline companies, use radioactive material to look for defects in weld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ww.nei.or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ww.nrc.or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ww.epa.or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8T18:28:10Z</dcterms:created>
  <dc:creator>liam sweeney</dc:creator>
  <dc:description/>
  <dc:language>en-US</dc:language>
  <cp:lastModifiedBy> </cp:lastModifiedBy>
  <dcterms:modified xsi:type="dcterms:W3CDTF">2014-03-21T18:06:47Z</dcterms:modified>
  <cp:revision>17</cp:revision>
  <dc:subject/>
  <dc:title>Slide 1</dc:title>
</cp:coreProperties>
</file>