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E2B-0FE2-4EA5-83A8-9513F33F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11D-AE61-42C2-BFB2-DEF6062E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16A-9B74-4EBE-8646-803610EB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65C-AC8D-4568-9001-F19790D7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A51-2811-499C-94E9-92294EF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693-661D-4D16-BF8B-50080F15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773-9F10-48D6-8512-8B7FAFE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A4D-44D6-4069-8F1C-7A1C2A1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A75-7D03-4108-B4A6-A2A21B00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825-E631-4E4D-A190-F40901C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772-FFB8-4889-8437-45B1775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68F-2A5D-4944-84F2-4CA9810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558-D406-44F0-BB49-E218E9F2C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docid=jM7QDciFu1wuGM&amp;tbnid=eJSmbsYyYTV4_M:&amp;ved=0CAUQjB0&amp;url=http://wondrouspics.com/nuclear-explosion-wallpapers/nuclear-bomb-mushroom-cloud/&amp;ei=z-cmU4yTLsKfkAfimIGwBQ&amp;bvm=bv.62922401,d.eW0&amp;psig=AFQjCNFThuFJrP4GRO5uhvARjtlysFSj2w&amp;ust=1395145036769105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2.gstatic.com/images?q=tbn:ANd9GcRRZDxjlMu-FT8tPjRFWLTnGhAwnmpdcyRpLuBisZ_lVF2FEfdvZ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Dis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aliph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reactors in Chernobyl started to meltdown due to a experiment. A lot of people around 200 were infected and 32 died within three months. More than 350,000 people had to move away .The radiation is still a problem andpeople will die as a result of it. The accident was only revealed when a cloud was moving in northern Eur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chernobyl_24_years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lenin_square_foto_timm_seu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the damage is bad it can effect our heal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how much radiation your exposed to you can get skin rashes up to coma and even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amages DNA, especially when it gets into dividing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680"/>
            <a:ext cx="9144000" cy="967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ndrouspic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telegraph.co.uk/news/worldnews/asia/japan/8382778/Japan-crisis-10-worst-nuclear-disasters-in-histor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scientist.com/article/dn20244-briefing-how-nuclear-accidents-damage-human-health.html#.UymKK6hdW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acidcow.com/pics/16330-chernobyl-today-52-pic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google.com/url?sa=i&amp;rct=j&amp;q=&amp;esrc=s&amp;source=images&amp;cd=&amp;cad=rja&amp;uact=8&amp;docid=TivTg-xx5giW0M&amp;tbnid=MXUfxd5vXkKvnM:&amp;ved=0CAQQjB0&amp;url=http%3A%2F%2Fwww.loadpaper.com%2Fpic28%2Fchernobyl-nuclear-plant-disaster-abandoned.html&amp;ei=onYxU8beBdLqkAfc0YCADg&amp;bvm=bv.63587204,d.eW0&amp;psig=AFQjCNGzUgUxzL-rM6s-6gPIg2Pl13cZ-w&amp;ust=13958367955821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14:45Z</dcterms:created>
  <dc:creator> </dc:creator>
  <dc:description/>
  <dc:language>en-US</dc:language>
  <cp:lastModifiedBy> </cp:lastModifiedBy>
  <dcterms:modified xsi:type="dcterms:W3CDTF">2014-03-25T12:32:56Z</dcterms:modified>
  <cp:revision>21</cp:revision>
  <dc:subject/>
  <dc:title>Nuclear Disasters</dc:title>
</cp:coreProperties>
</file>