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FA5-1DA3-49A9-8165-CCBDFBED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4BB-6DCE-455E-8C8D-5CFE31FC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A4E-A60A-423E-B199-C3EA46CE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375-7187-4B99-B474-1123F0A6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EA8-400B-4291-9F1D-DEE6877D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F99-F383-4113-A226-E569442F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1F2-EB0A-43EB-9925-3C24C7D2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CAB-C708-4CC5-BECA-F43C74DE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39D-A1B1-4A09-AC60-5F2567C9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61B-1125-4E93-8A9B-EC7928EA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C73-399B-45DE-A6FC-E8C8F5FA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176-09FE-4F17-937C-93717D5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4335-F7DA-48B5-A47F-598B0FBFC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cad=rja&amp;uact=8&amp;docid=jM7QDciFu1wuGM&amp;tbnid=eJSmbsYyYTV4_M:&amp;ved=0CAUQjB0&amp;url=http://wondrouspics.com/nuclear-explosion-wallpapers/nuclear-bomb-mushroom-cloud/&amp;ei=z-cmU4yTLsKfkAfimIGwBQ&amp;bvm=bv.62922401,d.eW0&amp;psig=AFQjCNFThuFJrP4GRO5uhvARjtlysFSj2w&amp;ust=1395145036769105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encrypted-tbn2.gstatic.com/images?q=tbn:ANd9GcRRZDxjlMu-FT8tPjRFWLTnGhAwnmpdcyRpLuBisZ_lVF2FEfdvZ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ar Disa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aliph 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reactors in Chernobyl started to meltdown due to a experiment. A lot of people around 200 were infected and 32 died within three months. More than 350,000 people had to move away .The radiation is still a problem andpeople will die as a result of it. The accident was only revealed when a cloud was moving in northern Euro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5" descr="chernobyl_24_years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lenin_square_foto_timm_seu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though the damage is bad it can effect our heal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how much radiation your exposed to you can get skin rashes up to coma and even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amages DNA, especially when it gets into dividing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066680"/>
            <a:ext cx="9144000" cy="967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ndrouspics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telegraph.co.uk/news/worldnews/asia/japan/8382778/Japan-crisis-10-worst-nuclear-disasters-in-histor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scientist.com/article/dn20244-briefing-how-nuclear-accidents-damage-human-health.html#.UymKK6hdW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acidcow.com/pics/16330-chernobyl-today-52-pics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s://www.google.com/url?sa=i&amp;rct=j&amp;q=&amp;esrc=s&amp;source=images&amp;cd=&amp;cad=rja&amp;uact=8&amp;docid=TivTg-xx5giW0M&amp;tbnid=MXUfxd5vXkKvnM:&amp;ved=0CAQQjB0&amp;url=http%3A%2F%2Fwww.loadpaper.com%2Fpic28%2Fchernobyl-nuclear-plant-disaster-abandoned.html&amp;ei=onYxU8beBdLqkAfc0YCADg&amp;bvm=bv.63587204,d.eW0&amp;psig=AFQjCNGzUgUxzL-rM6s-6gPIg2Pl13cZ-w&amp;ust=13958367955821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14:45Z</dcterms:created>
  <dc:creator> </dc:creator>
  <dc:description/>
  <dc:language>en-US</dc:language>
  <cp:lastModifiedBy> </cp:lastModifiedBy>
  <dcterms:modified xsi:type="dcterms:W3CDTF">2014-03-25T12:32:56Z</dcterms:modified>
  <cp:revision>21</cp:revision>
  <dc:subject/>
  <dc:title>Nuclear Disasters</dc:title>
</cp:coreProperties>
</file>