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F211-C277-4A0B-97A5-20E9368E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4FA1-28A7-4C03-9577-A80B625F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5B92-341F-42AA-A746-A0ACA92F4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5A1D-CB5F-4BF1-A444-AEE9AA86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A7CF-3D91-4983-A057-38CB5158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9A33-34AF-4307-9D8E-3E831956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0F95-A8D8-4A1F-9B9A-73BD0843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3CC6-871B-40F1-94C0-883D8D08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01F1-6909-4AA2-B896-5C000CD1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E94F-6C6D-4E2D-B802-EAF05C55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8FEC-27F1-4FDD-897E-3D63D7D1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C4A1-8F76-4E53-9701-A2F1F191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4C6E-9A0A-47A6-8585-41A7E06F81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google.com/url?sa=i&amp;rct=j&amp;q=&amp;esrc=s&amp;source=images&amp;cd=&amp;cad=rja&amp;uact=8&amp;docid=jM7QDciFu1wuGM&amp;tbnid=eJSmbsYyYTV4_M:&amp;ved=0CAUQjB0&amp;url=http://wondrouspics.com/nuclear-explosion-wallpapers/nuclear-bomb-mushroom-cloud/&amp;ei=z-cmU4yTLsKfkAfimIGwBQ&amp;bvm=bv.62922401,d.eW0&amp;psig=AFQjCNFThuFJrP4GRO5uhvARjtlysFSj2w&amp;ust=1395145036769105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encrypted-tbn2.gstatic.com/images?q=tbn:ANd9GcRRZDxjlMu-FT8tPjRFWLTnGhAwnmpdcyRpLuBisZ_lVF2FEfdvZ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clear Disas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Kaliph La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rnoby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of the reactors in Chernobyl started to meltdown due to a experiment. A lot of people around 200 were infected and 32 died within three months. More than 350,000 people had to move away .The radiation is still a problem andpeople will die as a result of it. The accident was only revealed when a cloud was moving in northern Europ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5" descr="chernobyl_24_years_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lenin_square_foto_timm_seu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UMAN HEAL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n though the damage is bad it can effect our healt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ing on how much radiation your exposed to you can get skin rashes up to coma and even dea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damages DNA, especially when it gets into dividing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3" descr="images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066680"/>
            <a:ext cx="9144000" cy="967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ondrouspics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telegraph.co.uk/news/worldnews/asia/japan/8382778/Japan-crisis-10-worst-nuclear-disasters-in-history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newscientist.com/article/dn20244-briefing-how-nuclear-accidents-damage-human-health.html#.UymKK6hdW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acidcow.com/pics/16330-chernobyl-today-52-pics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s://www.google.com/url?sa=i&amp;rct=j&amp;q=&amp;esrc=s&amp;source=images&amp;cd=&amp;cad=rja&amp;uact=8&amp;docid=TivTg-xx5giW0M&amp;tbnid=MXUfxd5vXkKvnM:&amp;ved=0CAQQjB0&amp;url=http%3A%2F%2Fwww.loadpaper.com%2Fpic28%2Fchernobyl-nuclear-plant-disaster-abandoned.html&amp;ei=onYxU8beBdLqkAfc0YCADg&amp;bvm=bv.63587204,d.eW0&amp;psig=AFQjCNGzUgUxzL-rM6s-6gPIg2Pl13cZ-w&amp;ust=13958367955821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2:14:45Z</dcterms:created>
  <dc:creator> </dc:creator>
  <dc:description/>
  <dc:language>en-US</dc:language>
  <cp:lastModifiedBy> </cp:lastModifiedBy>
  <dcterms:modified xsi:type="dcterms:W3CDTF">2014-03-25T12:32:56Z</dcterms:modified>
  <cp:revision>21</cp:revision>
  <dc:subject/>
  <dc:title>Nuclear Disasters</dc:title>
</cp:coreProperties>
</file>