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67F5-1FD9-4AC2-9739-1D3BE6DD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A4CE-BCEC-40BC-A0F2-C1FA1A68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4BE9-EC0C-4E41-8933-FBB28C9DE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BEB7-7F4F-48BA-951A-BC0A2325E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08CF-CEF7-47D4-82E7-7E1A3FEA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D3C2-FB55-4CB0-9CC1-E1EC2A85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918F-933A-479C-86A7-14754BF8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FFB6-34A5-42DD-B896-3721BC07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BAA2-91AE-44D4-858B-4CCE4242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E9B4-2B70-4D7B-A8BF-76402837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87C8-BD46-4FD5-B5C2-294E93B6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7D54-AEC5-4B00-928E-03BB9464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90F2-3CF5-4333-8398-2C11CB54F5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Haettenschweiler"/>
              </a:rPr>
              <a:t>Nuclear Bomb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Ashley Land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Juice ITC"/>
              </a:rPr>
              <a:t>What are they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289548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A bomb whose force is due to uncontrolled nuclear fusion or nuclear fi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They’re weapons of mass destru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What’s needed to make a bom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76720" y="2590920"/>
            <a:ext cx="31240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uton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an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s://encrypted-tbn0.gstatic.com/images?q=tbn:ANd9GcQQ4AcbMs2LzBWO29ZWTE6OP9dQmonMLM0yPEs22M7vPja8oMVZmA"/>
          <p:cNvPicPr/>
          <p:nvPr/>
        </p:nvPicPr>
        <p:blipFill>
          <a:blip r:embed="rId1"/>
          <a:stretch/>
        </p:blipFill>
        <p:spPr>
          <a:xfrm>
            <a:off x="762120" y="3962520"/>
            <a:ext cx="2286000" cy="1743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1.jpg"/>
          <p:cNvPicPr/>
          <p:nvPr/>
        </p:nvPicPr>
        <p:blipFill>
          <a:blip r:embed="rId2"/>
          <a:stretch/>
        </p:blipFill>
        <p:spPr>
          <a:xfrm>
            <a:off x="6324480" y="3657600"/>
            <a:ext cx="2351160" cy="2238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Who invented the nuclear bom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2860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rnest Rutherford in 191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 1932 Sir John Cockcroft and Ernest Walton were the 1st to cause a nuclear react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nrico Fermi was the first to fission uraniu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National First Font Dotted"/>
              </a:rPr>
              <a:t>Atomic Bomb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rst Atomic bomb was made at the end of the WW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26,000 atomic bombs have been made by various count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Atomic bomb facts First atomic bomb1 10 Interesting Atomic Bomb Facts"/>
          <p:cNvPicPr/>
          <p:nvPr/>
        </p:nvPicPr>
        <p:blipFill>
          <a:blip r:embed="rId1"/>
          <a:stretch/>
        </p:blipFill>
        <p:spPr>
          <a:xfrm>
            <a:off x="5638680" y="4419720"/>
            <a:ext cx="1752840" cy="170496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National First Font Dotted"/>
              </a:rPr>
              <a:t>Pros &amp; C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ey can help with defending your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Nobody can predict how much dangerous the world will become when there would be no nuclear bom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Use of nuclear weapons is imm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More the number of nuclear weapons made, more are the risks it poses to human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n3.jpg"/>
          <p:cNvPicPr/>
          <p:nvPr/>
        </p:nvPicPr>
        <p:blipFill>
          <a:blip r:embed="rId1"/>
          <a:stretch/>
        </p:blipFill>
        <p:spPr>
          <a:xfrm>
            <a:off x="609480" y="762120"/>
            <a:ext cx="2610000" cy="175248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" name="Picture 6" descr="n2.jpg"/>
          <p:cNvPicPr/>
          <p:nvPr/>
        </p:nvPicPr>
        <p:blipFill>
          <a:blip r:embed="rId2"/>
          <a:stretch/>
        </p:blipFill>
        <p:spPr>
          <a:xfrm>
            <a:off x="6553080" y="4035600"/>
            <a:ext cx="2414880" cy="2798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n5.jpg"/>
          <p:cNvPicPr/>
          <p:nvPr/>
        </p:nvPicPr>
        <p:blipFill>
          <a:blip r:embed="rId3"/>
          <a:stretch/>
        </p:blipFill>
        <p:spPr>
          <a:xfrm>
            <a:off x="139680" y="4406760"/>
            <a:ext cx="2322360" cy="2322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n4.jpg"/>
          <p:cNvPicPr/>
          <p:nvPr/>
        </p:nvPicPr>
        <p:blipFill>
          <a:blip r:embed="rId4"/>
          <a:stretch/>
        </p:blipFill>
        <p:spPr>
          <a:xfrm>
            <a:off x="3352680" y="4194000"/>
            <a:ext cx="1865520" cy="2444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n6.jpg"/>
          <p:cNvPicPr/>
          <p:nvPr/>
        </p:nvPicPr>
        <p:blipFill>
          <a:blip r:embed="rId5"/>
          <a:stretch/>
        </p:blipFill>
        <p:spPr>
          <a:xfrm>
            <a:off x="4108320" y="2236680"/>
            <a:ext cx="2444760" cy="3548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n7.jpg"/>
          <p:cNvPicPr/>
          <p:nvPr/>
        </p:nvPicPr>
        <p:blipFill>
          <a:blip r:embed="rId6">
            <a:grayscl/>
          </a:blip>
          <a:stretch/>
        </p:blipFill>
        <p:spPr>
          <a:xfrm>
            <a:off x="6172200" y="228600"/>
            <a:ext cx="2590920" cy="1762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 Cite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dictionary.reference.com/browse/nuclear+bo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infactcollaborative.com/wp-content/uploads/2011/11/Atomic-bomb-facts-First-atomic-bomb1.jp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silverbearcafe.com/beartracks/uranium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en.wikipedia.org/wiki/Mark_7_nuclear_bo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4:23:56Z</dcterms:created>
  <dc:creator>26789</dc:creator>
  <dc:description/>
  <dc:language>en-US</dc:language>
  <cp:lastModifiedBy>ASD</cp:lastModifiedBy>
  <dcterms:modified xsi:type="dcterms:W3CDTF">2014-03-25T15:07:04Z</dcterms:modified>
  <cp:revision>28</cp:revision>
  <dc:subject/>
  <dc:title>Nuclear Bombs</dc:title>
</cp:coreProperties>
</file>