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783-3635-40D9-872A-C332F32F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769-8DD8-4B6B-9459-EAD589D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AC1-5DE6-422B-8C94-FB03686A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43C-1560-4CE2-868E-F9A7ADFC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896-AB74-4133-8447-FCCC9DF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091-6D29-4325-BBD4-F9731230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8FB-AA72-45B5-96A8-C0FEA9E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D2F-C721-4113-905A-B4952C2B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C06-D216-4891-845F-54E31D9E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E06-B1BB-4E81-B274-BBAFB03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C45-51D6-4D37-B6E2-555D1FD6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C65-71AC-43F5-A53D-5FAA5BC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6EC2-B2E7-4C74-9431-86D24DBEB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46960" y="4029120"/>
            <a:ext cx="2425680" cy="28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46560" y="4187880"/>
            <a:ext cx="187776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2200" y="2230560"/>
            <a:ext cx="2450880" cy="35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 </dc:creator>
  <dc:description/>
  <dc:language>en-US</dc:language>
  <cp:lastModifiedBy> </cp:lastModifiedBy>
  <dcterms:modified xsi:type="dcterms:W3CDTF">2014-03-21T14:57:32Z</dcterms:modified>
  <cp:revision>27</cp:revision>
  <dc:subject/>
  <dc:title>Nuclear Bombs</dc:title>
</cp:coreProperties>
</file>