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0637-528B-418D-AF54-E630E80E9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7EE0-0A1F-4A46-91C8-E44239C6CD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11F-5A9A-4D4C-86AA-5FC1EAB5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B6F-7806-46EE-B44F-307AFDFD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3A8-E64A-43E3-BD07-280D999D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98D-1592-48B6-92D2-DD353CF8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C8DC-B735-4A5A-83F9-572CDB5F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498B-1166-489C-BBC7-F6CF3666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F0FE-6547-4DF9-AB6B-0E9CDEA7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D494-1A3F-4700-AE7A-62D0C034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9862-65CB-4B9F-8FAE-95B56371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E97A-842A-48AB-88D0-2A0D5988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915B-49B2-48DB-ACA9-15D3A2B2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792-2D29-43A4-9A24-E3AB3ECA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DA94-45FF-49D8-A06F-4E18C6CB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35C1-1769-45A8-A9E4-DB22C790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5CC4-7562-4F06-9E91-448E6856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6684-9935-437A-BDBE-4D979B55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D753-72C9-4650-B16F-229E406B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5A0AA-0981-46DE-8250-8BF12597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B4B0B-ABE5-4FFA-B02E-4543FBCE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FF95-EA56-4386-9770-79154DCE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6315C-8280-462E-B492-DAC8B394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ADA1-3353-43DA-95FA-8A934A6B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ADB-EEA1-47DC-AD60-F07B7267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A7916-FB5E-4E02-9635-C4AF2CB6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6A76F-DBB0-4C25-B8D6-4D2DDE91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9EDE1-8F53-43C8-982F-C36ABC51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218E0-2976-49D5-B5A4-49977F19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22FAF-666B-4C42-BCBA-0BA3D6F3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5D42A-5397-4D23-887E-1CE1D721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770B3-443F-4F95-9FC2-F59A31BC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1A9F6-BD1F-4EFB-AB0A-050993A2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8A90F-25E5-4061-A13E-2C296D9C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52261-0908-4120-A898-CCD66AC4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483-E1D9-4873-B0B8-AADCA2DE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58809-C380-4B07-B7F0-0B2B7CB3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BEFD-A17F-422A-9DE2-C3A02778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E1832-10FB-4452-BC07-49C31A2C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DDD57-5A7E-488D-874A-528EC5C8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116FF-A4B7-44E0-B67A-E475DFF1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98FCF-D14F-419E-B425-51A423F3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7DFAC-360D-47C6-89A6-64BF2C6E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FC16D-88F3-434C-B899-292FEF11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B8B9E-7FAF-4EA3-9978-CE425A25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BEF27-2C11-4F2E-8C95-69221D61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D54-E4AE-4DF1-A3EC-B3EF9171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A1FC3-C605-43AF-BA44-F967229A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415CE-51E8-4A19-AAEA-AE50013C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B634D-72B1-4842-92B4-517A1EE8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4A0BB-D3A1-4A85-B4B8-B7D332B3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D77D1-1F93-41EA-B196-A487F40B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6B698-7AFC-4AE8-A93E-9E3F59C4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E4638-6974-44F0-996B-A9647974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DC62E-E9E9-4A2A-9A75-52BE5DCF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4C44F-5C89-4C32-B90B-97121075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5D1A5-8233-45E2-93CF-C3611A74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F04-C8D6-491A-8983-CA5E9740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3A964-2C8D-4DD5-B0F7-DAAAD78B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D0F88-3E96-4C0C-94F9-68BCC491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B3D97-282C-4529-8797-1D244E46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A73F6-8A1F-4BE2-815E-2534F6DA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BC02F-7799-48C6-9DC7-04213232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A7ADF-E9EA-4D3A-8188-7B3722A3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D7093-3640-4D87-8F70-4D8979D7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F8E5C-FD04-4852-84D3-7801BFA7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4D8A1-8D36-412D-A619-78C60250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B38BB-3ED9-4A6E-A835-9C3CE884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D51-9F88-4022-AA80-3D353C65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712F0-0CFF-48D3-81DA-78C6F510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6AFAE-FB53-41DE-AE16-AED45583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2C8E9-6E8B-4685-BA87-BD6F462F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75CCF-A42C-4360-8FBF-E835D5DB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A3D51-411A-44AE-B4E4-4070B822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D43C7-D015-48DF-8A5C-DA89B821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DB667-0DCB-492C-8E1A-EDF0C9B0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07488-31F4-4622-B413-D391571E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3E121-6F40-43F5-8870-36BB82C2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FA0A9-CA25-430F-B72F-168570E0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5C2-B67F-4403-9B07-6D7F138F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42FEC-5FA8-4AC5-A7CE-C20543A7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0A45A-5236-43A7-AA41-F925C781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930AB-8601-423A-ACF9-425FE171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8F0D4-E68E-4510-8B74-3F2B0772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C538E-64E2-450B-B1E6-94EB6911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68A-9D51-4440-8ACF-F4CC9D8A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07ED-6761-4E0B-B7D4-6848E8A0546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E279-B56F-48E0-8A16-B3DED790B9D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A5A0-07BA-4308-BD90-0014BDE0C83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9957-9994-4E9E-AC22-5E5E898032F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4E90-000B-45B7-B4F7-B717169BE32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1546-0673-497F-8A32-FA178275258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C0BC-8F92-4E6B-A238-0043B461B89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urc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www.cna.ca/nuclear_facts/nuclear_waste/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science.howstuffworks.com/nuclear-waste-disposal.ht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news.bbc.co.uk/2/hi/science/nature/4949096.st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         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istor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380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uclear  Waste Disposal is toxic and a radioactive byproduct  of  nuclear  medicine, nuclear  weapons  manufacturing and nuclear power plants. This type of radioactivity could last for hours to hundred of thousands of yea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5029200" y="220968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picture of Radioactive Waste Management  storage the top is front side shock absorbing cover also includes heat conductors and a external steel envel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7" descr=""/>
          <p:cNvPicPr/>
          <p:nvPr/>
        </p:nvPicPr>
        <p:blipFill>
          <a:blip r:embed="rId1"/>
          <a:stretch/>
        </p:blipFill>
        <p:spPr>
          <a:xfrm>
            <a:off x="1355760" y="1752480"/>
            <a:ext cx="3646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4953240" cy="33530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3"/>
          <p:cNvSpPr/>
          <p:nvPr/>
        </p:nvSpPr>
        <p:spPr>
          <a:xfrm>
            <a:off x="6324480" y="25146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a model of deep disposal of radioactive waste showing in depth vision of what things look li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38080" y="1747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4343400" cy="3309840"/>
          </a:xfrm>
          <a:prstGeom prst="rect">
            <a:avLst/>
          </a:prstGeom>
          <a:ln w="0">
            <a:noFill/>
          </a:ln>
        </p:spPr>
      </p:pic>
      <p:sp>
        <p:nvSpPr>
          <p:cNvPr id="390" name="TextBox 2"/>
          <p:cNvSpPr/>
          <p:nvPr/>
        </p:nvSpPr>
        <p:spPr>
          <a:xfrm>
            <a:off x="5562720" y="2514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nother way they store radioactive w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4552920" cy="34290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5867280" y="243828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make concrete ponds and the water covering the fuel assemblies provided radiation prote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6" name="Content Placeholder 3" descr="waste_disposal.jpg"/>
          <p:cNvPicPr/>
          <p:nvPr/>
        </p:nvPicPr>
        <p:blipFill>
          <a:blip r:embed="rId1"/>
          <a:stretch/>
        </p:blipFill>
        <p:spPr>
          <a:xfrm>
            <a:off x="990720" y="167652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/>
          <p:cNvSpPr/>
          <p:nvPr/>
        </p:nvSpPr>
        <p:spPr>
          <a:xfrm>
            <a:off x="5791320" y="243828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ethod used for permanent disposal of high level radioactive w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c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. High-level radioactive waste is dangerous has to be handled remotel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. Nuclear waste disposal is stored in suitable and monitored facilit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. Facilities for handling nuclear waste must be licensed by Canadian Nuclear  Safe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4.Licenses must be renewed regularly and staff has to conduct periodic inspe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5. Radioactive waste facilities are overlooked by the federal authorit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rovers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ople are concerned with long lived radioactivity of used nuclear fuel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think the radioactivity will last for thousands of years but most of radioactive fission products in used fuel have shorter half liv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adioactivity of  fuel decays have  the same level as that of original uranium ore in about 500 yea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7:56:41Z</dcterms:created>
  <dc:creator>28925</dc:creator>
  <dc:description/>
  <dc:language>en-US</dc:language>
  <cp:lastModifiedBy>ASD</cp:lastModifiedBy>
  <dcterms:modified xsi:type="dcterms:W3CDTF">2014-03-26T16:43:28Z</dcterms:modified>
  <cp:revision>29</cp:revision>
  <dc:subject/>
  <dc:title>Slide 1</dc:title>
</cp:coreProperties>
</file>