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A2E-0F3E-439A-9A8A-C589F430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E4BB-E662-4033-AD17-4067550839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87E-7DE7-4841-BD09-2AEA31AB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A94-775F-4510-8268-D9202108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35A-CE1D-4891-A01C-ABD89BCD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3B9-FC1B-4750-8E97-21299011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B19B-AABB-4F66-BA4D-6C5BBF27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C7B5-F653-44EE-A1B9-9C409303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664A-DAE1-4479-AB58-B52902D7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2FC7-9BA4-4287-820C-0F4662D5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6B7A-169E-4702-B29A-7E7A7C7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E0F2-15DE-4CF1-82A1-AFA030E0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023A-316C-47D8-9557-0593AD82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576-BC30-404C-9A4C-683656C3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C5AD-4039-4C57-815C-BA382768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71E9-B5EB-40D3-B4A3-B99522F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F68F-20C5-46C9-9582-59292674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46E8-D320-4AEA-8FAB-321C854F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4462-09AF-4714-AED6-52934DEB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01E5-9380-4193-BFC2-15A2994B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BBB6-22EB-42DB-8B83-4CA78CE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5D6F-0E50-4D32-BFB9-53BB1853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B934-B84F-4378-89EB-CD66EB22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B78F-5E7C-4712-9827-568CE380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CD2-0943-41C5-89D7-478D5E6A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1487-1D11-46B0-BB9F-0840A79A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CF74-79B0-4277-8DE5-30FF423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C7D4-EF74-4BEE-9E56-9231A237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559A-8EF6-4BEF-A3D2-2BAE033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436D-40FE-4CB2-A6B8-3AE9C1A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A2A6-8EA2-4106-9968-D63C14C0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A149-392E-4E0B-ACD9-EFE0A6CC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A9B7-AF85-4C9D-B480-2B27EBCA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8DA8-82A9-4345-B553-4756DE52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35BF-73EF-47B8-A613-F851CBBF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77D-8358-4264-993B-5547724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43BC-1261-4E15-8DB7-4C2F474D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CAFB-C4C0-45CE-880A-E9415E2D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4531-7A80-49F3-873F-E98A8FFA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00FF-81D9-43EF-92BD-50072333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0F71-6E91-47E6-9434-D574D1E1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E121-0CB7-48B9-BB56-F5575EE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C1CFA-753A-43A2-904A-BA9DADF2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25AEB-D063-40BD-9DF5-46B593FF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2E86-AAD7-47BA-9BC8-5C94FDB7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EF29C-A502-4620-85F5-9CAA134F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AEB-1229-4E23-9A39-DE510504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A95EB-7C53-44AC-B71E-5F8D2749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B0D5D-0EE7-4356-B7F7-744CC31D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A287-9872-4D0A-9901-3A01A48F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8AAF-89DC-4E23-9A91-58F6C45D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449C9-8239-45C7-B4BA-191F73C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2BE5-E8C6-4B36-A4D6-ECD70ED7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839B-F32C-454D-B648-97FDCC95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210C8-B33A-4445-BA7E-61400975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7D9C-A467-4AD0-AC72-4AD0DE3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F7D6F-690C-47A7-8D34-98FA7C5A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89B-6414-480B-8D3A-C0EECBEC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0F7A-DA9A-4AF2-B181-DA9D6ABF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359A1-2305-43F9-A3AF-F6012737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958FE-CE4A-41B9-9F1E-EA99066D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5DADE-D886-41BA-88EC-71C0BF93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7C6E-EA52-4E23-AB7F-6D81E6E2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E0604-81E6-40D5-8CD3-BC99F2DE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356F-EE97-49F3-919E-3E1D5AC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5F9F-F3A4-4B3E-9605-60EF0229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6613B-FC35-4C0C-BAE4-4DC342C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6B30-0185-49B0-BF1E-BF164FF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D05-69D0-4ACE-899A-238D5368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47960-CAA8-45BC-AB12-1816DF4A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04D9-0E48-46AF-9473-500FC242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C8E7F-BFFB-4759-ACAB-19A0FF52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155FB-94C5-4E23-8AE1-ABF1D3CB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8F418-D9FE-44A1-80C3-C7E83865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AA41B-DEDF-4634-A68B-BE0110F6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5F432-B487-497A-93E4-0DA606C7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8146-A173-415A-86CA-F2E47AB8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1B688-856B-482C-A3A7-6CD0568C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B454-67DD-495E-AD6F-0E3AF8B9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473-C4B8-4A93-8F41-ACE7DB0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36C4E-9F93-4C9B-BCF2-DAA7E730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DFACD-569F-4788-8D16-1AEA284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22B0-891D-4A6B-8ACB-7BAAD33D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AED0-1985-4F91-AA07-881848D8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98AE7-88DB-41B4-B011-CD3C7CA3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104-3A57-408E-A5B0-397849B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53A5-E834-4C8A-B9E1-F729CAD2958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0985-2BB9-495D-9066-A26B5675CA1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76FC-859B-4D14-B666-FF229A43831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8B52-94E3-4D72-AF55-057F7478DC8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AE56-EE4D-4054-8CDD-46427383D93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DCEA-2D31-47C5-AB6C-2731B2774A8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5B68-94DE-41FE-9E98-991D91A73E5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urc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www.cna.ca/nuclear_facts/nuclear_waste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science.howstuffworks.com/nuclear-waste-disposal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news.bbc.co.uk/2/hi/science/nature/4949096.s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isto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80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uclear  Waste Disposal is toxic and a radioactive byproduct  of  nuclear  medicine, nuclear  weapons  manufacturing and nuclear power plants. This type of radioactivity could last for hours to hundred of thousands of ye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029200" y="22096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Radioactive Waste Management  storage the top is front side shock absorbing cover also includes heat conductors and a external steel enve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1355760" y="17524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953240" cy="33530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6324480" y="25146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a model of deep disposal of radioactive waste showing in depth vision of what things look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47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343400" cy="3309840"/>
          </a:xfrm>
          <a:prstGeom prst="rect">
            <a:avLst/>
          </a:prstGeom>
          <a:ln w="0">
            <a:noFill/>
          </a:ln>
        </p:spPr>
      </p:pic>
      <p:sp>
        <p:nvSpPr>
          <p:cNvPr id="390" name="TextBox 2"/>
          <p:cNvSpPr/>
          <p:nvPr/>
        </p:nvSpPr>
        <p:spPr>
          <a:xfrm>
            <a:off x="55627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other way they store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455292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5867280" y="24382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make concrete ponds and the water covering the fuel assemblies provided radiation prot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Content Placeholder 3" descr="waste_disposal.jpg"/>
          <p:cNvPicPr/>
          <p:nvPr/>
        </p:nvPicPr>
        <p:blipFill>
          <a:blip r:embed="rId1"/>
          <a:stretch/>
        </p:blipFill>
        <p:spPr>
          <a:xfrm>
            <a:off x="990720" y="167652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5791320" y="243828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ethod used for permanent disposal of high level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High-level radioactive waste is dangerous has to be handled remote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Nuclear waste disposal is stored in suitable and monitored faci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Facilities for handling nuclear waste must be licensed by Canadian Nuclear  Safe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.Licenses must be renewed regularly and staff has to conduct periodic inspe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5. Radioactive waste facilities are overlooked by the federal authori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rovers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ople are concerned with long lived radioactivity of used nuclear fuel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think the radioactivity will last for thousands of years but most of radioactive fission products in used fuel have shorter half liv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oactivity of  fuel decays have  the same level as that of original uranium ore in about 500 ye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7:56:41Z</dcterms:created>
  <dc:creator>28925</dc:creator>
  <dc:description/>
  <dc:language>en-US</dc:language>
  <cp:lastModifiedBy>ASD</cp:lastModifiedBy>
  <dcterms:modified xsi:type="dcterms:W3CDTF">2014-03-26T16:43:28Z</dcterms:modified>
  <cp:revision>29</cp:revision>
  <dc:subject/>
  <dc:title>Slide 1</dc:title>
</cp:coreProperties>
</file>