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5AC-E4D2-4161-B0E5-3A6AC4E2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B0D-B292-422E-B40F-2A0B909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651-2D01-4D15-9BF3-FE845EE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40F-0490-459B-B433-1140F5F4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B86-FEE5-4557-B777-D40D597E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2F1-A17E-41EE-886B-E6784C42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EA4-5CFB-4414-8BE6-D6BEF097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98C6-88CD-477F-B6C0-1FF6A3E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41C4-EEF6-4C9F-8094-096DD4D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BFB-6F2A-4D54-A146-9F90F9E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F35A-6C97-4B28-8194-5B8ABD3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BAA-E8CB-4BFC-A337-7A2761C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A22-EABA-4653-A8C7-4D4017A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81A6-547A-4763-9E20-0AFA23E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81D-0E56-414C-A41F-6C52FA7B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342-CB13-46C3-B839-35BF17D8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9CF4-F42A-4D49-9BEB-54E6B975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B07A-401F-41C0-AD51-954C6265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E9A6-8DE5-4B88-A4C3-80FF70AA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358B-AC25-484E-820F-ECF7473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963C6-637B-4F37-9791-E62EC30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1DBF-03AB-47E5-8F7A-FA8AA55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532-1FB7-477F-B04E-E038EF3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0C40-DE22-4F25-8479-42B586E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E337-2D94-429F-8602-9F56115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F45F-8E3A-43ED-B81D-8EFC9E54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799D-1458-4BC2-A6B0-6BE1A3F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8992-E8CB-4CA0-BEBA-C8064009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AA1F-B76C-4DD1-B78A-757BFF6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DF52-D624-4FA4-8170-847F932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93B9-B6FD-4CE5-AF11-A8720827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3D5B-CE34-4E80-99E3-AB72B55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1E3DC-4AF6-480C-9721-955E025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0D4-691C-4792-8129-E33C78F8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07C2-0CE7-454E-B86C-2FED5DD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DFC1-2B24-4862-9A6D-32D56AF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0032-AFF7-4D02-A7D7-9C0AD48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F489-2BA8-4E9A-B714-187B1877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4223-3D80-442E-A166-75B49BA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71AA-656F-463C-A022-8480A97E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7A7C-4D9E-4A73-9A53-08470BA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6277-23B1-4FC0-B8FA-3B9EFF26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23935-B8FD-4647-A42F-A29042F3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9AEFA-D0FA-45AC-AFD7-9F03B016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8E1-9B7C-49B8-9EB1-04D0B5AC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B34F-805F-4E88-95EB-6BE1A2D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9E1BA-8EE2-4EEE-B297-3ECEC05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CF7F-1B25-4E29-9D53-72F95F90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A365-00A9-48EB-B13B-287D593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8624-4C52-47C5-91FB-72E442A0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AFA5-D887-4C1B-A499-1D47EFF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26E97-C35A-41DA-A71F-AD8A2CF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B98A5-29EA-45D2-B325-30B369E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D43B-1598-4B2B-8D69-96703FE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624A-36D4-45F5-A279-1F11D827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74C-5D2D-4A89-B566-531CA6B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0B53-05CD-4138-8AE7-BA82B1B4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EAF-8B99-45A5-AA67-977ACBE9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266-6C80-49B8-BF84-E28D2FD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C72-8966-4A8B-84C6-62BCE4C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B880-ED0E-413C-8998-A0D5BB738AD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5C2F-2242-4A25-80F7-91271EC9805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DB5-5B63-4CC8-B116-ECB9259AF1B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531-1198-4533-999D-8AB557454D7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BC4-4F4E-419A-BBFA-F5D22E15CCF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com/url?q=http://inweekly.net/wordpress/%3Fp%3D4302&amp;sa=U&amp;ei=iDErU5G3M-SW0QGdnIGABQ&amp;ved=0CEEQ9QEwCg&amp;usg=AFQjCNGMMEnK_9SACTpA2-1iMW4_cOTfkw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s://www.google.com/url?q=http://themoderatevoice.com/103592/in-the-wake-of-japan%25E2%2580%2599s-earthquaketsunami-nuclear-power-plant-concerns/&amp;sa=U&amp;ei=iDErU5G3M-SW0QGdnIGABQ&amp;ved=0CFkQ9QEwFg&amp;usg=AFQjCNE_-kAZTFWkflYCoFI7l5y6LiW5JA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s://www.google.com/url?q=http://www.pennenergy.com/articles/pennenergy/2013/02/duke-energy-announces-closure-of-florida-nuclear-power-plant.html&amp;sa=U&amp;ei=iDErU5G3M-SW0QGdnIGABQ&amp;ved=0CH0Q9QEwKA&amp;usg=AFQjCNG1DUdZPUMArTxHZfQGNvx9gpsY0A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s://www.google.com/url?q=http://blog.panampost.com/frank-worley-lopez/2013/09/16/the-case-for-nuclear-power-in-puerto-rico/&amp;sa=U&amp;ei=iDErU5G3M-SW0QGdnIGABQ&amp;ved=0CHsQ9QEwJw&amp;usg=AFQjCNFCYYxKGH47VnnQ5JApJq1yLClqcA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triplepundit.com/2009/02/nuclear-energy-pros-and-cons/" TargetMode="External"/><Relationship Id="rId3" Type="http://schemas.openxmlformats.org/officeDocument/2006/relationships/hyperlink" Target="https://www.dosomething.org/tipsandtools/11-facts-about-nuclear-energ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6991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Thai Tayl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t was discovered in 1789  by martin klaporth, he was German chemis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plants uses fissio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comes form nonrenewable substanc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very 18 to 24 months the power plant shuts down to make radioactive was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1 in 5 households and business in the u.s uses nuclear power energ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merican uses almost 2,000 tons of radioactive waste each yea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ore than 70% of Americas emission-free power comes form nuclear energy sourc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uclear power is being used in over 30 countries around the worl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ng construction time, plus higher cost due to complex radiation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known ris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e lasts 200-500 thousand yea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get for terror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carbon dioxide and other green house ga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 nuclear waste can be recycl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operating co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rge power generating capacity able to meet the industrial and city nee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572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s://encrypted-tbn0.gstatic.com/images?q=tbn:ANd9GcQ20-KAIJqhE2kjma3mVFzmxIyUUXluhKcm3OlsHJ1bf22bGoFmL7hT709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541600" cy="191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s://encrypted-tbn1.gstatic.com/images?q=tbn:ANd9GcTt9P44knRMNtUANe_6hoG1Fc8GwKosm4KuQ-naiWYFN0InrGqlF2Ri6olG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1447920"/>
            <a:ext cx="250956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s://encrypted-tbn1.gstatic.com/images?q=tbn:ANd9GcQMg-47CJdK_xeFpSG1hDYj6W0gKqUpv5ItkhItCaZj0zx1xl_X7MAjQN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4038480"/>
            <a:ext cx="3048120" cy="229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s://encrypted-tbn2.gstatic.com/images?q=tbn:ANd9GcR0UUydt2kachy7IGOCH4KhBYwsWj7LoVvnLJC_w2zWp1CbdxOYu91_ys7-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14800" y="403848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triplepundit.com/2009/02/nuclear-energy-pros-and-co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https://www.dosomething.org/tipsandtools/11-facts-about-nuclear-ener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themoderatevoice.com/103592/in-the-wake-of-japan%E2%80%99s-earthquaketsunami-nuclear-power-plant-concerns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blog.panampost.com/frank-worley-lopez/2013/09/16/the-case-for-nuclear-power-in-puerto-rico/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inweekly.net/wordpress/?p=430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.wikipedia.org/wiki/Gundremmingen_Nuclear_Power_Pl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5:00Z</dcterms:created>
  <dc:creator> </dc:creator>
  <dc:description/>
  <dc:language>en-US</dc:language>
  <cp:lastModifiedBy> </cp:lastModifiedBy>
  <dcterms:modified xsi:type="dcterms:W3CDTF">2014-03-21T18:32:51Z</dcterms:modified>
  <cp:revision>17</cp:revision>
  <dc:subject/>
  <dc:title>Radioisotopes</dc:title>
</cp:coreProperties>
</file>