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7FD-5552-4E61-97E0-616B9395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2C2-40D0-41AC-B2AB-D91BD53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D91-12CF-4A50-90EF-601F7DC3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F7D-97E6-41F3-A841-945738A8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DC1-933B-4518-81FC-8B48A337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52E1-E431-4CD2-B3DA-834DCE85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28B4-0D8B-4495-9B51-30C883A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9750-09A4-483F-86A4-C84AF3F3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F870-07BE-4DBF-9B98-6BB2FCA2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21DB-CE3B-4980-9EC7-C093F17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823D-4CBA-4BEB-93E5-184BB6C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AE5-2E88-465D-BDFF-E4B44A8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E77-10A5-4EA5-A136-9703F7B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7FF-90FA-4619-BCEC-A088AFB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FF68-71D2-48A8-9A76-5D12835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263D-6DCB-4B58-90E6-B9006086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42BA-FEAF-424E-A89C-4B9E8B9F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C209-B19B-4CBC-992E-E838C628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A523-44A2-4D17-A9B9-0EDB596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ED5B-9AC1-4E44-A32E-8F5E0144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F38D-EE4B-4B09-9911-98AC60C0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805B-3CBF-4E18-BFF7-7FF74206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4D3-9163-4B52-A99C-1746FF7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378D-5997-4978-8726-BC1D6AA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A911-F3E7-4FCD-BCA6-9110A79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A049-5B56-4B9E-A67D-BF4A32E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443D-F217-49CA-9617-512354D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A6FF-6694-4D66-AFE4-0A47E91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E5CA-6374-4A06-AE4B-A533887B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6406-7BA8-4EDE-B653-BD7690C2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19EF-AFF5-4C4E-A931-FAB4D527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1797-22B5-45F6-B421-5EF4ECDC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4B4A-60CF-400B-9BBC-81DAFCF9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555-3080-4158-8977-A9C5ADB6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A7B8-C1EB-4A28-8A36-A458555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F407-A513-475D-AF18-9BF9E8B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2104-D739-42E6-BBE9-E300F70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26EC-6B83-40F3-BD7F-32B8D11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066F-21F3-478B-8264-5A4C8C1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9AA6-3D54-4810-A47F-E6D35660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CC9B-7B23-4014-A3BD-6BE0140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9651-A06A-4AFE-8C70-97CE68E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D860-DA22-42C6-943D-3B2EC4E4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B5DF-38A3-4466-AF6E-8B856A57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9CD-3AD6-4D92-A52A-0855BBB4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7DC2-212B-4749-94BC-A580704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0B2C-1AA9-4B0F-A07F-ADAA79C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A79E-B1D3-409A-8AAC-81866E06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F8CF-9011-4199-B305-C9CF92AA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161C-56ED-49BF-B311-6B6EA36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DDB2-D3C2-4277-B43E-BBCD300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6B54-2CEE-4DE8-8912-78B896B7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7D27-42C6-4959-BFF2-710450C7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C458-3179-4F68-B5CD-3E8A2267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BCC3-6BF9-415F-BD9A-E5C528BD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5C8-3FCA-4780-B08C-C33F1B9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8C631-56BB-4147-8275-2129E815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815-77FB-4C9A-99F3-A9613590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E18-58EB-4003-9398-D3101FB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3CB-8450-4ED3-8282-3378BD6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399-8DEE-459D-98A9-0AC4044CF6B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04B2-E963-4DA4-8973-43A184506BB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4F21-A3AF-4219-AD56-4A9571390D7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23C-1883-4A58-8EA7-7CC0E4E087FE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F590-7B6A-4F68-B6FB-151741FAF81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com/url?q=http://inweekly.net/wordpress/%3Fp%3D4302&amp;sa=U&amp;ei=iDErU5G3M-SW0QGdnIGABQ&amp;ved=0CEEQ9QEwCg&amp;usg=AFQjCNGMMEnK_9SACTpA2-1iMW4_cOTfkw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s://www.google.com/url?q=http://themoderatevoice.com/103592/in-the-wake-of-japan%25E2%2580%2599s-earthquaketsunami-nuclear-power-plant-concerns/&amp;sa=U&amp;ei=iDErU5G3M-SW0QGdnIGABQ&amp;ved=0CFkQ9QEwFg&amp;usg=AFQjCNE_-kAZTFWkflYCoFI7l5y6LiW5JA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s://www.google.com/url?q=http://www.pennenergy.com/articles/pennenergy/2013/02/duke-energy-announces-closure-of-florida-nuclear-power-plant.html&amp;sa=U&amp;ei=iDErU5G3M-SW0QGdnIGABQ&amp;ved=0CH0Q9QEwKA&amp;usg=AFQjCNG1DUdZPUMArTxHZfQGNvx9gpsY0A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s://www.google.com/url?q=http://blog.panampost.com/frank-worley-lopez/2013/09/16/the-case-for-nuclear-power-in-puerto-rico/&amp;sa=U&amp;ei=iDErU5G3M-SW0QGdnIGABQ&amp;ved=0CHsQ9QEwJw&amp;usg=AFQjCNFCYYxKGH47VnnQ5JApJq1yLClqcA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triplepundit.com/2009/02/nuclear-energy-pros-and-cons/" TargetMode="External"/><Relationship Id="rId3" Type="http://schemas.openxmlformats.org/officeDocument/2006/relationships/hyperlink" Target="https://www.dosomething.org/tipsandtools/11-facts-about-nuclear-energ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6991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Thai Tayl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t was discovered in 1789  by martin klaporth, he was German chemis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plants uses fiss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comes form nonrenewable substanc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very 18 to 24 months the power plant shuts down to make radioactive was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 in 5 households and business in the u.s uses nuclear power energ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merican uses almost 2,000 tons of radioactive waste each ye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ore than 70% of Americas emission-free power comes form nuclear energy sourc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is being used in over 30 countries around the worl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ng construction time, plus higher cost due to complex radiation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known ris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e lasts 200-500 thousand ye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get for terror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carbon dioxide and other green house ga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 nuclear waste can be recycl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operating co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rge power generating capacity able to meet the industrial and city nee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s://encrypted-tbn0.gstatic.com/images?q=tbn:ANd9GcQ20-KAIJqhE2kjma3mVFzmxIyUUXluhKcm3OlsHJ1bf22bGoFmL7hT709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541600" cy="191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s://encrypted-tbn1.gstatic.com/images?q=tbn:ANd9GcTt9P44knRMNtUANe_6hoG1Fc8GwKosm4KuQ-naiWYFN0InrGqlF2Ri6olG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447920"/>
            <a:ext cx="250956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s://encrypted-tbn1.gstatic.com/images?q=tbn:ANd9GcQMg-47CJdK_xeFpSG1hDYj6W0gKqUpv5ItkhItCaZj0zx1xl_X7MAjQN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0384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s://encrypted-tbn2.gstatic.com/images?q=tbn:ANd9GcR0UUydt2kachy7IGOCH4KhBYwsWj7LoVvnLJC_w2zWp1CbdxOYu91_ys7-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403848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triplepundit.com/2009/02/nuclear-energy-pros-and-co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s://www.dosomething.org/tipsandtools/11-facts-about-nuclear-ener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themoderatevoice.com/103592/in-the-wake-of-japan%E2%80%99s-earthquaketsunami-nuclear-power-plant-concer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blog.panampost.com/frank-worley-lopez/2013/09/16/the-case-for-nuclear-power-in-puerto-rico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inweekly.net/wordpress/?p=430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.wikipedia.org/wiki/Gundremmingen_Nuclear_Power_Pl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5:00Z</dcterms:created>
  <dc:creator> </dc:creator>
  <dc:description/>
  <dc:language>en-US</dc:language>
  <cp:lastModifiedBy> </cp:lastModifiedBy>
  <dcterms:modified xsi:type="dcterms:W3CDTF">2014-03-21T18:32:51Z</dcterms:modified>
  <cp:revision>17</cp:revision>
  <dc:subject/>
  <dc:title>Radioisotopes</dc:title>
</cp:coreProperties>
</file>