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EA98E-14B4-43F3-AB28-908AA3C7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B002-D6EA-474C-A3F2-A07D45EE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9498-0EDA-42E2-B800-8C07E0C40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6AFD5-3688-4DB3-9C8D-B42DC71DC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AC7A1-77D3-45DA-8954-1DC254A3A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CA61E-C6C1-48AD-AFA1-FF46DC054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D104-960F-4F10-8E46-5A700345D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2407A-205B-48FA-9912-D0857E95F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ECD0E-2B31-4B79-8153-2EF25720B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F19D8-07E5-4BCB-9298-11642214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4017-FA49-4660-B5F1-AE369CCC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D4CC-842C-412B-B1D7-BE73CD358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C5EF-EBE3-4207-AEC2-C6C66E1160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uclearfiles.org/menu/key-issues/nuclear-weapons/history/prez_policies/truman/truman_events.htm" TargetMode="External"/><Relationship Id="rId2" Type="http://schemas.openxmlformats.org/officeDocument/2006/relationships/hyperlink" Target="http://www.military.com/video/nuclear-bombs/nuclear-weapons/ultimate-nuclear-bomb-experience/665070386001/" TargetMode="External"/><Relationship Id="rId3" Type="http://schemas.openxmlformats.org/officeDocument/2006/relationships/hyperlink" Target="http://www.dailymail.co.uk/news/article-2279699/Russian-bombers-US-scrambles-jet-fighters-Russian-nuclear-bombers-circle-airspace-Guam.html"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s</a:t>
            </a:r>
            <a:r>
              <a:rPr b="1"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2" name="Picture Placeholder 6" descr="little_boy_bomb.jpg"/>
          <p:cNvPicPr/>
          <p:nvPr/>
        </p:nvPicPr>
        <p:blipFill>
          <a:blip r:embed="rId1"/>
          <a:srcRect l="9716" t="0" r="9716" b="0"/>
          <a:stretch/>
        </p:blipFill>
        <p:spPr>
          <a:xfrm>
            <a:off x="152280" y="609480"/>
            <a:ext cx="8839440" cy="4114800"/>
          </a:xfrm>
          <a:prstGeom prst="rect">
            <a:avLst/>
          </a:prstGeom>
          <a:ln w="0">
            <a:noFill/>
          </a:ln>
        </p:spPr>
      </p:pic>
      <p:sp>
        <p:nvSpPr>
          <p:cNvPr id="4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y: Bryan Kirb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History with Nuk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has spent over 35,100,000,000 dollars on nukes, and nuke related programs such as safety and u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Picture Before Explosion</a:t>
            </a:r>
            <a:endParaRPr b="0" lang="en-US" sz="2000" spc="-1" strike="noStrike">
              <a:solidFill>
                <a:srgbClr val="000000"/>
              </a:solidFill>
              <a:latin typeface="Calibri"/>
            </a:endParaRPr>
          </a:p>
        </p:txBody>
      </p:sp>
      <p:pic>
        <p:nvPicPr>
          <p:cNvPr id="66" name="Content Placeholder 4" descr="atomic-bomb-test.jpg"/>
          <p:cNvPicPr/>
          <p:nvPr/>
        </p:nvPicPr>
        <p:blipFill>
          <a:blip r:embed="rId1"/>
          <a:stretch/>
        </p:blipFill>
        <p:spPr>
          <a:xfrm>
            <a:off x="4454640" y="0"/>
            <a:ext cx="4689360" cy="4267080"/>
          </a:xfrm>
          <a:prstGeom prst="rect">
            <a:avLst/>
          </a:prstGeom>
          <a:ln w="0">
            <a:noFill/>
          </a:ln>
        </p:spPr>
      </p:pic>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Explosion After</a:t>
            </a:r>
            <a:endParaRPr b="0" lang="en-US" sz="2000" spc="-1" strike="noStrike">
              <a:solidFill>
                <a:srgbClr val="000000"/>
              </a:solidFill>
              <a:latin typeface="Calibri"/>
            </a:endParaRPr>
          </a:p>
        </p:txBody>
      </p:sp>
      <p:pic>
        <p:nvPicPr>
          <p:cNvPr id="69" name="Picture Placeholder 7" descr="H21.jpg"/>
          <p:cNvPicPr/>
          <p:nvPr/>
        </p:nvPicPr>
        <p:blipFill>
          <a:blip r:embed="rId1"/>
          <a:srcRect l="0" t="17072" r="0" b="17072"/>
          <a:stretch/>
        </p:blipFill>
        <p:spPr>
          <a:xfrm>
            <a:off x="1792440" y="612720"/>
            <a:ext cx="5486400" cy="4114800"/>
          </a:xfrm>
          <a:prstGeom prst="rect">
            <a:avLst/>
          </a:prstGeom>
          <a:ln w="0">
            <a:noFill/>
          </a:ln>
        </p:spPr>
      </p:pic>
      <p:sp>
        <p:nvSpPr>
          <p:cNvPr id="7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alibri"/>
              </a:rPr>
              <a:t>This is a link toward a compilation </a:t>
            </a:r>
            <a:endParaRPr b="0" lang="en-US" sz="2000" spc="-1" strike="noStrike">
              <a:solidFill>
                <a:srgbClr val="000000"/>
              </a:solidFill>
              <a:latin typeface="Calibri"/>
            </a:endParaRPr>
          </a:p>
        </p:txBody>
      </p:sp>
      <p:pic>
        <p:nvPicPr>
          <p:cNvPr id="72" name="Picture Placeholder 4" descr="nukeeee.jpg"/>
          <p:cNvPicPr/>
          <p:nvPr/>
        </p:nvPicPr>
        <p:blipFill>
          <a:blip r:embed="rId1"/>
          <a:srcRect l="8333" t="0" r="8333" b="0"/>
          <a:stretch/>
        </p:blipFill>
        <p:spPr>
          <a:xfrm>
            <a:off x="1828800" y="609480"/>
            <a:ext cx="5486400" cy="4114800"/>
          </a:xfrm>
          <a:prstGeom prst="rect">
            <a:avLst/>
          </a:prstGeom>
          <a:ln w="0">
            <a:noFill/>
          </a:ln>
        </p:spPr>
      </p:pic>
      <p:sp>
        <p:nvSpPr>
          <p:cNvPr id="7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military.com/video/nuclear-bombs/nuclear-weapons/ultimate-nuclear-bomb-experience/665070386001/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are pro-nuke, and some people against them. They are useful because they can take out an enemy is a quick time and leave severe damage, and it could end a war. But the thing is while ending the war and saving our people, it kills millions of civilians who have nothing to do with the war. It can also leave after effects and kill people over time in the next gene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is a Russian plane carrying a nuke.</a:t>
            </a:r>
            <a:endParaRPr b="0" lang="en-US" sz="2000" spc="-1" strike="noStrike">
              <a:solidFill>
                <a:srgbClr val="000000"/>
              </a:solidFill>
              <a:latin typeface="Calibri"/>
            </a:endParaRPr>
          </a:p>
        </p:txBody>
      </p:sp>
      <p:pic>
        <p:nvPicPr>
          <p:cNvPr id="47" name="Picture Placeholder 7" descr="plane.jpg"/>
          <p:cNvPicPr/>
          <p:nvPr/>
        </p:nvPicPr>
        <p:blipFill>
          <a:blip r:embed="rId1"/>
          <a:srcRect l="4995" t="0" r="4995" b="0"/>
          <a:stretch/>
        </p:blipFill>
        <p:spPr>
          <a:xfrm>
            <a:off x="1792440" y="612720"/>
            <a:ext cx="5486400" cy="4114800"/>
          </a:xfrm>
          <a:prstGeom prst="rect">
            <a:avLst/>
          </a:prstGeom>
          <a:ln w="0">
            <a:noFill/>
          </a:ln>
        </p:spPr>
      </p:pic>
      <p:sp>
        <p:nvSpPr>
          <p:cNvPr id="4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51920" y="1218960"/>
            <a:ext cx="8991720" cy="15238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1"/>
              </a:rPr>
              <a:t>http://www.nuclearfiles.org/menu/key-issues/nuclear-weapons/history/prez_policies/truman/truman_events.htm</a:t>
            </a:r>
            <a:r>
              <a:rPr b="0" lang="en-US" sz="800" spc="-1" strike="noStrike">
                <a:solidFill>
                  <a:srgbClr val="898989"/>
                </a:solidFill>
                <a:latin typeface="Calibri"/>
              </a:rPr>
              <a:t> </a:t>
            </a:r>
            <a:r>
              <a:rPr b="0" lang="en-US" sz="800" spc="-1" strike="noStrike">
                <a:solidFill>
                  <a:srgbClr val="898989"/>
                </a:solidFill>
                <a:latin typeface="Calibri"/>
              </a:rPr>
              <a:t>	</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atomicarchive.com/History/twocities/nagasaki/image3.shtml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2"/>
              </a:rPr>
              <a:t>http://www.military.com/video/nuclear-bombs/nuclear-weapons/ultimate-nuclear-bomb-experience/665070386001/</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123rf.com/photo_9708617_grunge-retro-vintage-rusty-old-paper-radiation-nuke-background.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3"/>
              </a:rPr>
              <a:t>http://www.dailymail.co.uk/news/article-2279699/Russian-bombers-US-scrambles-jet-fighters-Russian-nuclear-bombers-circle-airspace-Guam.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r>
              <a:rPr b="0" lang="en-US" sz="800" spc="-1" strike="noStrike">
                <a:solidFill>
                  <a:srgbClr val="898989"/>
                </a:solidFill>
                <a:latin typeface="Calibri"/>
              </a:rPr>
              <a:t>http://www.brookings.edu/about/projects/archive/nucweapons/50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 name="Rectangle 6"/>
          <p:cNvSpPr/>
          <p:nvPr/>
        </p:nvSpPr>
        <p:spPr>
          <a:xfrm>
            <a:off x="-152280" y="205740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ttp://www.shmoop.com/wwii/photo-atomic-bomb-tes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Nuke sign.</a:t>
            </a:r>
            <a:endParaRPr b="0" lang="en-US" sz="2000" spc="-1" strike="noStrike">
              <a:solidFill>
                <a:srgbClr val="000000"/>
              </a:solidFill>
              <a:latin typeface="Calibri"/>
            </a:endParaRPr>
          </a:p>
        </p:txBody>
      </p:sp>
      <p:pic>
        <p:nvPicPr>
          <p:cNvPr id="53" name="Picture Placeholder 6" descr="nuke signn.jpg"/>
          <p:cNvPicPr/>
          <p:nvPr/>
        </p:nvPicPr>
        <p:blipFill>
          <a:blip r:embed="rId1"/>
          <a:srcRect l="0" t="12501" r="0" b="12501"/>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nukes explode a lot of radiation and harmful chemicals get released into the air that can damage the well being of anything that is liv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ffects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ukes go off not only do the cause direct damage, but the harmful chemicals can stay in the air for decades and can cause radiation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al Attributes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moke is thick And grey. When it explodes it looks  like a mushroom. The highest one ever recorded was in Russia and it was 40 miles hi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of Nukes Buil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45-1990 over 70,000 nukes were built, and over 65 different types were built. Obviously not every one was used but some are still ac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8:01:48Z</dcterms:created>
  <dc:creator>20769</dc:creator>
  <dc:description/>
  <dc:language>en-US</dc:language>
  <cp:lastModifiedBy>ASD</cp:lastModifiedBy>
  <dcterms:modified xsi:type="dcterms:W3CDTF">2014-03-24T12:18:35Z</dcterms:modified>
  <cp:revision>14</cp:revision>
  <dc:subject/>
  <dc:title>Nuclear Bombs</dc:title>
</cp:coreProperties>
</file>