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E72-3DB0-4009-8499-AFC7B555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410-C8CF-48ED-A0D0-882188C7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A25-62C4-4500-A499-75C6C023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452-5102-41EE-9F54-2932938F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AB8-01B5-4DCD-960D-11E1CF46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A72-FD17-4B4B-9ED4-4E8C3446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322-4510-4F18-BF7A-62C0F4D9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22E-45E1-4662-8327-1FA5B192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95F-F348-4ACA-855E-BA2FC401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A61-17A3-4916-B2B9-A73B2933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8A7-D83F-484D-9DD0-F9561A7B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A00-C8FE-45B4-AC5A-2E329B36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7888-1B1A-4F4F-9EE1-3961671AC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Nuclear Bomb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Ashley Land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uice ITC"/>
              </a:rPr>
              <a:t>What are the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8954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 bomb whose force is due to uncontrolled nuclear fusion or nuclear f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ey’re weapons of mass destr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What’s needed to make a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259092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encrypted-tbn0.gstatic.com/images?q=tbn:ANd9GcQQ4AcbMs2LzBWO29ZWTE6OP9dQmonMLM0yPEs22M7vPja8oMVZmA"/>
          <p:cNvPicPr/>
          <p:nvPr/>
        </p:nvPicPr>
        <p:blipFill>
          <a:blip r:embed="rId1"/>
          <a:stretch/>
        </p:blipFill>
        <p:spPr>
          <a:xfrm>
            <a:off x="762120" y="3962520"/>
            <a:ext cx="228600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1.jpg"/>
          <p:cNvPicPr/>
          <p:nvPr/>
        </p:nvPicPr>
        <p:blipFill>
          <a:blip r:embed="rId2"/>
          <a:stretch/>
        </p:blipFill>
        <p:spPr>
          <a:xfrm>
            <a:off x="6324480" y="3657600"/>
            <a:ext cx="2351160" cy="223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ho invented the nuclear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nest Rutherford in 191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1932 Sir John Cockcroft and Ernest Walton were the 1st to cause a nuclear rea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rico Fermi was the first to fission urani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National First Font Dotted"/>
              </a:rPr>
              <a:t>Atomic Bomb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rst Atomic bomb was made at the end of the WW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26,000 atomic bombs have been made by various 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Atomic bomb facts First atomic bomb1 10 Interesting Atomic Bomb Facts"/>
          <p:cNvPicPr/>
          <p:nvPr/>
        </p:nvPicPr>
        <p:blipFill>
          <a:blip r:embed="rId1"/>
          <a:stretch/>
        </p:blipFill>
        <p:spPr>
          <a:xfrm>
            <a:off x="5638680" y="4419720"/>
            <a:ext cx="1752840" cy="170496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ational First Font Dotted"/>
              </a:rPr>
              <a:t>Pros &amp; C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 can help with defending you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obody can predict how much dangerous the world will become when there would be no nuclear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se of nuclear weapons is imm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ore the number of nuclear weapons made, more are the risks it poses to human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n3.jpg"/>
          <p:cNvPicPr/>
          <p:nvPr/>
        </p:nvPicPr>
        <p:blipFill>
          <a:blip r:embed="rId1"/>
          <a:stretch/>
        </p:blipFill>
        <p:spPr>
          <a:xfrm>
            <a:off x="609480" y="762120"/>
            <a:ext cx="2610000" cy="17524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" name="Picture 6" descr="n2.jpg"/>
          <p:cNvPicPr/>
          <p:nvPr/>
        </p:nvPicPr>
        <p:blipFill>
          <a:blip r:embed="rId2"/>
          <a:stretch/>
        </p:blipFill>
        <p:spPr>
          <a:xfrm>
            <a:off x="6553080" y="4035600"/>
            <a:ext cx="2414880" cy="2798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n5.jpg"/>
          <p:cNvPicPr/>
          <p:nvPr/>
        </p:nvPicPr>
        <p:blipFill>
          <a:blip r:embed="rId3"/>
          <a:stretch/>
        </p:blipFill>
        <p:spPr>
          <a:xfrm>
            <a:off x="139680" y="4406760"/>
            <a:ext cx="2322360" cy="232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n4.jpg"/>
          <p:cNvPicPr/>
          <p:nvPr/>
        </p:nvPicPr>
        <p:blipFill>
          <a:blip r:embed="rId4"/>
          <a:stretch/>
        </p:blipFill>
        <p:spPr>
          <a:xfrm>
            <a:off x="3352680" y="4194000"/>
            <a:ext cx="1865520" cy="244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n6.jpg"/>
          <p:cNvPicPr/>
          <p:nvPr/>
        </p:nvPicPr>
        <p:blipFill>
          <a:blip r:embed="rId5"/>
          <a:stretch/>
        </p:blipFill>
        <p:spPr>
          <a:xfrm>
            <a:off x="4108320" y="2236680"/>
            <a:ext cx="2444760" cy="3548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n7.jpg"/>
          <p:cNvPicPr/>
          <p:nvPr/>
        </p:nvPicPr>
        <p:blipFill>
          <a:blip r:embed="rId6">
            <a:grayscl/>
          </a:blip>
          <a:stretch/>
        </p:blipFill>
        <p:spPr>
          <a:xfrm>
            <a:off x="6172200" y="228600"/>
            <a:ext cx="2590920" cy="176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ictionary.reference.com/browse/nuclear+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nfactcollaborative.com/wp-content/uploads/2011/11/Atomic-bomb-facts-First-atomic-bomb1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ilverbearcafe.com/beartracks/uranium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n.wikipedia.org/wiki/Mark_7_nuclear_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3:56Z</dcterms:created>
  <dc:creator>26789</dc:creator>
  <dc:description/>
  <dc:language>en-US</dc:language>
  <cp:lastModifiedBy>ASD</cp:lastModifiedBy>
  <dcterms:modified xsi:type="dcterms:W3CDTF">2014-03-25T15:07:04Z</dcterms:modified>
  <cp:revision>28</cp:revision>
  <dc:subject/>
  <dc:title>Nuclear Bombs</dc:title>
</cp:coreProperties>
</file>