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5FEE-979B-479C-AA7B-5CB8A69E8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2809-34B5-4557-8362-5A53A5610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5564-722C-4F3D-82DA-E5FEA6D8C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7BB7-4C3E-4B4A-A9DC-A6E6E4E0A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9E26-5134-4166-BE85-32C7D7FD9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59D3-FFA5-4017-A989-AB15675BF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6AF8-8421-4A04-A3C6-26E128378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CD8E-CA4C-4040-B358-684860807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DEAB-5EC7-4702-A898-F2ECE5C86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BC01-47DF-446B-B0D2-3557DEBA0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CC33-B886-4F31-B6D1-79B8F9BC4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8446-366A-4731-9439-07E6B7DA9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10DE1-9743-4AD6-A1C7-EC87A629E2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Haettenschweiler"/>
              </a:rPr>
              <a:t>Nuclear Bombs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y: Ashley Land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Juice ITC"/>
              </a:rPr>
              <a:t>What are they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914400" y="2895480"/>
            <a:ext cx="73915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ootlight MT Light"/>
              </a:rPr>
              <a:t>A bomb whose force is due to uncontrolled nuclear fusion or nuclear fis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ootlight MT Light"/>
              </a:rPr>
              <a:t>They’re weapons of mass destruc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aettenschweiler"/>
              </a:rPr>
              <a:t>What’s needed to make a bomb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276720" y="2590920"/>
            <a:ext cx="31240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utoni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rani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https://encrypted-tbn0.gstatic.com/images?q=tbn:ANd9GcQQ4AcbMs2LzBWO29ZWTE6OP9dQmonMLM0yPEs22M7vPja8oMVZmA"/>
          <p:cNvPicPr/>
          <p:nvPr/>
        </p:nvPicPr>
        <p:blipFill>
          <a:blip r:embed="rId1"/>
          <a:stretch/>
        </p:blipFill>
        <p:spPr>
          <a:xfrm>
            <a:off x="762120" y="3962520"/>
            <a:ext cx="2286000" cy="17431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48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0" descr="1.jpg"/>
          <p:cNvPicPr/>
          <p:nvPr/>
        </p:nvPicPr>
        <p:blipFill>
          <a:blip r:embed="rId2"/>
          <a:stretch/>
        </p:blipFill>
        <p:spPr>
          <a:xfrm>
            <a:off x="6324480" y="3657600"/>
            <a:ext cx="2351160" cy="22384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Who invented the nuclear bomb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22860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rnest Rutherford in 1919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n 1932 Sir John Cockcroft and Ernest Walton were the 1st to cause a nuclear reaction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nrico Fermi was the first to fission uranium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National First Font Dotted"/>
              </a:rPr>
              <a:t>Atomic Bomb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205740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First Atomic bomb was made at the end of the WW2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26,000 atomic bombs have been made by various count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Atomic bomb facts First atomic bomb1 10 Interesting Atomic Bomb Facts"/>
          <p:cNvPicPr/>
          <p:nvPr/>
        </p:nvPicPr>
        <p:blipFill>
          <a:blip r:embed="rId1"/>
          <a:stretch/>
        </p:blipFill>
        <p:spPr>
          <a:xfrm>
            <a:off x="5638680" y="4419720"/>
            <a:ext cx="1752840" cy="1704960"/>
          </a:xfrm>
          <a:prstGeom prst="rect">
            <a:avLst/>
          </a:prstGeom>
          <a:ln cap="sq" w="444600">
            <a:solidFill>
              <a:srgbClr val="000000"/>
            </a:solidFill>
            <a:miter/>
          </a:ln>
          <a:effectLst>
            <a:outerShdw dist="190409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National First Font Dotted"/>
              </a:rPr>
              <a:t>Pros &amp; Con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85800" y="11430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Pro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They can help with defending your coun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Nobody can predict how much dangerous the world will become when there would be no nuclear bomb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Con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Use of nuclear weapons is immor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More the number of nuclear weapons made, more are the risks it poses to human lif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n3.jpg"/>
          <p:cNvPicPr/>
          <p:nvPr/>
        </p:nvPicPr>
        <p:blipFill>
          <a:blip r:embed="rId1"/>
          <a:stretch/>
        </p:blipFill>
        <p:spPr>
          <a:xfrm>
            <a:off x="609480" y="762120"/>
            <a:ext cx="2610000" cy="1752480"/>
          </a:xfrm>
          <a:prstGeom prst="rect">
            <a:avLst/>
          </a:prstGeom>
          <a:ln cap="sq" w="444600">
            <a:solidFill>
              <a:srgbClr val="000000"/>
            </a:solidFill>
            <a:miter/>
          </a:ln>
          <a:effectLst>
            <a:outerShdw dist="190409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61" name="Picture 6" descr="n2.jpg"/>
          <p:cNvPicPr/>
          <p:nvPr/>
        </p:nvPicPr>
        <p:blipFill>
          <a:blip r:embed="rId2"/>
          <a:stretch/>
        </p:blipFill>
        <p:spPr>
          <a:xfrm>
            <a:off x="6553080" y="4035600"/>
            <a:ext cx="2414880" cy="27986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n5.jpg"/>
          <p:cNvPicPr/>
          <p:nvPr/>
        </p:nvPicPr>
        <p:blipFill>
          <a:blip r:embed="rId3"/>
          <a:stretch/>
        </p:blipFill>
        <p:spPr>
          <a:xfrm>
            <a:off x="139680" y="4406760"/>
            <a:ext cx="2322360" cy="23227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8" descr="n4.jpg"/>
          <p:cNvPicPr/>
          <p:nvPr/>
        </p:nvPicPr>
        <p:blipFill>
          <a:blip r:embed="rId4"/>
          <a:stretch/>
        </p:blipFill>
        <p:spPr>
          <a:xfrm>
            <a:off x="3352680" y="4194000"/>
            <a:ext cx="1865520" cy="24447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9" descr="n6.jpg"/>
          <p:cNvPicPr/>
          <p:nvPr/>
        </p:nvPicPr>
        <p:blipFill>
          <a:blip r:embed="rId5"/>
          <a:stretch/>
        </p:blipFill>
        <p:spPr>
          <a:xfrm>
            <a:off x="4108320" y="2236680"/>
            <a:ext cx="2444760" cy="35481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0" descr="n7.jpg"/>
          <p:cNvPicPr/>
          <p:nvPr/>
        </p:nvPicPr>
        <p:blipFill>
          <a:blip r:embed="rId6">
            <a:grayscl/>
          </a:blip>
          <a:stretch/>
        </p:blipFill>
        <p:spPr>
          <a:xfrm>
            <a:off x="6172200" y="228600"/>
            <a:ext cx="2590920" cy="17622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orks Cited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dictionary.reference.com/browse/nuclear+bom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infactcollaborative.com/wp-content/uploads/2011/11/Atomic-bomb-facts-First-atomic-bomb1.jp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silverbearcafe.com/beartracks/uranium.ph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en.wikipedia.org/wiki/Mark_7_nuclear_bom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7T14:23:56Z</dcterms:created>
  <dc:creator>26789</dc:creator>
  <dc:description/>
  <dc:language>en-US</dc:language>
  <cp:lastModifiedBy>ASD</cp:lastModifiedBy>
  <dcterms:modified xsi:type="dcterms:W3CDTF">2014-03-25T15:07:04Z</dcterms:modified>
  <cp:revision>28</cp:revision>
  <dc:subject/>
  <dc:title>Nuclear Bombs</dc:title>
</cp:coreProperties>
</file>