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DDE-1187-4C93-B923-6665733B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A85-98CE-4A7D-87B1-23C066D4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BE0-DD77-40E3-9711-4DDD5183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3493-813C-4C4B-834D-38DB43EE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3B7-7D56-490E-97D3-D6EB3817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819-C646-45E2-AD5C-2DDC5FA2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58A-7F60-4563-9ACF-D1A2C95A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C3D-D647-4495-9FF0-73591B56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CF4D-0A21-41F3-8DCD-BD419F22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47B-C915-4297-98AA-36A61824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C8D-0CA8-4B36-9753-144CA6DC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AB2-2DF8-43DC-BAA8-DD23CB8C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A04B-1C1E-4846-A47D-21754AA6E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Nuclear Bomb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Ashley Land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uice ITC"/>
              </a:rPr>
              <a:t>What are the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28954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A bomb whose force is due to uncontrolled nuclear fusion or nuclear f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hey’re weapons of mass destru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What’s needed to make a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76720" y="2590920"/>
            <a:ext cx="3124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s://encrypted-tbn0.gstatic.com/images?q=tbn:ANd9GcQQ4AcbMs2LzBWO29ZWTE6OP9dQmonMLM0yPEs22M7vPja8oMVZmA"/>
          <p:cNvPicPr/>
          <p:nvPr/>
        </p:nvPicPr>
        <p:blipFill>
          <a:blip r:embed="rId1"/>
          <a:stretch/>
        </p:blipFill>
        <p:spPr>
          <a:xfrm>
            <a:off x="762120" y="3962520"/>
            <a:ext cx="2286000" cy="174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1.jpg"/>
          <p:cNvPicPr/>
          <p:nvPr/>
        </p:nvPicPr>
        <p:blipFill>
          <a:blip r:embed="rId2"/>
          <a:stretch/>
        </p:blipFill>
        <p:spPr>
          <a:xfrm>
            <a:off x="6324480" y="3657600"/>
            <a:ext cx="2351160" cy="2238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Who invented the nuclear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rnest Rutherford in 191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1932 Sir John Cockcroft and Ernest Walton were the 1st to cause a nuclear reac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rico Fermi was the first to fission uraniu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National First Font Dotted"/>
              </a:rPr>
              <a:t>Atomic Bomb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rst Atomic bomb was made at the end of the WW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26,000 atomic bombs have been made by various 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Atomic bomb facts First atomic bomb1 10 Interesting Atomic Bomb Facts"/>
          <p:cNvPicPr/>
          <p:nvPr/>
        </p:nvPicPr>
        <p:blipFill>
          <a:blip r:embed="rId1"/>
          <a:stretch/>
        </p:blipFill>
        <p:spPr>
          <a:xfrm>
            <a:off x="5638680" y="4419720"/>
            <a:ext cx="1752840" cy="170496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ational First Font Dotted"/>
              </a:rPr>
              <a:t>Pros &amp; C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 can help with defending you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obody can predict how much dangerous the world will become when there would be no nuclear b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Use of nuclear weapons is imm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ore the number of nuclear weapons made, more are the risks it poses to human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n3.jpg"/>
          <p:cNvPicPr/>
          <p:nvPr/>
        </p:nvPicPr>
        <p:blipFill>
          <a:blip r:embed="rId1"/>
          <a:stretch/>
        </p:blipFill>
        <p:spPr>
          <a:xfrm>
            <a:off x="609480" y="762120"/>
            <a:ext cx="2610000" cy="175248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" name="Picture 6" descr="n2.jpg"/>
          <p:cNvPicPr/>
          <p:nvPr/>
        </p:nvPicPr>
        <p:blipFill>
          <a:blip r:embed="rId2"/>
          <a:stretch/>
        </p:blipFill>
        <p:spPr>
          <a:xfrm>
            <a:off x="6553080" y="4035600"/>
            <a:ext cx="2414880" cy="2798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n5.jpg"/>
          <p:cNvPicPr/>
          <p:nvPr/>
        </p:nvPicPr>
        <p:blipFill>
          <a:blip r:embed="rId3"/>
          <a:stretch/>
        </p:blipFill>
        <p:spPr>
          <a:xfrm>
            <a:off x="139680" y="4406760"/>
            <a:ext cx="2322360" cy="232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n4.jpg"/>
          <p:cNvPicPr/>
          <p:nvPr/>
        </p:nvPicPr>
        <p:blipFill>
          <a:blip r:embed="rId4"/>
          <a:stretch/>
        </p:blipFill>
        <p:spPr>
          <a:xfrm>
            <a:off x="3352680" y="4194000"/>
            <a:ext cx="1865520" cy="244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n6.jpg"/>
          <p:cNvPicPr/>
          <p:nvPr/>
        </p:nvPicPr>
        <p:blipFill>
          <a:blip r:embed="rId5"/>
          <a:stretch/>
        </p:blipFill>
        <p:spPr>
          <a:xfrm>
            <a:off x="4108320" y="2236680"/>
            <a:ext cx="2444760" cy="3548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n7.jpg"/>
          <p:cNvPicPr/>
          <p:nvPr/>
        </p:nvPicPr>
        <p:blipFill>
          <a:blip r:embed="rId6">
            <a:grayscl/>
          </a:blip>
          <a:stretch/>
        </p:blipFill>
        <p:spPr>
          <a:xfrm>
            <a:off x="6172200" y="228600"/>
            <a:ext cx="2590920" cy="1762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ictionary.reference.com/browse/nuclear+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infactcollaborative.com/wp-content/uploads/2011/11/Atomic-bomb-facts-First-atomic-bomb1.jp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silverbearcafe.com/beartracks/uranium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n.wikipedia.org/wiki/Mark_7_nuclear_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23:56Z</dcterms:created>
  <dc:creator>26789</dc:creator>
  <dc:description/>
  <dc:language>en-US</dc:language>
  <cp:lastModifiedBy>ASD</cp:lastModifiedBy>
  <dcterms:modified xsi:type="dcterms:W3CDTF">2014-03-25T15:07:04Z</dcterms:modified>
  <cp:revision>28</cp:revision>
  <dc:subject/>
  <dc:title>Nuclear Bombs</dc:title>
</cp:coreProperties>
</file>