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8DE-0FC2-42BB-8F31-360210D7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1E6-AC79-42D5-BF42-7679BE3C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D24-53E3-4041-B66B-020DBC85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E11-DE7B-4CB2-BBA8-E4D5D6B7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10B-C91A-4619-B120-09D9548E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78A-25C0-4722-9EFF-7715322B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7C9-E168-4D20-9D92-4F4979CA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7CAA-F3EE-4372-AC6E-9DB0FEB3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CA1-68C3-43B3-8084-727543F2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B7B-C3FC-4AC2-A2EF-9E0E0DE3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418-2035-46F0-9C07-0A7DDD4D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C5F-A5FA-47AA-B6A1-17FB034F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1962-6659-4100-AB3F-0A3520C9E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Nuclear Bom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shley Lan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What are the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8954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 bomb whose force is due to uncontrolled nuclear fusion or nuclear f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ey’re weapons of mass de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What’s needed to make a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5909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encrypted-tbn0.gstatic.com/images?q=tbn:ANd9GcQQ4AcbMs2LzBWO29ZWTE6OP9dQmonMLM0yPEs22M7vPja8oMVZmA"/>
          <p:cNvPicPr/>
          <p:nvPr/>
        </p:nvPicPr>
        <p:blipFill>
          <a:blip r:embed="rId1"/>
          <a:stretch/>
        </p:blipFill>
        <p:spPr>
          <a:xfrm>
            <a:off x="762120" y="3962520"/>
            <a:ext cx="228600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1.jpg"/>
          <p:cNvPicPr/>
          <p:nvPr/>
        </p:nvPicPr>
        <p:blipFill>
          <a:blip r:embed="rId2"/>
          <a:stretch/>
        </p:blipFill>
        <p:spPr>
          <a:xfrm>
            <a:off x="6324480" y="3657600"/>
            <a:ext cx="2351160" cy="22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o invented the nuclear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nest Rutherford in 19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1932 Sir John Cockcroft and Ernest Walton were the 1st to cause a nuclear rea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rico Fermi was the first to fission urani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National First Font Dotted"/>
              </a:rPr>
              <a:t>Atomic Bomb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rst Atomic bomb was made at the end of the WW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26,000 atomic bombs have been made by various 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Atomic bomb facts First atomic bomb1 10 Interesting Atomic Bomb Facts"/>
          <p:cNvPicPr/>
          <p:nvPr/>
        </p:nvPicPr>
        <p:blipFill>
          <a:blip r:embed="rId1"/>
          <a:stretch/>
        </p:blipFill>
        <p:spPr>
          <a:xfrm>
            <a:off x="5638680" y="4419720"/>
            <a:ext cx="1752840" cy="17049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ational First Font Dotted"/>
              </a:rPr>
              <a:t>Pros &amp; C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 can help with defending you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obody can predict how much dangerous the world will become when there would be no nuclear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e of nuclear weapons is imm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re the number of nuclear weapons made, more are the risks it poses to human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n3.jpg"/>
          <p:cNvPicPr/>
          <p:nvPr/>
        </p:nvPicPr>
        <p:blipFill>
          <a:blip r:embed="rId1"/>
          <a:stretch/>
        </p:blipFill>
        <p:spPr>
          <a:xfrm>
            <a:off x="609480" y="762120"/>
            <a:ext cx="2610000" cy="1752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6" descr="n2.jpg"/>
          <p:cNvPicPr/>
          <p:nvPr/>
        </p:nvPicPr>
        <p:blipFill>
          <a:blip r:embed="rId2"/>
          <a:stretch/>
        </p:blipFill>
        <p:spPr>
          <a:xfrm>
            <a:off x="6546960" y="4029120"/>
            <a:ext cx="2425680" cy="28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5.jpg"/>
          <p:cNvPicPr/>
          <p:nvPr/>
        </p:nvPicPr>
        <p:blipFill>
          <a:blip r:embed="rId3"/>
          <a:stretch/>
        </p:blipFill>
        <p:spPr>
          <a:xfrm>
            <a:off x="139680" y="4406760"/>
            <a:ext cx="2328840" cy="23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n4.jpg"/>
          <p:cNvPicPr/>
          <p:nvPr/>
        </p:nvPicPr>
        <p:blipFill>
          <a:blip r:embed="rId4"/>
          <a:stretch/>
        </p:blipFill>
        <p:spPr>
          <a:xfrm>
            <a:off x="3346560" y="4187880"/>
            <a:ext cx="1877760" cy="24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n6.jpg"/>
          <p:cNvPicPr/>
          <p:nvPr/>
        </p:nvPicPr>
        <p:blipFill>
          <a:blip r:embed="rId5"/>
          <a:stretch/>
        </p:blipFill>
        <p:spPr>
          <a:xfrm>
            <a:off x="4102200" y="2230560"/>
            <a:ext cx="2450880" cy="355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n7.jpg"/>
          <p:cNvPicPr/>
          <p:nvPr/>
        </p:nvPicPr>
        <p:blipFill>
          <a:blip r:embed="rId6">
            <a:grayscl/>
          </a:blip>
          <a:stretch/>
        </p:blipFill>
        <p:spPr>
          <a:xfrm>
            <a:off x="6172200" y="228600"/>
            <a:ext cx="2590920" cy="176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ctionary.reference.com/browse/nuclear+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nfactcollaborative.com/wp-content/uploads/2011/11/Atomic-bomb-facts-First-atomic-bomb1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ilverbearcafe.com/beartracks/uraniu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Mark_7_nuclear_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3:56Z</dcterms:created>
  <dc:creator> </dc:creator>
  <dc:description/>
  <dc:language>en-US</dc:language>
  <cp:lastModifiedBy> </cp:lastModifiedBy>
  <dcterms:modified xsi:type="dcterms:W3CDTF">2014-03-21T14:57:32Z</dcterms:modified>
  <cp:revision>27</cp:revision>
  <dc:subject/>
  <dc:title>Nuclear Bombs</dc:title>
</cp:coreProperties>
</file>