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D07-6B93-41C8-917C-6C4C208C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AE6-5190-49F3-97C8-3F766A9E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628-3C6F-4E2D-8AE8-E67F41BE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96D-C69F-4014-ABA2-B2381760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5B0-6BBD-4E95-A13F-0F5A201D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C49-0F15-4290-A5FC-F8C6A181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17A-AABA-4D8A-BD3C-8F892E0A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DEB-CA40-4F4B-B0DA-4C3110A6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DFB-96DD-4125-A317-F303B92C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F57-6DD3-499F-B24C-53983A0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76F-DDE1-40B0-93A3-320BA70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276-FC72-4E31-8385-A0F21E6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867-146E-4AE7-AF0D-A5EC8DE0B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46960" y="4029120"/>
            <a:ext cx="2425680" cy="28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46560" y="4187880"/>
            <a:ext cx="187776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2200" y="2230560"/>
            <a:ext cx="2450880" cy="35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 </dc:creator>
  <dc:description/>
  <dc:language>en-US</dc:language>
  <cp:lastModifiedBy> </cp:lastModifiedBy>
  <dcterms:modified xsi:type="dcterms:W3CDTF">2014-03-21T14:57:32Z</dcterms:modified>
  <cp:revision>27</cp:revision>
  <dc:subject/>
  <dc:title>Nuclear Bombs</dc:title>
</cp:coreProperties>
</file>