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B57-D7A4-4F6A-9690-56A96E27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0BC-AC91-4952-80BD-3855E042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C82-6424-4A47-8413-538641E2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0A34-4C5E-42A3-8B75-5849EBFC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519-D351-4D81-B1FF-37ADC986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713-EBA0-407A-AC21-936AE1B5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868-D05A-4D2C-90A9-0B383097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C82-9553-4338-858A-7181BFFE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C3DE-562E-4455-9A15-084BD8D4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524-A167-459C-A8B5-074EA70F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234-E990-4F57-873D-6923E4CE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BBA-02B5-41BB-8F16-D69F9273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DEAA-66C0-4A14-AAB2-4D620EF21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Nuclear Bomb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: Ashley Land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uice ITC"/>
              </a:rPr>
              <a:t>What are the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8954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 bomb whose force is due to uncontrolled nuclear fusion or nuclear f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hey’re weapons of mass destru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What’s needed to make a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76720" y="259092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s://encrypted-tbn0.gstatic.com/images?q=tbn:ANd9GcQQ4AcbMs2LzBWO29ZWTE6OP9dQmonMLM0yPEs22M7vPja8oMVZmA"/>
          <p:cNvPicPr/>
          <p:nvPr/>
        </p:nvPicPr>
        <p:blipFill>
          <a:blip r:embed="rId1"/>
          <a:stretch/>
        </p:blipFill>
        <p:spPr>
          <a:xfrm>
            <a:off x="762120" y="3962520"/>
            <a:ext cx="2286000" cy="17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1.jpg"/>
          <p:cNvPicPr/>
          <p:nvPr/>
        </p:nvPicPr>
        <p:blipFill>
          <a:blip r:embed="rId2"/>
          <a:stretch/>
        </p:blipFill>
        <p:spPr>
          <a:xfrm>
            <a:off x="6324480" y="3657600"/>
            <a:ext cx="2351160" cy="2238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Who invented the nuclear bom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rnest Rutherford in 191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1932 Sir John Cockcroft and Ernest Walton were the 1st to cause a nuclear rea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rico Fermi was the first to fission urani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National First Font Dotted"/>
              </a:rPr>
              <a:t>Atomic Bomb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rst Atomic bomb was made at the end of the WW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26,000 atomic bombs have been made by various 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Atomic bomb facts First atomic bomb1 10 Interesting Atomic Bomb Facts"/>
          <p:cNvPicPr/>
          <p:nvPr/>
        </p:nvPicPr>
        <p:blipFill>
          <a:blip r:embed="rId1"/>
          <a:stretch/>
        </p:blipFill>
        <p:spPr>
          <a:xfrm>
            <a:off x="5638680" y="4419720"/>
            <a:ext cx="1752840" cy="170496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ational First Font Dotted"/>
              </a:rPr>
              <a:t>Pros &amp; C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y can help with defending you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obody can predict how much dangerous the world will become when there would be no nuclear b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Use of nuclear weapons is imm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ore the number of nuclear weapons made, more are the risks it poses to human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n3.jpg"/>
          <p:cNvPicPr/>
          <p:nvPr/>
        </p:nvPicPr>
        <p:blipFill>
          <a:blip r:embed="rId1"/>
          <a:stretch/>
        </p:blipFill>
        <p:spPr>
          <a:xfrm>
            <a:off x="609480" y="762120"/>
            <a:ext cx="2610000" cy="17524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" name="Picture 6" descr="n2.jpg"/>
          <p:cNvPicPr/>
          <p:nvPr/>
        </p:nvPicPr>
        <p:blipFill>
          <a:blip r:embed="rId2"/>
          <a:stretch/>
        </p:blipFill>
        <p:spPr>
          <a:xfrm>
            <a:off x="6546960" y="4029120"/>
            <a:ext cx="2425680" cy="28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n5.jpg"/>
          <p:cNvPicPr/>
          <p:nvPr/>
        </p:nvPicPr>
        <p:blipFill>
          <a:blip r:embed="rId3"/>
          <a:stretch/>
        </p:blipFill>
        <p:spPr>
          <a:xfrm>
            <a:off x="139680" y="4406760"/>
            <a:ext cx="2328840" cy="2328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n4.jpg"/>
          <p:cNvPicPr/>
          <p:nvPr/>
        </p:nvPicPr>
        <p:blipFill>
          <a:blip r:embed="rId4"/>
          <a:stretch/>
        </p:blipFill>
        <p:spPr>
          <a:xfrm>
            <a:off x="3346560" y="4187880"/>
            <a:ext cx="1877760" cy="245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n6.jpg"/>
          <p:cNvPicPr/>
          <p:nvPr/>
        </p:nvPicPr>
        <p:blipFill>
          <a:blip r:embed="rId5"/>
          <a:stretch/>
        </p:blipFill>
        <p:spPr>
          <a:xfrm>
            <a:off x="4102200" y="2230560"/>
            <a:ext cx="2450880" cy="355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n7.jpg"/>
          <p:cNvPicPr/>
          <p:nvPr/>
        </p:nvPicPr>
        <p:blipFill>
          <a:blip r:embed="rId6">
            <a:grayscl/>
          </a:blip>
          <a:stretch/>
        </p:blipFill>
        <p:spPr>
          <a:xfrm>
            <a:off x="6172200" y="228600"/>
            <a:ext cx="2590920" cy="1762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ictionary.reference.com/browse/nuclear+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infactcollaborative.com/wp-content/uploads/2011/11/Atomic-bomb-facts-First-atomic-bomb1.j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ilverbearcafe.com/beartracks/uranium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n.wikipedia.org/wiki/Mark_7_nuclear_b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23:56Z</dcterms:created>
  <dc:creator> </dc:creator>
  <dc:description/>
  <dc:language>en-US</dc:language>
  <cp:lastModifiedBy> </cp:lastModifiedBy>
  <dcterms:modified xsi:type="dcterms:W3CDTF">2014-03-21T14:57:32Z</dcterms:modified>
  <cp:revision>27</cp:revision>
  <dc:subject/>
  <dc:title>Nuclear Bombs</dc:title>
</cp:coreProperties>
</file>