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305E-5956-4F63-BB3B-1F47B217B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48C3-C2AA-43D5-85C9-AA29B48EDF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31BC-A642-400E-AA7E-823EC863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4BC-F88C-4883-B775-F662AA4B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5922-7313-4758-984B-F8C3A79C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9928-AF6E-44C3-B8C5-E852DA8C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E8FD-1242-4170-B863-895477E7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E4C5-81C9-4A97-B948-E23F5A61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282A-4E33-412E-96D8-D287659D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270A-3C78-4D60-ADC9-A8A518FF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B592-558B-42BD-A02C-5E3557D8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7AC7-22EF-44FD-A954-A6BC9317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315D-F111-4926-AAE6-46737898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7AD8-069A-486A-8ACD-403CBC3D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A798-64F8-4F73-AEA2-ACB1F9BD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09A0-2BDD-48CE-8FF5-43F8C39A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7705-DA59-4587-97DB-8C27D8B4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1774-1EC1-44B3-9F39-D4BC9DF3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BA4D-A6CC-4C4E-8264-91250B00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A4159-6E81-40A2-8642-E615DD4F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55F4A-19E8-495C-A68E-8B273D72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1F319-B761-40A1-B4F1-2A9446E8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52F64-6813-4883-AE3A-FEFC7937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FBFF8-19BD-49AF-9DC4-E79F0A94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9975-816F-4CF8-BED4-B4BF1DE2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0B954-0F67-4A46-9A3E-7F5FC12D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35D89-3189-4554-9A90-78223746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DAE69-B537-4F41-A8D1-7069AEC2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BBC5E-D013-426A-BAC9-6C01883F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EC088-6616-47F1-AE1F-CB8125F2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48AF9-8ABC-41D4-A4E3-AC3E6545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1ED63-E4CD-4D32-BD27-70C22CB4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E80E0-A3E2-4AAC-A846-5F819DC7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E88E0-7D03-4804-B417-01C48D3A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2FED1-0779-4EC9-A9B9-6B91DFE5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B85-D3E8-41B2-8B52-EE01718E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19FE5-B95A-4F70-9C70-F9F0050C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0E730-0A2A-42F7-B651-157E9F42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2ECA7-647C-4CF6-B8D5-AA988D7E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428D9-3677-43BC-86CD-60E7DB57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943A4-341E-4407-9654-C3A39B78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FE49B-A3EC-4AAC-BAC2-E8E5CCBC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F3983-791D-4670-ADF4-00C2DB8F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ED03A-BFA7-425A-BDBA-13276E5B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B535A-74FD-4F46-A738-E710B1A3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3FD03-DF60-4566-8520-012DD171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781-F761-4820-A777-B73B4216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E291E-C5A0-4B65-AEAB-C17A6076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17459-7571-4D1C-8D22-5900B867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0F668-11D0-4AAA-B3EC-35CD8EAC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440A7-800A-427B-9D70-AF635C7A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813C0-40E9-49DE-9F31-1CB38461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1E740-5EE4-4046-8E24-5325B10A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B6B2C-92A8-4BBD-873E-4D22BB18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CB5BD-5CA3-4D20-926F-6C389121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B6632-023C-4E16-8A7D-BF96E84F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CDD7A-9F83-4E09-9328-A9786517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EF4-F0F6-42C5-8EBD-920323A7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9C48D-E5FA-498E-BB00-067D2CE5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3DBE0-3CAE-463D-8F24-F2564C2D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4CC5A-9DB8-4940-8D34-3BD854CC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DE3C2-D2A7-489E-8BF8-93005361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29FC5-6E99-4530-ADC8-31849B98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CEB18-D7BD-4B66-B373-60F953F7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83BFD-DF96-4AD1-A85E-C5AA0ADF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60F96-A442-4883-A7FB-8AED01DE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D4D72-2830-4276-B4C4-549E8B15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29E5E-6183-4020-8CC2-9791D800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DCB-1F8C-4752-BDDB-83672AE2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05EF4-BCB8-46E4-B2A8-D622F55C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71AA5-4426-47C3-913F-B579CA2A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05E47-94A4-4DBE-B780-8DBE9BB3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762F6-FC69-486C-8BB4-9BC864CC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0BC8B-1A21-4460-A3D3-9916F452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5A80A-1832-443C-A192-5D8D8500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396C3-E4F9-4590-B520-A9D95F3D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4BEBE-231D-448D-A6EF-672A3C99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3EFE9-E5E9-4668-9B2A-A711A036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1E157-CDD7-49BA-ABB3-9DB7942D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6774-8F77-4EDC-A307-7B68A71B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5F7CE-EBBB-4B5D-AC2B-7DBC444F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24C44-8A62-4221-B492-178ADB50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FF92F-7A3B-4F02-B43A-4BFC8590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70554-A436-476C-8409-987A5E5C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F32F0-12E8-4B70-BE3C-3B5681D2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3D8-6EF9-495E-97D1-8F36919E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AF61-9AB3-4A4C-AE88-705409C43D0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3347-4A1F-4E37-A430-47AFB798F69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18BE-2F64-4E3A-A5D0-98223992037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1103-EBA4-468A-A12D-C5D38407AD1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E9F7-7D39-4C0A-9EAE-4144CD4CF59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2CC0-C1DE-4DD9-B5D0-D419AE9AC90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C885-6421-4253-8036-016B10B9D96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urc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www.cna.ca/nuclear_facts/nuclear_waste/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science.howstuffworks.com/nuclear-waste-disposal.ht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news.bbc.co.uk/2/hi/science/nature/4949096.st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         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istor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3808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uclear  Waste Disposal is toxic and a radioactive byproduct  of  nuclear  medicine, nuclear  weapons  manufacturing and nuclear power plants. This type of radioactivity could last for hours to hundred of thousands of year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5029200" y="220968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picture of Radioactive Waste Management  storage the top is front side shock absorbing cover also includes heat conductors and a external steel envel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7" descr=""/>
          <p:cNvPicPr/>
          <p:nvPr/>
        </p:nvPicPr>
        <p:blipFill>
          <a:blip r:embed="rId1"/>
          <a:stretch/>
        </p:blipFill>
        <p:spPr>
          <a:xfrm>
            <a:off x="1355760" y="1752480"/>
            <a:ext cx="3646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4953240" cy="3353040"/>
          </a:xfrm>
          <a:prstGeom prst="rect">
            <a:avLst/>
          </a:prstGeom>
          <a:ln w="0">
            <a:noFill/>
          </a:ln>
        </p:spPr>
      </p:pic>
      <p:sp>
        <p:nvSpPr>
          <p:cNvPr id="386" name="TextBox 3"/>
          <p:cNvSpPr/>
          <p:nvPr/>
        </p:nvSpPr>
        <p:spPr>
          <a:xfrm>
            <a:off x="6324480" y="251460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a model of deep disposal of radioactive waste showing in depth vision of what things look li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838080" y="1747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4343400" cy="3309840"/>
          </a:xfrm>
          <a:prstGeom prst="rect">
            <a:avLst/>
          </a:prstGeom>
          <a:ln w="0">
            <a:noFill/>
          </a:ln>
        </p:spPr>
      </p:pic>
      <p:sp>
        <p:nvSpPr>
          <p:cNvPr id="390" name="TextBox 2"/>
          <p:cNvSpPr/>
          <p:nvPr/>
        </p:nvSpPr>
        <p:spPr>
          <a:xfrm>
            <a:off x="5562720" y="25146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nother way they store radioactive was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4552920" cy="34290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5867280" y="243828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make concrete ponds and the water covering the fuel assemblies provided radiation prote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6" name="Content Placeholder 3" descr="waste_disposal.jpg"/>
          <p:cNvPicPr/>
          <p:nvPr/>
        </p:nvPicPr>
        <p:blipFill>
          <a:blip r:embed="rId1"/>
          <a:stretch/>
        </p:blipFill>
        <p:spPr>
          <a:xfrm>
            <a:off x="990720" y="167652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4"/>
          <p:cNvSpPr/>
          <p:nvPr/>
        </p:nvSpPr>
        <p:spPr>
          <a:xfrm>
            <a:off x="5791320" y="2438280"/>
            <a:ext cx="18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ethod used for permanent disposal of high level radioactive was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ac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. High-level radioactive waste is dangerous has to be handled remotel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2. Nuclear waste disposal is stored in suitable and monitored faciliti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3. Facilities for handling nuclear waste must be licensed by Canadian Nuclear  Safe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4.Licenses must be renewed regularly and staff has to conduct periodic inspec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5. Radioactive waste facilities are overlooked by the federal authorit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rovers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eople are concerned with long lived radioactivity of used nuclear fuel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think the radioactivity will last for thousands of years but most of radioactive fission products in used fuel have shorter half liv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adioactivity of  fuel decays have  the same level as that of original uranium ore in about 500 yea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7:56:41Z</dcterms:created>
  <dc:creator>28925</dc:creator>
  <dc:description/>
  <dc:language>en-US</dc:language>
  <cp:lastModifiedBy>ASD</cp:lastModifiedBy>
  <dcterms:modified xsi:type="dcterms:W3CDTF">2014-03-26T16:43:28Z</dcterms:modified>
  <cp:revision>29</cp:revision>
  <dc:subject/>
  <dc:title>Slide 1</dc:title>
</cp:coreProperties>
</file>