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FEC6-0B98-4CF1-978C-4B7AF32F3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237D-E014-4DB8-8023-B5758A26A7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0BA-8160-4CF5-962E-A6F15B6E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A3C-0708-4A48-92B6-A263C593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886-7372-4A08-A44A-AC41A293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E1A-FFC6-4651-A7A6-F8975553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AFF2-263B-4AA8-B5CA-5F95B9D2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6478-009C-48BE-96FF-DF2994AA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4BFC-7471-45A7-BF21-0C3EA8E3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EA0A-D1C3-4EFE-8FDD-D8FDE4AF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1D2C-5A7B-40C6-84ED-1B808DBC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D54E-8F34-4D01-B4B7-10FDD20E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6E7E-8F6A-4BB5-B15A-038ECE08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FD1-1CA9-47AC-A96F-AFDA9DC5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4BD7-349D-49E7-9987-E0D7455C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F287-E330-48A6-B31D-E2D4D25C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D996-DA4E-4648-8E2F-ADBD78C0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5423-43F6-4869-AA33-9692799A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8AE3-9A2A-4356-AB0B-56E82B0F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5D5D-AA49-4FD0-8D4F-A95A5E70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ADCA-E0C3-476C-9AEF-2C295F4A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AD4A-9EBB-4513-A67B-22EC8D2F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A247-7C6D-4B8A-AB53-173DE29A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077B-1F3D-441C-95BB-4F44AFD1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FA8-CC9B-4BDB-AD96-8F481A68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C706-83E2-4339-8F32-B1AB57C4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900CF-EE8A-45C3-B2E0-633E7A1A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814C-9B0D-48FC-81C4-24EBEB21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24AB8-6F8F-45D7-A5AD-A0B854BA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D49EF-305A-4021-A9E5-56284ADA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608E7-E22D-4495-A1BC-9A2FD48C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AB87-6094-4AA8-AA6C-3BA89B56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B251-782E-4004-B7F6-17C722D8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9FA7-E7AF-43B2-AFCB-B01D2292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F8533-4345-45FC-A0D7-9830BD6E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23C-DF79-4185-880F-D2F59B62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28EE-A0E5-49DE-8A7F-9F50A7BF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BF968-298C-417D-B35F-320EAB28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1D41-C042-4237-8AFE-432205D4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6BCC1-32F6-4B9C-B76D-CD6F2920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645CD-0A80-4D08-B5EE-4BBB0090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82F72-CDF9-4842-A69C-2600F338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76E62-F72F-436D-96E8-CDBCB30D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B12D1-C769-41FB-B2F8-FC216457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2905-69FF-4611-AFE0-33FCF5D1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882D3-6481-46C3-A129-FF438D98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82E-2D66-4A3A-8B0D-55D60B28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0C007-CB2B-4771-B9F9-A82631C1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3E8B5-D649-4EE0-B981-17FB4F55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D2686-8C71-4E07-A8B2-DDCFF6AC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4EE53-6B6C-4100-B1E0-A0644BFF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FA53F-B546-4E38-A179-5157DE93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B3425-4874-4B43-8DC5-5042A081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E7AC5-E520-4604-8249-0B706359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A785E-B962-484E-AB90-8BD474BE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9A649-DDC3-4089-9795-9107763A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3F888-17B1-4BC8-ACF1-1355FCD7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769-D1D9-49BF-9752-701C49AD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3185D-2F67-4368-BE91-7010BA3B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EA6DD-C9AC-4216-B0D7-C462D454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E2378-A9D4-420F-8786-85D856B0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40C54-23B2-499F-9A83-0891A679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3C75F-1633-4F4A-96B6-F078BD71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21CE7-3FC3-4A7A-9501-3B0305CA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0F476-47A0-4193-B0BD-AF760014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C387C-4069-4DF9-BB14-C11058EC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64279-748D-4D35-B6B4-65D4D213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55081-F40C-4B16-ADC5-B965F0C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8B0-0B0E-40DC-896E-58C6AFE0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0C2DF-A243-4789-9314-1F359254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265BE-A8C7-44B2-9157-1BB06629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78D6C-5487-4B80-96FA-98062A40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12591-6D44-4CB7-995B-9CD97EF8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2ECB6-AA54-4F09-9CD2-75DCDD20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FBA5D-E46D-4C38-9436-29F428B6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39CC0-65F3-4EAF-8193-1B2FBC65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090B3-98A3-4996-AB82-2BE5CB07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48182-3037-46BB-843F-0299FB49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ACD3A-1055-4313-B7EF-5B730B6D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DD9-7714-416E-B1D1-538878E6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226C3-78A7-48B7-8365-4CF1986E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68BBD-01CD-4A55-9DB9-2ABE1713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A8B3D-B0F1-4A6B-B47D-C496797A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3A993-5D45-4707-981D-42994542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33DF6-DE35-4E59-9B43-55D10E90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72C-E126-49FD-8910-2E277231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21D5-B87B-408F-9ED5-E8278165C76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CDBD-0D6D-4BE1-BBCD-B413587E4FF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035D-13C7-4B0D-B8CF-C4B67431E5C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71B8-479C-46C9-88E9-D7A6F4B78F2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FD50-727F-4FFC-8124-11DAD8CF804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7E9C-9FAC-4726-85B1-DEA201A349E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08A8-4050-44DA-9F86-5AB6727390B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urc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www.cna.ca/nuclear_facts/nuclear_waste/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science.howstuffworks.com/nuclear-waste-disposal.h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news.bbc.co.uk/2/hi/science/nature/4949096.s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         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isto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380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uclear  Waste Disposal is toxic and a radioactive byproduct  of  nuclear  medicine, nuclear  weapons  manufacturing and nuclear power plants. This type of radioactivity could last for hours to hundred of thousands of yea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5029200" y="22096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Radioactive Waste Management  storage the top is front side shock absorbing cover also includes heat conductors and a external steel envel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7" descr=""/>
          <p:cNvPicPr/>
          <p:nvPr/>
        </p:nvPicPr>
        <p:blipFill>
          <a:blip r:embed="rId1"/>
          <a:stretch/>
        </p:blipFill>
        <p:spPr>
          <a:xfrm>
            <a:off x="1355760" y="1752480"/>
            <a:ext cx="3646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4953240" cy="33530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"/>
          <p:cNvSpPr/>
          <p:nvPr/>
        </p:nvSpPr>
        <p:spPr>
          <a:xfrm>
            <a:off x="6324480" y="25146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a model of deep disposal of radioactive waste showing in depth vision of what things look li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747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4343400" cy="3309840"/>
          </a:xfrm>
          <a:prstGeom prst="rect">
            <a:avLst/>
          </a:prstGeom>
          <a:ln w="0">
            <a:noFill/>
          </a:ln>
        </p:spPr>
      </p:pic>
      <p:sp>
        <p:nvSpPr>
          <p:cNvPr id="390" name="TextBox 2"/>
          <p:cNvSpPr/>
          <p:nvPr/>
        </p:nvSpPr>
        <p:spPr>
          <a:xfrm>
            <a:off x="55627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other way they store radioactive w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4552920" cy="34290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5867280" y="243828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make concrete ponds and the water covering the fuel assemblies provided radiation prote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6" name="Content Placeholder 3" descr="waste_disposal.jpg"/>
          <p:cNvPicPr/>
          <p:nvPr/>
        </p:nvPicPr>
        <p:blipFill>
          <a:blip r:embed="rId1"/>
          <a:stretch/>
        </p:blipFill>
        <p:spPr>
          <a:xfrm>
            <a:off x="990720" y="167652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/>
          <p:cNvSpPr/>
          <p:nvPr/>
        </p:nvSpPr>
        <p:spPr>
          <a:xfrm>
            <a:off x="5791320" y="243828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ethod used for permanent disposal of high level radioactive w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. High-level radioactive waste is dangerous has to be handled remotel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. Nuclear waste disposal is stored in suitable and monitored facil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. Facilities for handling nuclear waste must be licensed by Canadian Nuclear  Safe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.Licenses must be renewed regularly and staff has to conduct periodic inspe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5. Radioactive waste facilities are overlooked by the federal authori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rovers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ople are concerned with long lived radioactivity of used nuclear fuel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think the radioactivity will last for thousands of years but most of radioactive fission products in used fuel have shorter half liv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dioactivity of  fuel decays have  the same level as that of original uranium ore in about 500 yea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7:56:41Z</dcterms:created>
  <dc:creator>28925</dc:creator>
  <dc:description/>
  <dc:language>en-US</dc:language>
  <cp:lastModifiedBy>ASD</cp:lastModifiedBy>
  <dcterms:modified xsi:type="dcterms:W3CDTF">2014-03-26T16:43:28Z</dcterms:modified>
  <cp:revision>29</cp:revision>
  <dc:subject/>
  <dc:title>Slide 1</dc:title>
</cp:coreProperties>
</file>