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621DC-A064-4FDF-BB94-53D6FC7FB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479A7-C8C9-44AD-8770-D78A35107C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4932-6128-4437-B5E3-97C58C27D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FE9E-4CD5-47C8-A8B7-D6C0AB6E4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DD0A-42CE-48F2-9922-2AB311B06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7F29-CF27-4D79-9F0D-C64F7DFA1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A5471-6ED7-409D-8126-515E4BA88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BFFB7-D544-4645-880D-050D95BC2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25C33-2FE1-456C-88F5-11A4F99E3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71BD5-C09C-4D29-89DD-F930FA7D8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28ACD-26A8-4F16-AFD7-D49B6FDE5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48B9E-90DE-42AE-AA6B-54E51DB01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05528-3BE8-48E2-8BA6-A94E3780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AA8C-8AF0-42AB-986B-E66A2FA94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0FAC5-14AF-4687-A27B-A2B63446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39C6C-3CEE-4900-8D63-8F632FAF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D9B48-B10A-4F3F-9005-296F5306E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8490F-6834-424F-A1D9-2120472B5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2884C-08DB-4F40-BE91-99BDF4A7A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72A3E-0139-44E9-BD40-65DB619C6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B6472-116C-412B-9FF1-EAE9E3DB3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2EA90-467A-44FA-95B0-007D33812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6523A-C86B-4727-B27E-26AF24D07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1DA41-E71A-4B7C-9609-894C865A4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EEBE-49A9-4D4D-8C8F-2C2653B75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2F13C-EB89-4441-B72F-CDE4C73D9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02479-E85A-4208-9FF5-546FD0D9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5C7AC-1D58-478F-B176-0EA7B9D91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3337A-E648-4D19-AEFC-02ABF5BD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75F36-0160-4B75-91A5-28FC52378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1E3CE-66C8-4397-99CF-366EF0FD4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0B4C9-2464-486E-9D16-058B551B7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889FE-89BF-4182-AC8D-099E3B150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00C89-CA1D-4439-B3E0-1AD25F4DF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F811D-522B-439D-8593-6EC197716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6E73-7B8D-497B-987C-B1976A6C3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B1273-880C-4D81-AD59-3AD45A948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B1BAE-4E55-4C1D-BCD2-FE79EB4BA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2EB99-4243-48C1-9394-E34D4F9E4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5AFDD-3784-47BB-8B54-07F65BA2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F8942-ADBD-4A44-96C4-70252C0B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51591-3E7C-4644-AF0B-C8507E83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3D013-14AB-49EC-9BAF-11A17DFB2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8541B-D715-4176-9D4F-A18B42485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B3B7F-8270-4F62-94EE-BE582D07C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14CA2-0291-45AF-BA64-E711B9468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056D-5F51-4617-8AB2-55F34EE9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A13BE-A5E1-49C5-9A83-1CCED7315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2795F-3DF5-4E63-BFA3-0ECA667D7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B6C29-4E6E-4BB8-9C8A-AB7977857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1E727-C9BD-4124-BB48-EC642335F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8DE4E-5768-4F57-9F27-9F9888442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E44DE-89CF-4024-BF58-7EDD161F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A6368-15BF-4037-9A3F-F118B679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B906D-BD4A-4533-AD73-C7C01EF6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722B3-FD0A-48F3-B18C-2D1909B94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D6918-034A-4E87-8A92-A58454CDA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C83A-F2F9-4AF4-AA1A-A1AE00F37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C68B77-337C-4540-A27F-B5F622E10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CEFAF-245E-430D-9D45-4C0E983F4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97B75-B456-4FE1-B09E-4E4DE9047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F50FC-30CC-4FDA-A559-00FBE61B4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E1A23-C52E-474F-93A5-BE6FC0E7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18B34-8486-4A68-83F1-F66590621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B5B3E-DED3-4565-A70B-0F86792F0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92E25-0748-4C42-9DB4-8B3F09B2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8946B-9260-4F2E-BA0C-E7BAF07C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61840-7004-4595-BBBE-17E383AD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1DB3-B449-4A13-9D3A-9C7696BC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8D099-2CAB-448C-B73E-EAE58E1D0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2C963-3276-4BB0-BA1C-6C6A47C8C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53816-1B94-4656-820E-D0D9975CF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76F1F-04B0-4546-AA36-C81635BEA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4E47EE-081E-4918-BC50-07AC28E24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70C9E-FF6F-4720-995A-F163DAEFB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6A7797-DAE8-47B5-A64E-C679A4983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1E28E0-64FF-4CA5-B4A9-824ACCB49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33D204-DEBC-4759-B226-4EEB37456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2499D-1775-406F-A5EA-9034F1C6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3675-130D-4D9B-9F49-0D01A88B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96DDE2-5D8E-45FC-AE3C-41816722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574A1-1735-4357-963B-EA004886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F0D51-646E-4920-930C-9DC6E3B60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83D94-43F5-4D8B-A4BD-ADA360C7F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6DAF5-2B04-448B-894F-1CA26BE4E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6674-2CF9-483A-9D45-E2DF4AC0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6A103-3121-46F4-B226-78E6C9A5E701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FE360-2112-47D9-A674-8C584FC47076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E9920-1B11-400E-9825-C0406A6F743C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2540D-10D8-4010-A48E-9EC659D1FD11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413C9-5DF1-45CB-8675-0C843041F68F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62668-C546-4E6A-91B4-0A9439FB45AC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7360" y="121752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961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7360" y="128232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30360" y="137016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320"/>
              <a:ext cx="964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30360" y="143496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82240" y="147312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961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82240" y="153792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15492-A63D-457B-B34F-13ADC1F16C01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689040" y="4243320"/>
            <a:ext cx="7997760" cy="207828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ourc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http://www.cna.ca/nuclear_facts/nuclear_waste/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http://science.howstuffworks.com/nuclear-waste-disposal.ht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http://news.bbc.co.uk/2/hi/science/nature/4949096.st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          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History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83808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Nuclear  Waste Disposal is toxic and a radioactive byproduct  of  nuclear  medicine, nuclear  weapons  manufacturing and nuclear power plants. This type of radioactivity could last for hours to hundred of thousands of year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Multimedi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8380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TextBox 5"/>
          <p:cNvSpPr/>
          <p:nvPr/>
        </p:nvSpPr>
        <p:spPr>
          <a:xfrm>
            <a:off x="5029200" y="2209680"/>
            <a:ext cx="2666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picture of Radioactive Waste Management  storage the top is front side shock absorbing cover also includes heat conductors and a external steel envelo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2" name="Picture 7" descr=""/>
          <p:cNvPicPr/>
          <p:nvPr/>
        </p:nvPicPr>
        <p:blipFill>
          <a:blip r:embed="rId1"/>
          <a:stretch/>
        </p:blipFill>
        <p:spPr>
          <a:xfrm>
            <a:off x="1355760" y="1752480"/>
            <a:ext cx="3646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Multimedi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                                                           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5" name="Picture 4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4953240" cy="3353040"/>
          </a:xfrm>
          <a:prstGeom prst="rect">
            <a:avLst/>
          </a:prstGeom>
          <a:ln w="0">
            <a:noFill/>
          </a:ln>
        </p:spPr>
      </p:pic>
      <p:sp>
        <p:nvSpPr>
          <p:cNvPr id="386" name="TextBox 3"/>
          <p:cNvSpPr/>
          <p:nvPr/>
        </p:nvSpPr>
        <p:spPr>
          <a:xfrm>
            <a:off x="6324480" y="2514600"/>
            <a:ext cx="2514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a model of deep disposal of radioactive waste showing in depth vision of what things look lik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Multimedi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838080" y="1747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                                   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9" name="Picture 4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4343400" cy="3309840"/>
          </a:xfrm>
          <a:prstGeom prst="rect">
            <a:avLst/>
          </a:prstGeom>
          <a:ln w="0">
            <a:noFill/>
          </a:ln>
        </p:spPr>
      </p:pic>
      <p:sp>
        <p:nvSpPr>
          <p:cNvPr id="390" name="TextBox 2"/>
          <p:cNvSpPr/>
          <p:nvPr/>
        </p:nvSpPr>
        <p:spPr>
          <a:xfrm>
            <a:off x="5562720" y="251460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nother way they store radioactive was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Multimedi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914400" y="1784520"/>
            <a:ext cx="7772400" cy="45720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" descr=""/>
          <p:cNvPicPr/>
          <p:nvPr/>
        </p:nvPicPr>
        <p:blipFill>
          <a:blip r:embed="rId2"/>
          <a:stretch/>
        </p:blipFill>
        <p:spPr>
          <a:xfrm>
            <a:off x="1066680" y="1981080"/>
            <a:ext cx="4552920" cy="3429000"/>
          </a:xfrm>
          <a:prstGeom prst="rect">
            <a:avLst/>
          </a:prstGeom>
          <a:ln w="0">
            <a:noFill/>
          </a:ln>
        </p:spPr>
      </p:pic>
      <p:sp>
        <p:nvSpPr>
          <p:cNvPr id="394" name="TextBox 3"/>
          <p:cNvSpPr/>
          <p:nvPr/>
        </p:nvSpPr>
        <p:spPr>
          <a:xfrm>
            <a:off x="5867280" y="2438280"/>
            <a:ext cx="2362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 make concrete ponds and the water covering the fuel assemblies provided radiation protec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Multimedi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6" name="Content Placeholder 3" descr="waste_disposal.jpg"/>
          <p:cNvPicPr/>
          <p:nvPr/>
        </p:nvPicPr>
        <p:blipFill>
          <a:blip r:embed="rId1"/>
          <a:stretch/>
        </p:blipFill>
        <p:spPr>
          <a:xfrm>
            <a:off x="990720" y="1676520"/>
            <a:ext cx="4343400" cy="3657600"/>
          </a:xfrm>
          <a:prstGeom prst="rect">
            <a:avLst/>
          </a:prstGeom>
          <a:ln w="0">
            <a:noFill/>
          </a:ln>
        </p:spPr>
      </p:pic>
      <p:sp>
        <p:nvSpPr>
          <p:cNvPr id="397" name="TextBox 4"/>
          <p:cNvSpPr/>
          <p:nvPr/>
        </p:nvSpPr>
        <p:spPr>
          <a:xfrm>
            <a:off x="5791320" y="2438280"/>
            <a:ext cx="1828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ethod used for permanent disposal of high level radioactive was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Fact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1. High-level radioactive waste is dangerous has to be handled remotely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2. Nuclear waste disposal is stored in suitable and monitored faciliti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3. Facilities for handling nuclear waste must be licensed by Canadian Nuclear  Safet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4.Licenses must be renewed regularly and staff has to conduct periodic inspection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5. Radioactive waste facilities are overlooked by the federal authorit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ntroversy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eople are concerned with long lived radioactivity of used nuclear fuel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y think the radioactivity will last for thousands of years but most of radioactive fission products in used fuel have shorter half live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Radioactivity of  fuel decays have  the same level as that of original uranium ore in about 500 year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8T17:56:41Z</dcterms:created>
  <dc:creator>28925</dc:creator>
  <dc:description/>
  <dc:language>en-US</dc:language>
  <cp:lastModifiedBy>ASD</cp:lastModifiedBy>
  <dcterms:modified xsi:type="dcterms:W3CDTF">2014-03-26T16:43:28Z</dcterms:modified>
  <cp:revision>29</cp:revision>
  <dc:subject/>
  <dc:title>Slide 1</dc:title>
</cp:coreProperties>
</file>