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F8C-0A37-4AC7-B0F4-A598793F4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238-3624-4064-AEF5-06DAA25B6A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534-7A7A-495E-BDDF-F8221345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213-7329-4AAF-92F7-0D48DD14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D67-4E57-463B-97A2-E0E91E6C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9B9-D932-4473-84D3-D05D4DFC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D27-3353-4A9E-8EE1-D681EA0B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8E3-AFBD-463A-966D-0379BD9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11C9-35A3-4031-B122-7037674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2D17-D63A-4697-A02F-1E82B9D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4B13-EC58-4316-8742-6FC20C0E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CEDD-F105-4D7A-BDD8-F15E8B9D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D551-1176-4490-BFBD-FEF2571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AF0-2411-4729-B5E6-F1299619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DAA-C3F9-44DF-A6E2-DF188E84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058-8C1B-4A41-931B-7E5A8AD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D2A6-0C2B-449C-8435-69F0561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7B3C-B4D0-48DE-BEB0-894004B2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96AF-07AE-4737-A3F7-03326958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5437-3A6E-4392-AC34-4A08C15D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E472-0ED5-43B7-9179-F61793A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FF7A-2E7A-4E13-A615-6C41D66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1687-96FA-4917-97AA-B55E179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40A0-6FB3-4CE5-BC32-D63D4A7D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795-A049-4F93-B464-DD0A3180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EA15-42E5-4E6E-8A1A-EB4CA8D9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D62B-5F68-44FA-BA0E-7577FFD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64EC-B70C-43D0-87AD-FBD6CF4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1097-C8E2-4FEA-88D5-87622DE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DB76-7AE0-4977-A543-14AFAD27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CCE4-5171-493E-B9FD-239754F0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39D7-F35D-4660-B3C8-1A7FFDD0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EBC3-3A00-4174-9AA7-7183F12D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40E9-FF5D-4255-99AC-808B2FDF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3F2A-B3E8-4EB8-BF51-B6E86E27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9EA-F04B-4CD2-9879-F4CDB63B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AB06-35BE-4915-A4BA-77ECBEB8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DF8D-C9FC-4508-90CC-6A644D6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7366-52D1-4658-B551-601ACDC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E61B-FEBF-4E5F-B265-4B60F13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BA36-F3CC-46AB-933B-1FA97A8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BFDD-8A2D-41B4-A496-2225115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E7AC-6149-4183-ABE2-5BBAE30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9246-BE43-48B6-8CDE-D750974B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C5AC-FCE8-4864-9CF4-C56F1645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38AC-53DA-4CC3-8BB6-8F054E77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1C3-204D-40CB-B748-817FB07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83D0-AA9C-45B9-A5E0-BC3616FB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6424-3D1E-4571-9FC4-FA77FC2B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B4EA9-84C6-4BC3-9C95-B0FEE7C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7AE0-E81D-43E1-AB64-65B1807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EAD8-DAD1-4C25-A213-16802D7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F996-54FE-40DF-9DC5-E74C70E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FF1E2-74A6-48C7-9B30-48A0D1C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97C5-D751-4960-A657-19B4B3C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9365-5995-497F-8903-EF1B39F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2A39-C5F9-452F-9C5D-6E809ACA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806-A8E0-4F0E-8DAA-D0B49A01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C78F-7F1D-4310-BE01-3F06F221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91D1-0508-44EB-9990-81C0AADB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36DC4-EE23-4A76-B034-8906D702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864B8-A5E5-4E30-AAE3-80BCABD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60E3B-C666-4FE4-9609-2CFC19E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DC46-AD6A-4867-B27A-BC588ADE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0187B-9CA5-4420-9CAE-C1E7EFD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8B6E-4C42-4B4A-B7C1-C191A69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09A1E-7F8D-463F-8E7B-29A47F05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F406-BF5F-47A0-BE80-903A439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964-B865-48C6-AE1E-467DD1DA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87E5-7415-4C25-B5A8-A11592C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3B11-6105-4A5A-B85B-0815FA4A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0BA8-D7E1-4F3A-83E6-0C5BC105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F123-A454-48B9-8DBD-B79AC770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DA290-1166-4972-AB3A-962BADF3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A5FE-84E6-4968-AF33-9CF03B6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4DF8-19DF-4FC5-9708-2313506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90198-CF62-4F1F-96B9-D03591D8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B2AE-1FD5-4348-AAA6-E379F17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5FE8D-8D55-4BB1-A0C2-6A391FF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F83-77CC-49F5-91E7-AFEFBEA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46DB-C46C-4A0D-9F70-43D8EFA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1FF6-365A-46B7-B904-0C39031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FA753-3F16-4279-B7AC-9A1197D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7A7E0-185A-44D6-87AD-1FE909F6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15AE0-1CF9-4D20-9F75-C6BD4FD0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58E-3B10-4454-B6A8-55E46E6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8B3-7AA9-4FD3-AA87-0D4C84330E0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5C9-57FE-4D49-B770-C58DE485BC8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8EE3-E7A0-4BE6-ABE4-16516F8F4EB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7E2C-FF91-4AEC-B4FE-93E1DE21D9F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407-8348-4264-8955-3362DEFDCB3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303D-FE6F-487B-8A56-093A49CECDA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F1F4-BACE-4B7B-BDBC-24AC27647B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urc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cna.ca/nuclear_facts/nuclear_waste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science.howstuffworks.com/nuclear-waste-disposal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news.bbc.co.uk/2/hi/science/nature/4949096.s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clear  Waste Disposal is toxic and a radioactive byproduct  of  nuclear  medicine, nuclear  weapons  manufacturing and nuclear power plants. This type of radioactivity could last for hours to hundred of thousands of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029200" y="22096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Radioactive Waste Management  storage the top is front side shock absorbing cover also includes heat conductors and a external steel 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953240" cy="33530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6324480" y="25146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 model of deep disposal of radioactive waste showing in depth vision of what thing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47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343400" cy="33098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562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other way they store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455292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5867280" y="24382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ake concrete ponds and the water covering the fuel assemblies provided radiation prot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Content Placeholder 3" descr="waste_disposal.jpg"/>
          <p:cNvPicPr/>
          <p:nvPr/>
        </p:nvPicPr>
        <p:blipFill>
          <a:blip r:embed="rId1"/>
          <a:stretch/>
        </p:blipFill>
        <p:spPr>
          <a:xfrm>
            <a:off x="990720" y="167652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5791320" y="24382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thod used for permanent disposal of high level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High-level radioactive waste is dangerous has to be handled remote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Nuclear waste disposal is stored in suitable and monitored faci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Facilities for handling nuclear waste must be licensed by Canadian Nuclear  Safe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Licenses must be renewed regularly and staff has to conduct periodic inspe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. Radioactive waste facilities are overlooked by the federal authori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rovers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ople are concerned with long lived radioactivity of used nuclear fuel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think the radioactivity will last for thousands of years but most of radioactive fission products in used fuel have shorter half liv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oactivity of  fuel decays have  the same level as that of original uranium ore in about 500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7:56:41Z</dcterms:created>
  <dc:creator>28925</dc:creator>
  <dc:description/>
  <dc:language>en-US</dc:language>
  <cp:lastModifiedBy>ASD</cp:lastModifiedBy>
  <dcterms:modified xsi:type="dcterms:W3CDTF">2014-03-26T16:43:28Z</dcterms:modified>
  <cp:revision>29</cp:revision>
  <dc:subject/>
  <dc:title>Slide 1</dc:title>
</cp:coreProperties>
</file>