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custShowLst>
    <p:custShow name="Custom Show 5" id="0">
      <p:sldLst>
        <p:sld r:id="rId3"/>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6D35C-C8AC-435B-8C60-CB46B4ABF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9E7C2-FA7D-4D48-8D4D-918956AE2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7BA82-D27D-492C-A22F-5E54CBD2F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65D5D-3001-4A18-A0CE-2A6533ED4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B12AC-96F8-40FB-B511-779516D5C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853FF-BF2D-46A2-8317-99EAB9D65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59764-BEE7-49E6-AEB4-A283115CA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BFFAC-F8AC-4ACC-A616-5AB9E93C8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73D21-E43E-4674-B637-71F217627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816A-B5F0-4B6D-9CD6-17C378B07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7123-E840-475E-B799-709CD8DF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5645-93FD-4F01-9E9D-420EDC21C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CFAB-3A36-4536-92B4-FC82BC55F7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cience.howstuffworks.com/nuclear-power.htm" TargetMode="External"/><Relationship Id="rId2" Type="http://schemas.openxmlformats.org/officeDocument/2006/relationships/hyperlink" Target="http://www.ready.gov/nuclear-power-plants"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5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Robert lee</a:t>
            </a:r>
            <a:endParaRPr b="0" lang="en-US" sz="4000" spc="-1" strike="noStrike">
              <a:solidFill>
                <a:srgbClr val="000000"/>
              </a:solidFill>
              <a:latin typeface="Calibri"/>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uclear power plant</a:t>
            </a:r>
            <a:endParaRPr b="0" lang="en-US" sz="4400" spc="-1" strike="noStrike">
              <a:solidFill>
                <a:srgbClr val="000000"/>
              </a:solidFill>
              <a:latin typeface="Calibri"/>
            </a:endParaRPr>
          </a:p>
        </p:txBody>
      </p:sp>
      <p:grpSp>
        <p:nvGrpSpPr>
          <p:cNvPr id="44" name="Content Placeholder 2"/>
          <p:cNvGrpSpPr/>
          <p:nvPr/>
        </p:nvGrpSpPr>
        <p:grpSpPr>
          <a:xfrm>
            <a:off x="457200" y="1603440"/>
            <a:ext cx="8229600" cy="4522680"/>
            <a:chOff x="457200" y="1603440"/>
            <a:chExt cx="8229600" cy="4522680"/>
          </a:xfrm>
        </p:grpSpPr>
        <p:pic>
          <p:nvPicPr>
            <p:cNvPr id="45" name="Content Placeholder 2" descr=""/>
            <p:cNvPicPr/>
            <p:nvPr/>
          </p:nvPicPr>
          <p:blipFill>
            <a:blip r:embed="rId1"/>
            <a:stretch/>
          </p:blipFill>
          <p:spPr>
            <a:xfrm>
              <a:off x="457200" y="1606320"/>
              <a:ext cx="8229600" cy="4519440"/>
            </a:xfrm>
            <a:prstGeom prst="rect">
              <a:avLst/>
            </a:prstGeom>
            <a:ln w="0">
              <a:noFill/>
            </a:ln>
          </p:spPr>
        </p:pic>
        <p:sp>
          <p:nvSpPr>
            <p:cNvPr id="46" name=""/>
            <p:cNvSpPr/>
            <p:nvPr/>
          </p:nvSpPr>
          <p:spPr>
            <a:xfrm>
              <a:off x="457200" y="1603440"/>
              <a:ext cx="822960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use the heat generated from nuclear fission in a contained environment to convert water to steam, which powers generators to produce electricity. Nuclear power plants operate in most states in the country and produce about 20 percent of the nation’s power. Nearly 3 million Americans live within 10 miles of an operating nuclear power pla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grpSp>
        <p:nvGrpSpPr>
          <p:cNvPr id="47" name="Title 1"/>
          <p:cNvGrpSpPr/>
          <p:nvPr/>
        </p:nvGrpSpPr>
        <p:grpSpPr>
          <a:xfrm>
            <a:off x="457200" y="152280"/>
            <a:ext cx="8229600" cy="1146240"/>
            <a:chOff x="457200" y="152280"/>
            <a:chExt cx="8229600" cy="1146240"/>
          </a:xfrm>
        </p:grpSpPr>
        <p:pic>
          <p:nvPicPr>
            <p:cNvPr id="48" name="Title 1" descr=""/>
            <p:cNvPicPr/>
            <p:nvPr/>
          </p:nvPicPr>
          <p:blipFill>
            <a:blip r:embed="rId1"/>
            <a:stretch/>
          </p:blipFill>
          <p:spPr>
            <a:xfrm>
              <a:off x="457200" y="152280"/>
              <a:ext cx="8229600" cy="1146240"/>
            </a:xfrm>
            <a:prstGeom prst="rect">
              <a:avLst/>
            </a:prstGeom>
            <a:ln w="0">
              <a:noFill/>
            </a:ln>
          </p:spPr>
        </p:pic>
        <p:sp>
          <p:nvSpPr>
            <p:cNvPr id="49"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we use them</a:t>
              </a:r>
              <a:endParaRPr b="0" lang="en-US" sz="4400" spc="-1" strike="noStrike">
                <a:solidFill>
                  <a:srgbClr val="000000"/>
                </a:solidFill>
                <a:latin typeface="Arial"/>
              </a:endParaRPr>
            </a:p>
          </p:txBody>
        </p:sp>
      </p:grpSp>
      <p:sp>
        <p:nvSpPr>
          <p:cNvPr id="50" name=""/>
          <p:cNvSpPr txBox="1"/>
          <p:nvPr/>
        </p:nvSpPr>
        <p:spPr>
          <a:xfrm>
            <a:off x="457200" y="1600200"/>
            <a:ext cx="8229600" cy="4525920"/>
          </a:xfrm>
          <a:prstGeom prst="rect">
            <a:avLst/>
          </a:prstGeom>
          <a:solidFill>
            <a:srgbClr val="1f497d"/>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clear power can be used to generate electricity, and there is no release of greenhouse gasses during the generation process, although mining, concentrating, and refining uranium, as it is done today, does consume large amounts of fossil fuels and produces corresponding amounts of greenhouse carbon dioxide. Nuclear power is not a substitute for the petroleum that is running out; it is not suitable for powering transport except for possible use in large ship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uses fission (splitting atom nuclei) to produc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round 6% of the world’s energy and 14% of the world’s electricity is produced by nuclear pow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plants have a relatively good safety record but there is strong debate about the potential risk they pose.</a:t>
            </a:r>
            <a:endParaRPr b="0" lang="en-US" sz="3200" spc="-1" strike="noStrike">
              <a:solidFill>
                <a:srgbClr val="000000"/>
              </a:solidFill>
              <a:latin typeface="Calibri"/>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can I find them</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of reactor – There are two types of reactors operating it the United States: Boiling Water Reactors (BWRs) and Pressurized Water Reactors (PW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reactor – Reactors were designed to operate for 40 years, yet the regulatory body that oversees nuclear safety in the United States, the Nuclear Regulatory Commi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8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ar power plant stands on the border between humanity's greatest hopes and its deepest fears for the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one hand, atomic energy offers a clean energy alternative that frees us from the shackles of fossil fuel 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ng pag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cience.howstuffworks.com/nuclear-power.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ready.gov/nuclear-power-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duke-energy.com/about-energy/generating-electricity/nuclear-how.as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people think about them</a:t>
            </a:r>
            <a:endParaRPr b="0" lang="en-US" sz="4400" spc="-1" strike="noStrike">
              <a:solidFill>
                <a:srgbClr val="000000"/>
              </a:solidFill>
              <a:latin typeface="Calibri"/>
            </a:endParaRPr>
          </a:p>
        </p:txBody>
      </p:sp>
      <p:sp>
        <p:nvSpPr>
          <p:cNvPr id="6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idea for the best energy option for our country is nuclear energy. It’s great as it can produce lots of energy from a very small amount of atoms. It is a neutral energy source which means it gives off the same amount of carbon that it sa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3:54Z</dcterms:created>
  <dc:creator>Snead, Matthew</dc:creator>
  <dc:description/>
  <dc:language>en-US</dc:language>
  <cp:lastModifiedBy>ASD</cp:lastModifiedBy>
  <dcterms:modified xsi:type="dcterms:W3CDTF">2014-03-21T17:19:47Z</dcterms:modified>
  <cp:revision>21</cp:revision>
  <dc:subject/>
  <dc:title>Nuclear power plant</dc:title>
</cp:coreProperties>
</file>