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5.png" ContentType="image/pn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BC63-DBA6-4ECA-971A-F61598870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5179-ACDD-4ADD-A0DA-E399ED8E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EC82-5461-4713-910C-65324ED21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E5C9-FDE2-46A2-BC80-30B8C7FA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B827-6A0B-443C-88A0-A6CFCEEA1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7182-B942-457A-8E26-2C412715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FB0A-7BF6-4AE6-8F90-29723985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9D06-39D2-401D-BAEA-198180BC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ACC8-A361-49AC-8CCE-9B2B02A9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9057-FE75-4F18-963B-0496CE83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F4C8-1E92-4501-8D97-85F72F1D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94C0-7307-4805-BD5C-BBF474E2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CD19-AA42-4067-8FEC-98F6DE3D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DB9D-FBD4-466D-A91C-8AD57008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5636-AED9-46ED-B59E-AB608143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C9E0-7652-4687-9ACC-EEF06BDA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4980-AD84-42BB-B708-4C5F0108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78713-106B-4A6E-ACB5-F45A8B88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3E539-A496-4BDC-B6B5-82ED29F7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0C127-BCA0-4DC8-9493-DDBB5C63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FB53A-E061-4681-B5EC-E2EB376A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62DE1-1FB6-4B22-AF16-FC7A0CEC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6EA9-B4F7-456B-835D-CED9A5C6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FB488-0CE4-43E4-8BE5-6F488749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600C9-A451-4A49-BFF6-F0252DE7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8D103-2189-4775-AC32-065A0088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69739-E9E6-4116-B7E2-7D47BE00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4B642-0963-4691-BCF6-27EDEE43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344EB-41AE-4C5F-86B2-6C768A9A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632C3-D78B-440D-9380-BA8B5E65B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556BE-BC31-4695-8B54-DBF554F8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B3D27-3E56-4119-9F7C-58105FE6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DD04B-7F68-4F56-A3F1-0778D389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3B76-F126-4931-9701-7933C14A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FB518-BC24-45CA-875F-B47318BE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C7BCE-DD54-4EB2-BB46-581BF901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DE39E-6238-48DE-A997-09FB4322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AF54D-2322-4150-9BB2-F6AA01F2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58BEF-0D14-471D-9BEB-2D06B9FB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CBB52-5C3A-4EB2-9CE0-D4611E3D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E65A8-CE62-4F79-B2C1-1886F7F9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6B2C0-4A2A-4AFA-A279-D37AC0E0C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90254-8D00-451E-9DA9-6FBF361A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B6282-24DC-4854-B4B8-18D88A40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4FCA-4BBD-421D-99EA-17F58E7E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5A4CB-97BE-4488-AB8A-A0E124D7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7F3AE-6E98-48B6-9A40-96707E67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9518B-6D41-49C2-A751-15996D63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2974C-3266-4FFE-B64C-4C4FF232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B52E3-84E4-43D9-B861-E11997F1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FFE79-5EFC-42FC-8F07-D051F6F5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63638-CE4A-43AE-831D-C28A26EF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DDF16-60B7-41B9-A144-3E58EC48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855A3-F7F9-4938-80A1-9EB4E610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E6D4B-4532-4929-AE81-18C7C4BA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AB6E-A793-49E0-9C04-7BBD7242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87BBA-631E-410D-8E32-85D41DFC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FA36-6E70-4E7D-A9D7-B91DB8A5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B708-82C6-4FDA-B037-F5B3FFB9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4430-0B7A-4D91-8CF7-3715AFFB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2AE9-1A8F-4D4D-8A4C-3DEFF06BFD4A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4C85-38B8-43AC-9E05-5D1DED1044C8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CC90-6FDE-42FC-A215-9B9661C3ADF7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E709-3CE1-4795-876F-F5654D0A1B59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4F8A-5D28-4C70-B022-D10460F6883F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s://www.google.com/url?q=http://inweekly.net/wordpress/%3Fp%3D4302&amp;sa=U&amp;ei=iDErU5G3M-SW0QGdnIGABQ&amp;ved=0CEEQ9QEwCg&amp;usg=AFQjCNGMMEnK_9SACTpA2-1iMW4_cOTfkw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s://www.google.com/url?q=http://themoderatevoice.com/103592/in-the-wake-of-japan%25E2%2580%2599s-earthquaketsunami-nuclear-power-plant-concerns/&amp;sa=U&amp;ei=iDErU5G3M-SW0QGdnIGABQ&amp;ved=0CFkQ9QEwFg&amp;usg=AFQjCNE_-kAZTFWkflYCoFI7l5y6LiW5JA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s://www.google.com/url?q=http://www.pennenergy.com/articles/pennenergy/2013/02/duke-energy-announces-closure-of-florida-nuclear-power-plant.html&amp;sa=U&amp;ei=iDErU5G3M-SW0QGdnIGABQ&amp;ved=0CH0Q9QEwKA&amp;usg=AFQjCNG1DUdZPUMArTxHZfQGNvx9gpsY0A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s://www.google.com/url?q=http://blog.panampost.com/frank-worley-lopez/2013/09/16/the-case-for-nuclear-power-in-puerto-rico/&amp;sa=U&amp;ei=iDErU5G3M-SW0QGdnIGABQ&amp;ved=0CHsQ9QEwJw&amp;usg=AFQjCNFCYYxKGH47VnnQ5JApJq1yLClqcA" TargetMode="External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triplepundit.com/2009/02/nuclear-energy-pros-and-cons/" TargetMode="External"/><Relationship Id="rId3" Type="http://schemas.openxmlformats.org/officeDocument/2006/relationships/hyperlink" Target="https://www.dosomething.org/tipsandtools/11-facts-about-nuclear-energy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69916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y: Thai Taylo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133200" y="317520"/>
            <a:ext cx="757260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It was discovered in 1789  by martin klaporth, he was German chemist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Nuclear power plants uses fission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Nuclear comes form nonrenewable substance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Every 18 to 24 months the power plant shuts down to make radioactive waste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1 in 5 households and business in the u.s uses nuclear power energy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American uses almost 2,000 tons of radioactive waste each year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More than 70% of Americas emission-free power comes form nuclear energy source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Nuclear power is being used in over 30 countries around the world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7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ng construction time, plus higher cost due to complex radiation 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nknown ris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aste lasts 200-500 thousand year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arget for terroris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7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wer carbon dioxide and other green house gas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uture nuclear waste can be recycled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wer operating cos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arge power generating capacity able to meet the industrial and city need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133200" y="317520"/>
            <a:ext cx="7572600" cy="1157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https://encrypted-tbn0.gstatic.com/images?q=tbn:ANd9GcQ20-KAIJqhE2kjma3mVFzmxIyUUXluhKcm3OlsHJ1bf22bGoFmL7hT709x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600200"/>
            <a:ext cx="2541600" cy="1914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https://encrypted-tbn1.gstatic.com/images?q=tbn:ANd9GcTt9P44knRMNtUANe_6hoG1Fc8GwKosm4KuQ-naiWYFN0InrGqlF2Ri6olGa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33920" y="1447920"/>
            <a:ext cx="2509560" cy="2208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https://encrypted-tbn1.gstatic.com/images?q=tbn:ANd9GcQMg-47CJdK_xeFpSG1hDYj6W0gKqUpv5ItkhItCaZj0zx1xl_X7MAjQNmP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8600" y="4038480"/>
            <a:ext cx="3048120" cy="2295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https://encrypted-tbn2.gstatic.com/images?q=tbn:ANd9GcR0UUydt2kachy7IGOCH4KhBYwsWj7LoVvnLJC_w2zWp1CbdxOYu91_ys7-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114800" y="4038480"/>
            <a:ext cx="2971800" cy="2257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74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http://www.triplepundit.com/2009/02/nuclear-energy-pros-and-cons/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https://www.dosomething.org/tipsandtools/11-facts-about-nuclear-energ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themoderatevoice.com/103592/in-the-wake-of-japan%E2%80%99s-earthquaketsunami-nuclear-power-plant-concerns/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blog.panampost.com/frank-worley-lopez/2013/09/16/the-case-for-nuclear-power-in-puerto-rico/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inweekly.net/wordpress/?p=4302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en.wikipedia.org/wiki/Gundremmingen_Nuclear_Power_Pla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8:05:00Z</dcterms:created>
  <dc:creator> </dc:creator>
  <dc:description/>
  <dc:language>en-US</dc:language>
  <cp:lastModifiedBy> </cp:lastModifiedBy>
  <dcterms:modified xsi:type="dcterms:W3CDTF">2014-03-21T18:32:51Z</dcterms:modified>
  <cp:revision>17</cp:revision>
  <dc:subject/>
  <dc:title>Radioisotopes</dc:title>
</cp:coreProperties>
</file>