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5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E6B-FE50-4A6E-B990-FCEB824B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EC5-3554-4751-9A31-0C72D1F0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989-9FB0-4CA1-8706-1C0C210A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594-DFDE-489F-A92F-4C4CC154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8505-459D-4664-BF21-CB067206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513A-D92D-4151-8990-9FA81D5C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6D5D-0DF5-4AD4-ADBC-0EE4071C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D89B-564C-498C-B56C-1F73572D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3D74-01D6-4330-96C3-267EE395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4A64-E60C-4574-9F61-65DDFBBA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7545-D499-4D5D-BF07-4E3BB642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172-D468-4A84-9125-4103F90E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909E-EB47-4B5B-993C-EE4AB9E5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92E2-9209-4066-9F2D-E597FC41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1B43-0A44-43C2-B8EE-61B3923B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53DB-5D4C-41AF-9E06-4437C568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FA1E-ABC4-477D-B2F1-C0E516AC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5D02-C643-496F-97A9-96F6B1E8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E9C7-FC30-48BA-BBC1-24D5BE3C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F0270-4317-466D-B8E6-C950EABE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0B2E1-7DEB-4EB4-A918-18563002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DB067-0998-47F9-9E25-148D61D1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8B6-32A2-4F0A-B82C-6E15279C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5D6AA-2281-458B-93B8-BF9E2A98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BF6FD-13A8-4089-9C98-B9E32CE5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422B5-AF1C-4D6C-B03A-A2717198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FDBE2-E09C-47CB-8DF8-9DC7177E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FF38C-AD78-4335-8777-14C1D34F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0038D-F46B-448B-A31F-B6A2FD0E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F6BC5-89E4-4626-90C5-0388F1C9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E7CAE-2854-4D5B-B937-961BCF46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AF76C-FF47-4E21-8EB5-EB63F5EE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4A390-EF02-4707-B6B0-A62CFADA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B97-A011-4A0F-B6AE-3DA32358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C1B6D-5131-4ED7-A594-7A09E650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17695-069B-4C1F-8F10-7F89B1C4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5D6C8-5AAB-45A7-992B-E4FF9196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9DFF0-A9F7-4024-A0F3-06CE006E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20DB6-5FF5-4BF7-B199-EBD51E0A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825FA-3135-4ACA-B2D8-D5E73C02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425B9-14CB-4687-AFF5-5E1A7251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C47EC-63C5-4FC1-9015-39432EC3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7B831-7D03-4E57-86C3-1C024D50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D9141-B6BA-458A-A7BA-961FF348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604-FB60-4ED4-B46B-79973B0E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50ACB-6448-4439-84BB-4EE20EE4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F8B37-3158-49A6-8FDE-AA582358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F2343-FFDE-47EB-92AF-6C8CB074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4E304-FE71-4C12-9DD2-34F47404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BA431-6771-41C3-B3E8-0DE5DBDE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526F6-5EB1-4643-91D1-90E0118B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95A1C-C8E1-4578-A987-3B41422F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B275C-138E-4C77-9627-326D6D48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878A8-9760-490F-8551-ACBDF00A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77A56-B03C-404A-BB54-508376A5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7F9-019C-4C90-AE07-4862A896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D04A7-052B-4176-A069-484426F4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226-A0E8-4347-B8E7-3F57E68B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C98-855B-4B0A-8FA1-58E13672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27A-2658-4A25-99C7-89DF2C8C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6F11-228E-40EF-A390-E701D3B6126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311F-E778-4882-8859-8941695DF243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78BE-2790-4423-B660-8F682130A02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E66B-747F-4CE3-A240-5970DEB998AC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3B16-BC34-4575-89CA-1FF34811B41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s://www.google.com/url?q=http://inweekly.net/wordpress/%3Fp%3D4302&amp;sa=U&amp;ei=iDErU5G3M-SW0QGdnIGABQ&amp;ved=0CEEQ9QEwCg&amp;usg=AFQjCNGMMEnK_9SACTpA2-1iMW4_cOTfkw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s://www.google.com/url?q=http://themoderatevoice.com/103592/in-the-wake-of-japan%25E2%2580%2599s-earthquaketsunami-nuclear-power-plant-concerns/&amp;sa=U&amp;ei=iDErU5G3M-SW0QGdnIGABQ&amp;ved=0CFkQ9QEwFg&amp;usg=AFQjCNE_-kAZTFWkflYCoFI7l5y6LiW5JA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s://www.google.com/url?q=http://www.pennenergy.com/articles/pennenergy/2013/02/duke-energy-announces-closure-of-florida-nuclear-power-plant.html&amp;sa=U&amp;ei=iDErU5G3M-SW0QGdnIGABQ&amp;ved=0CH0Q9QEwKA&amp;usg=AFQjCNG1DUdZPUMArTxHZfQGNvx9gpsY0A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s://www.google.com/url?q=http://blog.panampost.com/frank-worley-lopez/2013/09/16/the-case-for-nuclear-power-in-puerto-rico/&amp;sa=U&amp;ei=iDErU5G3M-SW0QGdnIGABQ&amp;ved=0CHsQ9QEwJw&amp;usg=AFQjCNFCYYxKGH47VnnQ5JApJq1yLClqcA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triplepundit.com/2009/02/nuclear-energy-pros-and-cons/" TargetMode="External"/><Relationship Id="rId3" Type="http://schemas.openxmlformats.org/officeDocument/2006/relationships/hyperlink" Target="https://www.dosomething.org/tipsandtools/11-facts-about-nuclear-energy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69916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Thai Taylo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757260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t was discovered in 1789  by martin klaporth, he was German chemis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power plants uses fissio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comes form nonrenewable substanc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very 18 to 24 months the power plant shuts down to make radioactive wast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1 in 5 households and business in the u.s uses nuclear power energy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merican uses almost 2,000 tons of radioactive waste each year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ore than 70% of Americas emission-free power comes form nuclear energy sourc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power is being used in over 30 countries around the worl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ng construction time, plus higher cost due to complex radiation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nknown ris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aste lasts 200-500 thousand yea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arget for terroris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wer carbon dioxide and other green house gas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uture nuclear waste can be recycled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wer operating co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rge power generating capacity able to meet the industrial and city need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7572600" cy="1157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s://encrypted-tbn0.gstatic.com/images?q=tbn:ANd9GcQ20-KAIJqhE2kjma3mVFzmxIyUUXluhKcm3OlsHJ1bf22bGoFmL7hT709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600200"/>
            <a:ext cx="2541600" cy="1914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s://encrypted-tbn1.gstatic.com/images?q=tbn:ANd9GcTt9P44knRMNtUANe_6hoG1Fc8GwKosm4KuQ-naiWYFN0InrGqlF2Ri6olGa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1447920"/>
            <a:ext cx="250956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https://encrypted-tbn1.gstatic.com/images?q=tbn:ANd9GcQMg-47CJdK_xeFpSG1hDYj6W0gKqUpv5ItkhItCaZj0zx1xl_X7MAjQN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4038480"/>
            <a:ext cx="3048120" cy="2295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https://encrypted-tbn2.gstatic.com/images?q=tbn:ANd9GcR0UUydt2kachy7IGOCH4KhBYwsWj7LoVvnLJC_w2zWp1CbdxOYu91_ys7-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114800" y="4038480"/>
            <a:ext cx="2971800" cy="2257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triplepundit.com/2009/02/nuclear-energy-pros-and-cons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s://www.dosomething.org/tipsandtools/11-facts-about-nuclear-ener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themoderatevoice.com/103592/in-the-wake-of-japan%E2%80%99s-earthquaketsunami-nuclear-power-plant-concerns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blog.panampost.com/frank-worley-lopez/2013/09/16/the-case-for-nuclear-power-in-puerto-rico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inweekly.net/wordpress/?p=4302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en.wikipedia.org/wiki/Gundremmingen_Nuclear_Power_Pla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5:00Z</dcterms:created>
  <dc:creator> </dc:creator>
  <dc:description/>
  <dc:language>en-US</dc:language>
  <cp:lastModifiedBy> </cp:lastModifiedBy>
  <dcterms:modified xsi:type="dcterms:W3CDTF">2014-03-21T18:32:51Z</dcterms:modified>
  <cp:revision>17</cp:revision>
  <dc:subject/>
  <dc:title>Radioisotopes</dc:title>
</cp:coreProperties>
</file>