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5.png" ContentType="image/png"/>
  <Override PartName="/ppt/media/image1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3D01-1891-4CFE-B1F1-D7E156081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66F4-D128-45AC-BD60-94705257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0A7D-7C91-496E-B194-853B24506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B5E9-FFFC-4963-9780-50D0F3724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010AB-BD97-4798-8169-308EA7AD9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87CD9-56FA-4A71-AF6A-0017FED0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0BCA-77E9-46AA-95E8-2723F65E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9B0B2-0BB3-4984-9D97-D24C68CC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27C29-D352-447F-AABB-7DF284655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96C1-FC93-4C8C-9DD7-B3CC0880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8E0AA-52A3-48B7-A01D-5CD744F5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2859-49EF-4FD4-9C32-4DE3D912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7CA6-9790-48AB-8E0C-1989B430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4656E-07A6-44AB-8CBE-54F7E329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6875-6EA5-486D-9370-74DC40769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863A-DF8D-4E14-9F37-6BB1942A0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E1066-3598-4503-A4FB-500D33142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20F05-43A9-42EF-AEF4-1D503B4AF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2415D-A758-4598-9E47-954170F7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17C84-0522-4F0A-BDC2-847B50E4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744D5-9A8A-4B4F-A1D6-CCA95DDA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12B49-BE8F-4C15-B2BC-E933B145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0193-3DF7-4F16-A946-97B0D1B4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10FBA-B278-4E79-B8E7-8FA00925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EA074-513D-45D9-BEB8-27B47DAA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45904-E3C1-4A38-9860-6B46E2FD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D0B99-4AEA-4E0A-9D5C-17835A7B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D6FCA-AEA4-4527-850E-6280724A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4D0D9-1837-48C7-995E-9C6B5EC3B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F8367-A031-4A95-951E-AEF73549F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083A7-58F3-44E8-B169-D63F4A5C7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165C3-9224-4DA1-AE18-663D53BA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92C63-F74A-4762-80FB-6613FBE5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280B-F323-4F88-83A2-63411172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71F57-E07D-44B4-AB76-C3605082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BA6E0-E7FF-4DD6-B8D2-B10E1231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8131C-D499-4C48-AD19-7ED9264B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8C93D-9284-4DA2-9920-D70A3D22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5CDDA-62FE-4386-BE63-8A6A0C3E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7949E-98BC-4792-90F6-94FAFD51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CE4A2-3B94-4DB6-AED6-D7DCE8A6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55C7A-06BF-42D3-8CD5-0B59AF8D7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56E2E-3DCD-4B2F-8655-8D31CD13C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C1A00-38F8-49F5-878E-37255929D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F673-C1AB-476F-89E9-6B510E28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10978-52EC-410C-9196-3898DF86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EED48-BB38-4506-858D-68E717F4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2FE88-6756-4C91-84DC-17919353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5660F-8691-494B-A10D-C2C858937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F754C-6640-4704-8764-650B315A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FF432-74DC-45F0-B5C6-A337CA86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65F70-37EB-4E70-9E02-ABDECCF7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4B857-49DC-455D-8723-80EB7E92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33B89-03E2-482B-B23C-0065F0E7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DB9C5-EF92-42D0-976A-FB7404F10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75BF-2A3F-4330-BF11-DFCB5E21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5A4C0-17EB-410E-8720-933660F89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1377-96D9-4FAA-A2C8-5B284894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4502-64D3-457F-B9C4-A5C283A2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A918-65EB-4B19-830E-B0A19C41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9C3D-6898-49CA-AB63-37EDA54E364C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8D85-3634-40EE-B789-F6AF7089B19D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0ED13-5D9E-4B95-B4C3-F84BC0A31D84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88E9-3CC1-40C0-BCE2-FFAD1C0B2CD7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26D0-F1FF-4D25-BCCC-3881A8667D62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s://www.google.com/url?q=http://inweekly.net/wordpress/%3Fp%3D4302&amp;sa=U&amp;ei=iDErU5G3M-SW0QGdnIGABQ&amp;ved=0CEEQ9QEwCg&amp;usg=AFQjCNGMMEnK_9SACTpA2-1iMW4_cOTfkw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s://www.google.com/url?q=http://themoderatevoice.com/103592/in-the-wake-of-japan%25E2%2580%2599s-earthquaketsunami-nuclear-power-plant-concerns/&amp;sa=U&amp;ei=iDErU5G3M-SW0QGdnIGABQ&amp;ved=0CFkQ9QEwFg&amp;usg=AFQjCNE_-kAZTFWkflYCoFI7l5y6LiW5JA" TargetMode="External"/><Relationship Id="rId5" Type="http://schemas.openxmlformats.org/officeDocument/2006/relationships/image" Target="../media/image11.jpeg"/><Relationship Id="rId6" Type="http://schemas.openxmlformats.org/officeDocument/2006/relationships/hyperlink" Target="https://www.google.com/url?q=http://www.pennenergy.com/articles/pennenergy/2013/02/duke-energy-announces-closure-of-florida-nuclear-power-plant.html&amp;sa=U&amp;ei=iDErU5G3M-SW0QGdnIGABQ&amp;ved=0CH0Q9QEwKA&amp;usg=AFQjCNG1DUdZPUMArTxHZfQGNvx9gpsY0A" TargetMode="External"/><Relationship Id="rId7" Type="http://schemas.openxmlformats.org/officeDocument/2006/relationships/image" Target="../media/image12.jpeg"/><Relationship Id="rId8" Type="http://schemas.openxmlformats.org/officeDocument/2006/relationships/hyperlink" Target="https://www.google.com/url?q=http://blog.panampost.com/frank-worley-lopez/2013/09/16/the-case-for-nuclear-power-in-puerto-rico/&amp;sa=U&amp;ei=iDErU5G3M-SW0QGdnIGABQ&amp;ved=0CHsQ9QEwJw&amp;usg=AFQjCNFCYYxKGH47VnnQ5JApJq1yLClqcA" TargetMode="External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triplepundit.com/2009/02/nuclear-energy-pros-and-cons/" TargetMode="External"/><Relationship Id="rId3" Type="http://schemas.openxmlformats.org/officeDocument/2006/relationships/hyperlink" Target="https://www.dosomething.org/tipsandtools/11-facts-about-nuclear-energy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69916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By: Thai Taylor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133200" y="317520"/>
            <a:ext cx="757260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It was discovered in 1789  by martin klaporth, he was German chemist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Nuclear power plants uses fission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Nuclear comes form nonrenewable substances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Every 18 to 24 months the power plant shuts down to make radioactive waste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1 in 5 households and business in the u.s uses nuclear power energy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American uses almost 2,000 tons of radioactive waste each year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More than 70% of Americas emission-free power comes form nuclear energy sources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Nuclear power is being used in over 30 countries around the world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74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ong construction time, plus higher cost due to complex radiation 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Unknown ris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aste lasts 200-500 thousand year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arget for terroris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7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ower carbon dioxide and other green house gas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uture nuclear waste can be recycled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ower operating cost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arge power generating capacity able to meet the industrial and city need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le 1" descr=""/>
          <p:cNvPicPr/>
          <p:nvPr/>
        </p:nvPicPr>
        <p:blipFill>
          <a:blip r:embed="rId1"/>
          <a:stretch/>
        </p:blipFill>
        <p:spPr>
          <a:xfrm>
            <a:off x="133200" y="317520"/>
            <a:ext cx="7572600" cy="11574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https://encrypted-tbn0.gstatic.com/images?q=tbn:ANd9GcQ20-KAIJqhE2kjma3mVFzmxIyUUXluhKcm3OlsHJ1bf22bGoFmL7hT709x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1600200"/>
            <a:ext cx="2541600" cy="19144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https://encrypted-tbn1.gstatic.com/images?q=tbn:ANd9GcTt9P44knRMNtUANe_6hoG1Fc8GwKosm4KuQ-naiWYFN0InrGqlF2Ri6olGa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733920" y="1447920"/>
            <a:ext cx="2509560" cy="2208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https://encrypted-tbn1.gstatic.com/images?q=tbn:ANd9GcQMg-47CJdK_xeFpSG1hDYj6W0gKqUpv5ItkhItCaZj0zx1xl_X7MAjQNmP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28600" y="4038480"/>
            <a:ext cx="3048120" cy="2295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0" descr="https://encrypted-tbn2.gstatic.com/images?q=tbn:ANd9GcR0UUydt2kachy7IGOCH4KhBYwsWj7LoVvnLJC_w2zWp1CbdxOYu91_ys7-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114800" y="4038480"/>
            <a:ext cx="2971800" cy="22575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74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de66"/>
                </a:solidFill>
                <a:uFillTx/>
                <a:latin typeface="Trebuchet MS"/>
                <a:hlinkClick r:id="rId2"/>
              </a:rPr>
              <a:t>http://www.triplepundit.com/2009/02/nuclear-energy-pros-and-cons/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de66"/>
                </a:solidFill>
                <a:uFillTx/>
                <a:latin typeface="Trebuchet MS"/>
                <a:hlinkClick r:id="rId3"/>
              </a:rPr>
              <a:t>https://www.dosomething.org/tipsandtools/11-facts-about-nuclear-energ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ttp://themoderatevoice.com/103592/in-the-wake-of-japan%E2%80%99s-earthquaketsunami-nuclear-power-plant-concerns/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ttp://blog.panampost.com/frank-worley-lopez/2013/09/16/the-case-for-nuclear-power-in-puerto-rico/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ttp://inweekly.net/wordpress/?p=4302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ttp://en.wikipedia.org/wiki/Gundremmingen_Nuclear_Power_Plan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18:05:00Z</dcterms:created>
  <dc:creator> </dc:creator>
  <dc:description/>
  <dc:language>en-US</dc:language>
  <cp:lastModifiedBy> </cp:lastModifiedBy>
  <dcterms:modified xsi:type="dcterms:W3CDTF">2014-03-21T18:32:51Z</dcterms:modified>
  <cp:revision>17</cp:revision>
  <dc:subject/>
  <dc:title>Radioisotopes</dc:title>
</cp:coreProperties>
</file>