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375-34F6-4C05-8EA5-1786E5DC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768-C45D-435F-9C7F-593294DA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731-D968-4B9F-9675-5DFA4E86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58D-E406-457C-91BC-A35F851D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59AB-D2E8-45E0-B4C0-F72D8ADE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A300-2DC5-4E7C-9461-8734F387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29A-1935-4957-B361-89B2A249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3954-618A-4EF7-9646-3328842A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EDF3-8C24-41C5-8DB1-BABA4DCB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7F6C-68F3-4DA8-8E15-EC04B563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C446-251C-4322-B97B-78574B67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8FA-6F11-43B4-A6DF-4A1F0B55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A8A2-154C-4DC4-AA01-27FC4E48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2A49-A250-4D44-A230-73C175C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B49-2607-4D21-8166-1700788A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7C2-C452-4792-8592-0D6AA1ED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66A0-A901-4966-B855-40589A70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C8E8-164E-452A-9229-09A41E3F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4107-3868-4BD8-9152-3FD8451B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4631-589F-4849-AA1F-941A355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2009-31B6-4770-BA1C-C25CFE9A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C9A2-CBA4-4A73-BE22-4AC4811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25F-A876-402D-BD31-10B01BC8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0C38-921F-42A9-B85D-F324BAB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50C8-C545-49AC-B1AA-A26CB6A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F6FE-3B00-4757-929A-66DD1F47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F44F-FC2D-454C-BC73-59BEB43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5779-3B49-4CE4-BC49-7BC55851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1CA5-AD19-4088-B808-40EBABAA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2486-9846-4DB8-BE03-DF1296B7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08B2-E870-4C6A-BE6B-239B87D0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5693-D9A4-43FC-944E-E7BDB406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0572-95F7-4FEA-8015-B4590C9D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0CD-69C5-46FB-AFAA-9E01F35C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82AB-ADC8-47FA-914B-A3E96946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EC77-BD81-480F-87A9-12444EE8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B38E-6A18-4621-B1F0-166C9EB3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6C27-C822-498D-AD87-EB8EB99D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2A5D-3CC8-404D-88F3-2E1FE7E3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A751-448C-4B87-A964-977341B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2C02-E6CD-422F-B578-F2CC19EB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7DCC-438E-41B8-82EE-8790D9CF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9EB5-82AA-4901-9A9D-D53ED0D2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A478-80E2-49BA-AF93-6BA90D82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3D0-16FF-43B0-89FC-09FC2FC1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675E-F057-44FB-9AE8-66FF2832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CE420-BB18-4FC8-8274-2AF2FC1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6FEC-5D1A-410D-93C7-AD53E4F7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617D-7E5A-4A0A-9EFB-E6B2AE0C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F18B-1E13-4D93-944D-750A56F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A08E-5225-4612-8AE1-E9A6FC42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0000-D7F6-4D7A-A477-8522E3F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691F5-9BCD-4FCA-8C1A-0BC2271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CE8A-BA34-4241-9E05-BD8F249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637A-7797-49D9-B52C-D0989CAD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A1D-A2FC-4889-90EE-6776A07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DC53-0E38-48C3-9BCD-795EA380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1CE-25E7-4CA7-95B5-D32DE80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04C-6580-4AF0-90F0-E5A4C67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EF9-CB0D-47B4-BAE3-F8D7B72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CDA7-7E45-43CB-8BA7-598070C2BA5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3FE3-2382-4942-B79C-7D6CE161597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705-44DE-487E-B9D8-E9E82E8C6BF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860A-DF41-400C-BE8B-C08F4DE299F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69C7-7F44-4C75-9D7B-B2676A3938F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com/url?q=http://inweekly.net/wordpress/%3Fp%3D4302&amp;sa=U&amp;ei=iDErU5G3M-SW0QGdnIGABQ&amp;ved=0CEEQ9QEwCg&amp;usg=AFQjCNGMMEnK_9SACTpA2-1iMW4_cOTfkw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s://www.google.com/url?q=http://themoderatevoice.com/103592/in-the-wake-of-japan%25E2%2580%2599s-earthquaketsunami-nuclear-power-plant-concerns/&amp;sa=U&amp;ei=iDErU5G3M-SW0QGdnIGABQ&amp;ved=0CFkQ9QEwFg&amp;usg=AFQjCNE_-kAZTFWkflYCoFI7l5y6LiW5JA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s://www.google.com/url?q=http://www.pennenergy.com/articles/pennenergy/2013/02/duke-energy-announces-closure-of-florida-nuclear-power-plant.html&amp;sa=U&amp;ei=iDErU5G3M-SW0QGdnIGABQ&amp;ved=0CH0Q9QEwKA&amp;usg=AFQjCNG1DUdZPUMArTxHZfQGNvx9gpsY0A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s://www.google.com/url?q=http://blog.panampost.com/frank-worley-lopez/2013/09/16/the-case-for-nuclear-power-in-puerto-rico/&amp;sa=U&amp;ei=iDErU5G3M-SW0QGdnIGABQ&amp;ved=0CHsQ9QEwJw&amp;usg=AFQjCNFCYYxKGH47VnnQ5JApJq1yLClqcA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triplepundit.com/2009/02/nuclear-energy-pros-and-cons/" TargetMode="External"/><Relationship Id="rId3" Type="http://schemas.openxmlformats.org/officeDocument/2006/relationships/hyperlink" Target="https://www.dosomething.org/tipsandtools/11-facts-about-nuclear-energ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6991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Thai Tayl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t was discovered in 1789  by martin klaporth, he was German chemis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plants uses fiss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comes form nonrenewable substanc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very 18 to 24 months the power plant shuts down to make radioactive was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 in 5 households and business in the u.s uses nuclear power energ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merican uses almost 2,000 tons of radioactive waste each yea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ore than 70% of Americas emission-free power comes form nuclear energy sourc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is being used in over 30 countries around the worl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ng construction time, plus higher cost due to complex radiation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known ris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e lasts 200-500 thousand ye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get for terror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carbon dioxide and other green house ga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 nuclear waste can be recycl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operating co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rge power generating capacity able to meet the industrial and city nee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s://encrypted-tbn0.gstatic.com/images?q=tbn:ANd9GcQ20-KAIJqhE2kjma3mVFzmxIyUUXluhKcm3OlsHJ1bf22bGoFmL7hT709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541600" cy="191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s://encrypted-tbn1.gstatic.com/images?q=tbn:ANd9GcTt9P44knRMNtUANe_6hoG1Fc8GwKosm4KuQ-naiWYFN0InrGqlF2Ri6olG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447920"/>
            <a:ext cx="250956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s://encrypted-tbn1.gstatic.com/images?q=tbn:ANd9GcQMg-47CJdK_xeFpSG1hDYj6W0gKqUpv5ItkhItCaZj0zx1xl_X7MAjQN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0384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s://encrypted-tbn2.gstatic.com/images?q=tbn:ANd9GcR0UUydt2kachy7IGOCH4KhBYwsWj7LoVvnLJC_w2zWp1CbdxOYu91_ys7-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403848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triplepundit.com/2009/02/nuclear-energy-pros-and-co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s://www.dosomething.org/tipsandtools/11-facts-about-nuclear-ener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themoderatevoice.com/103592/in-the-wake-of-japan%E2%80%99s-earthquaketsunami-nuclear-power-plant-concer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blog.panampost.com/frank-worley-lopez/2013/09/16/the-case-for-nuclear-power-in-puerto-rico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inweekly.net/wordpress/?p=430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.wikipedia.org/wiki/Gundremmingen_Nuclear_Power_Pl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5:00Z</dcterms:created>
  <dc:creator> </dc:creator>
  <dc:description/>
  <dc:language>en-US</dc:language>
  <cp:lastModifiedBy> </cp:lastModifiedBy>
  <dcterms:modified xsi:type="dcterms:W3CDTF">2014-03-21T18:32:51Z</dcterms:modified>
  <cp:revision>17</cp:revision>
  <dc:subject/>
  <dc:title>Radioisotopes</dc:title>
</cp:coreProperties>
</file>