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93BB-E2FD-4D05-BF31-7F5F27B2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083F-0B54-421D-8256-0058BAF1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6A5F-3577-4A09-95E0-63A23575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52FC-E3CA-4A5C-8A72-6A4BD05E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18B4-5459-465A-B87C-6B1B6228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8601-B456-4FAB-B9E4-B4AD91C4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D24C-F9E9-464E-A163-33467E23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2D93-C298-4653-A902-F84ED53C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E20E-EE2A-446A-B0B1-CF2A1EAE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1616-320F-4336-86CE-14CFFC90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0E0E-3F63-4BA5-9882-17DF9578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B731-1E33-464F-B430-7FE290AD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26E4-C3D9-477D-87A1-4EF50F41D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cancercenter.com/video/cancer-types/medanim/ct-sc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afety-sign-radiat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-380880" y="457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aire For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Godfrey-Hounsfield-And-early-ct-sc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3735"/>
                </a:solidFill>
                <a:latin typeface="Calibri"/>
              </a:rPr>
              <a:t>What is a CT cat -c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1219320" y="27432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1066680" y="2209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762120" y="274320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Arial"/>
              </a:rPr>
              <a:t>Uses a computer to take information from X-ray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Arial"/>
              </a:rPr>
              <a:t>CT stands for computerized tomograp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Arial"/>
              </a:rPr>
              <a:t>In 1975 Robert Ledley got a patent for computerized X-rays aka “Catsca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T-Scan-Machine-2-350.jpg"/>
          <p:cNvPicPr/>
          <p:nvPr/>
        </p:nvPicPr>
        <p:blipFill>
          <a:blip r:embed="rId1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Fast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CT scan takes detailed pictures of inside the body called “slices” that are then put together by a compu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hildren who can’t stay still during the Cat Scan process are given a sudation to help them sleep while getting scann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scans usually take about 5 to 10 minutes depending what area it’s being done 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3" descr="F3_medium.gif"/>
          <p:cNvPicPr/>
          <p:nvPr/>
        </p:nvPicPr>
        <p:blipFill>
          <a:blip r:embed="rId1"/>
          <a:stretch/>
        </p:blipFill>
        <p:spPr>
          <a:xfrm>
            <a:off x="0" y="0"/>
            <a:ext cx="4191120" cy="261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t_scan_800.jpg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800px-Computed_tomography_of_human_brain_-_large.png"/>
          <p:cNvPicPr/>
          <p:nvPr/>
        </p:nvPicPr>
        <p:blipFill>
          <a:blip r:embed="rId3"/>
          <a:stretch/>
        </p:blipFill>
        <p:spPr>
          <a:xfrm>
            <a:off x="0" y="2590920"/>
            <a:ext cx="4191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at-scan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Videos (No-youtub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cancercenter.com/video/cancer-types/medanim/ct-scan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cancercenter.com/video/treatments-technology/pet-ct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tscan-e6e9b97ca28171e22c60dd18421b3145c1aafbb6-s3-c85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bioclinica.com/blog/evolution-ct-scan-clinical-t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medicalnewstoday.com/articles/153201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2:24:34Z</dcterms:created>
  <dc:creator> </dc:creator>
  <dc:description/>
  <dc:language>en-US</dc:language>
  <cp:lastModifiedBy> </cp:lastModifiedBy>
  <dcterms:modified xsi:type="dcterms:W3CDTF">2014-03-24T12:07:36Z</dcterms:modified>
  <cp:revision>17</cp:revision>
  <dc:subject/>
  <dc:title> </dc:title>
</cp:coreProperties>
</file>