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131-5E81-4E7A-8843-D3CA5E5E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AC6-BABE-4B72-9F52-D321870C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93E-A47C-49CC-94A5-77FA4DA3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A4C-4770-4D98-82BA-31E890CA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188-1C73-4183-B6D8-EFEAA3FA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350-27E6-4262-979C-6225D78A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855-BD56-43F2-B6A1-C40B7BC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554-E04C-46FD-ADA6-7C16812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D4F-8365-49B9-99B9-A7DC18E1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3CA-6111-4A69-8761-D0B37EE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996-2D89-4D90-B383-6991915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766-B803-4C3C-8668-70603EB3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D4BB-1285-4FA8-A524-1CFDC9324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cancercenter.com/video/cancer-types/medanim/ct-sc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afety-sign-radi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8088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ire Fo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Godfrey-Hounsfield-And-early-ct-sc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What is a CT cat -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19320" y="2743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66680" y="2209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762120" y="2743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Uses a computer to take information from X-ray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CT stands for computerized tom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In 1975 Robert Ledley got a patent for computerized X-rays aka “Catsca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T-Scan-Machine-2-350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CT scan takes detailed pictures of inside the body called “slices” that are then put together by a compu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ildren who can’t stay still during the Cat Scan process are given a sudation to help them sleep while getting scan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scans usually take about 5 to 10 minutes depending what area it’s being don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F3_medium.gif"/>
          <p:cNvPicPr/>
          <p:nvPr/>
        </p:nvPicPr>
        <p:blipFill>
          <a:blip r:embed="rId1"/>
          <a:stretch/>
        </p:blipFill>
        <p:spPr>
          <a:xfrm>
            <a:off x="0" y="0"/>
            <a:ext cx="4191120" cy="26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t_scan_800.jpg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800px-Computed_tomography_of_human_brain_-_large.png"/>
          <p:cNvPicPr/>
          <p:nvPr/>
        </p:nvPicPr>
        <p:blipFill>
          <a:blip r:embed="rId3"/>
          <a:stretch/>
        </p:blipFill>
        <p:spPr>
          <a:xfrm>
            <a:off x="0" y="259092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at-scan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Videos (No-youtub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ancercenter.com/video/cancer-types/medanim/ct-sca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ancercenter.com/video/treatments-technology/pet-c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tscan-e6e9b97ca28171e22c60dd18421b3145c1aafbb6-s3-c85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ioclinica.com/blog/evolution-ct-scan-clinical-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medicalnewstoday.com/articles/153201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24:34Z</dcterms:created>
  <dc:creator> </dc:creator>
  <dc:description/>
  <dc:language>en-US</dc:language>
  <cp:lastModifiedBy> </cp:lastModifiedBy>
  <dcterms:modified xsi:type="dcterms:W3CDTF">2014-03-24T12:07:36Z</dcterms:modified>
  <cp:revision>17</cp:revision>
  <dc:subject/>
  <dc:title> </dc:title>
</cp:coreProperties>
</file>