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8F8-5A3D-4B93-A6FC-709F6D6F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244-8220-4ED9-9A96-68F3609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7DC-F1D6-44B2-97BF-3F543179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4B3-5DC2-4430-BF39-4A9E45A1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CC5-9C06-438C-A224-330148EE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583-367E-43D1-A8A1-309EB64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74F-AAFE-4F5D-AAB7-23B16D8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E4A-B6B9-443E-9C03-FB70D081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6EB-180A-4C47-B00C-EF84FB03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808-74DD-4644-A17F-621CA92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524-817C-4F36-A3EA-F83825A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042-A16F-4CA6-94EB-3E55A2C4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8B15-0385-42CC-9136-36718BF95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cancercenter.com/video/cancer-types/medanim/ct-sc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afety-sign-radi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8088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ire Fo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Godfrey-Hounsfield-And-early-ct-sc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What is a CT cat -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19320" y="2743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66680" y="2209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762120" y="2743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Uses a computer to take information from X-ray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CT stands for computerized tom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In 1975 Robert Ledley got a patent for computerized X-rays aka “Catsca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T-Scan-Machine-2-350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CT scan takes detailed pictures of inside the body called “slices” that are then put together by a compu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ildren who can’t stay still during the Cat Scan process are given a sudation to help them sleep while getting scan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scans usually take about 5 to 10 minutes depending what area it’s being don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F3_medium.gif"/>
          <p:cNvPicPr/>
          <p:nvPr/>
        </p:nvPicPr>
        <p:blipFill>
          <a:blip r:embed="rId1"/>
          <a:stretch/>
        </p:blipFill>
        <p:spPr>
          <a:xfrm>
            <a:off x="0" y="0"/>
            <a:ext cx="4191120" cy="26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t_scan_800.jpg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800px-Computed_tomography_of_human_brain_-_large.png"/>
          <p:cNvPicPr/>
          <p:nvPr/>
        </p:nvPicPr>
        <p:blipFill>
          <a:blip r:embed="rId3"/>
          <a:stretch/>
        </p:blipFill>
        <p:spPr>
          <a:xfrm>
            <a:off x="0" y="259092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at-scan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Videos (No-youtub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ancercenter.com/video/cancer-types/medanim/ct-sca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ancercenter.com/video/treatments-technology/pet-c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tscan-e6e9b97ca28171e22c60dd18421b3145c1aafbb6-s3-c85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ioclinica.com/blog/evolution-ct-scan-clinical-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medicalnewstoday.com/articles/153201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24:34Z</dcterms:created>
  <dc:creator> </dc:creator>
  <dc:description/>
  <dc:language>en-US</dc:language>
  <cp:lastModifiedBy> </cp:lastModifiedBy>
  <dcterms:modified xsi:type="dcterms:W3CDTF">2014-03-24T12:07:36Z</dcterms:modified>
  <cp:revision>17</cp:revision>
  <dc:subject/>
  <dc:title> </dc:title>
</cp:coreProperties>
</file>