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89E-A4D9-4878-B949-DA66C81D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6D7-4FCE-4585-B9EF-0466B0F2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11A-B487-47D6-871C-16FEE63F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68D-2F24-4EC0-A737-1ED1F7A6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584-E873-401C-8FBE-CE73F56A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404-6DDF-4C20-812F-68EDCBCA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5D5-3449-4CE7-843F-7605BBD1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468-05A9-4AEC-BD69-BDD07CE6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2EC-BAC2-45EE-813F-51BCE30B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6E1-BB82-4245-ACFD-D1AC3B11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A61-8290-40D9-9703-13A2F327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5FA-0673-44C4-BF53-BD865F5B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788E-E838-4F5B-B0B7-1AA3EBA43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cancercenter.com/video/cancer-types/medanim/ct-sc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afety-sign-radia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8088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ire Fo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Godfrey-Hounsfield-And-early-ct-sc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Calibri"/>
              </a:rPr>
              <a:t>What is a CT cat -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219320" y="2743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066680" y="2209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762120" y="27432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Uses a computer to take information from X-ray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CT stands for computerized tomogra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In 1975 Robert Ledley got a patent for computerized X-rays aka “Catsca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T-Scan-Machine-2-350.jpg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Fast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CT scan takes detailed pictures of inside the body called “slices” that are then put together by a compu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hildren who can’t stay still during the Cat Scan process are given a sudation to help them sleep while getting scan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scans usually take about 5 to 10 minutes depending what area it’s being done 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F3_medium.gif"/>
          <p:cNvPicPr/>
          <p:nvPr/>
        </p:nvPicPr>
        <p:blipFill>
          <a:blip r:embed="rId1"/>
          <a:stretch/>
        </p:blipFill>
        <p:spPr>
          <a:xfrm>
            <a:off x="0" y="0"/>
            <a:ext cx="4191120" cy="261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t_scan_800.jpg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800px-Computed_tomography_of_human_brain_-_large.png"/>
          <p:cNvPicPr/>
          <p:nvPr/>
        </p:nvPicPr>
        <p:blipFill>
          <a:blip r:embed="rId3"/>
          <a:stretch/>
        </p:blipFill>
        <p:spPr>
          <a:xfrm>
            <a:off x="0" y="2590920"/>
            <a:ext cx="4191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at-scan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Videos (No-youtub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ancercenter.com/video/cancer-types/medanim/ct-scan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cancercenter.com/video/treatments-technology/pet-c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tscan-e6e9b97ca28171e22c60dd18421b3145c1aafbb6-s3-c85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ioclinica.com/blog/evolution-ct-scan-clinical-t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medicalnewstoday.com/articles/153201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2:24:34Z</dcterms:created>
  <dc:creator> </dc:creator>
  <dc:description/>
  <dc:language>en-US</dc:language>
  <cp:lastModifiedBy> </cp:lastModifiedBy>
  <dcterms:modified xsi:type="dcterms:W3CDTF">2014-03-24T12:07:36Z</dcterms:modified>
  <cp:revision>17</cp:revision>
  <dc:subject/>
  <dc:title> </dc:title>
</cp:coreProperties>
</file>