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9B5-0DA3-4155-AA9D-2831B5EB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FC1-6235-4F8C-BDA8-ADE1EF9D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0EE-B89F-48CE-B772-45BE054C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956-EA47-45DB-9D80-4B51A16E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468-8FD9-471C-A735-88A71F42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332-8EC9-4DAC-B4F6-7171C20A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83E-7F52-4A19-8D1C-346E21E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6AB-5609-4244-BA7B-623B77A5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BE0-3F75-4B14-BEDA-3F5C79D3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D9B-23C8-47C9-B50E-F7936F76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44B-7D53-41FA-8974-990983A2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74F-DE41-4A9A-8A29-7C43CC55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50B2-67EB-4850-980C-313D5990E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ncer.gov/" TargetMode="External"/><Relationship Id="rId2" Type="http://schemas.openxmlformats.org/officeDocument/2006/relationships/hyperlink" Target="http://www.cancer.org/" TargetMode="External"/><Relationship Id="rId3" Type="http://schemas.openxmlformats.org/officeDocument/2006/relationships/hyperlink" Target="http://www.royalmarsden.nhs.uk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skin can app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rrhea can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usea and vomiting can also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images.lifescript.com/images/ebsco/images/AUhttp://images.lifescript.com/images/ebsco/images/AU00038.jpg00038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cancer.gov/PublishedContent/Images/images/cancertopics/11_-30-accelerator-art-pg-9.jpg"/>
          <p:cNvPicPr/>
          <p:nvPr/>
        </p:nvPicPr>
        <p:blipFill>
          <a:blip r:embed="rId1"/>
          <a:stretch/>
        </p:blipFill>
        <p:spPr>
          <a:xfrm>
            <a:off x="609480" y="243828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images.lifescript.com/images/ebsco/images/AU00038.jpg"/>
          <p:cNvPicPr/>
          <p:nvPr/>
        </p:nvPicPr>
        <p:blipFill>
          <a:blip r:embed="rId2"/>
          <a:stretch/>
        </p:blipFill>
        <p:spPr>
          <a:xfrm>
            <a:off x="5214960" y="2209680"/>
            <a:ext cx="301932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4438800" y="5867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lifescript.com/images/ebsco/images/AU0003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65200" y="48196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ternal Radiat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934320" y="2208240"/>
            <a:ext cx="23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hysio-pedia.com/images/9/9c/Internal-and-External-Radiation-Therapy.p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physio-pedia.com/images/9/9c/Internal-and-External-Radiation-Therapy.png"/>
          <p:cNvPicPr/>
          <p:nvPr/>
        </p:nvPicPr>
        <p:blipFill>
          <a:blip r:embed="rId1"/>
          <a:stretch/>
        </p:blipFill>
        <p:spPr>
          <a:xfrm>
            <a:off x="304920" y="2438280"/>
            <a:ext cx="3657600" cy="275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www.fashion-era.com/images/Photosfam/veinsred.jpg"/>
          <p:cNvPicPr/>
          <p:nvPr/>
        </p:nvPicPr>
        <p:blipFill>
          <a:blip r:embed="rId2"/>
          <a:stretch/>
        </p:blipFill>
        <p:spPr>
          <a:xfrm>
            <a:off x="4238640" y="2195640"/>
            <a:ext cx="4226040" cy="3590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264200" y="582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ashion-era.com/images/Photosfam/veinsre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33520" y="51307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987800" y="26938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esotheliomacancer1.info/wp-content/uploads/2013/12/radiation-therapy-side-effects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mesotheliomacancer1.info/wp-content/uploads/2013/12/radiation-therapy-side-effects.jpg"/>
          <p:cNvPicPr/>
          <p:nvPr/>
        </p:nvPicPr>
        <p:blipFill>
          <a:blip r:embed="rId1"/>
          <a:stretch/>
        </p:blipFill>
        <p:spPr>
          <a:xfrm>
            <a:off x="2362320" y="2286000"/>
            <a:ext cx="337824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048120" y="53341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ancer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ncer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royalmarsden.nhs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Irene</cp:lastModifiedBy>
  <dcterms:modified xsi:type="dcterms:W3CDTF">2014-03-25T20:55:49Z</dcterms:modified>
  <cp:revision>23</cp:revision>
  <dc:subject/>
  <dc:title>Radiation Therapy</dc:title>
</cp:coreProperties>
</file>