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2E3-26DD-4CAB-9F80-EEA8C5C0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527-74C0-4911-844B-C0E8A624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E22-9D47-4A14-B1FF-8E00F167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CC5-0D86-48B6-A0F4-FCD06ECE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F16-2043-4FAE-88BB-B49C6CBE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747-DD2D-4B2D-88AD-A28059C1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879-0797-4B56-951F-9F88B1D1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668-6BC3-421A-B20C-30404070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EAF-AFD4-4DEA-BDE0-9CCA0CD0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810-F8EB-4F84-A2FA-4B95DC0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ED2-558F-4B85-832D-625F9B73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803-6697-4D56-AED2-D11ECBDA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80E-0C74-4A54-8C44-3BE0B57EF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ncer.gov/" TargetMode="External"/><Relationship Id="rId2" Type="http://schemas.openxmlformats.org/officeDocument/2006/relationships/hyperlink" Target="http://www.cancer.org/" TargetMode="External"/><Relationship Id="rId3" Type="http://schemas.openxmlformats.org/officeDocument/2006/relationships/hyperlink" Target="http://www.royalmarsden.nhs.uk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skin can app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rrhea can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usea and vomiting can also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images.lifescript.com/images/ebsco/images/AUhttp://images.lifescript.com/images/ebsco/images/AU00038.jpg00038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cancer.gov/PublishedContent/Images/images/cancertopics/11_-30-accelerator-art-pg-9.jpg"/>
          <p:cNvPicPr/>
          <p:nvPr/>
        </p:nvPicPr>
        <p:blipFill>
          <a:blip r:embed="rId1"/>
          <a:stretch/>
        </p:blipFill>
        <p:spPr>
          <a:xfrm>
            <a:off x="609480" y="2438280"/>
            <a:ext cx="2857680" cy="244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images.lifescript.com/images/ebsco/images/AU00038.jpg"/>
          <p:cNvPicPr/>
          <p:nvPr/>
        </p:nvPicPr>
        <p:blipFill>
          <a:blip r:embed="rId2"/>
          <a:stretch/>
        </p:blipFill>
        <p:spPr>
          <a:xfrm>
            <a:off x="5214960" y="2209680"/>
            <a:ext cx="3019320" cy="3657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4438800" y="5867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ages.lifescript.com/images/ebsco/images/AU0003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565200" y="48196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ternal Radiatio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934320" y="2208240"/>
            <a:ext cx="235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hysio-pedia.com/images/9/9c/Internal-and-External-Radiation-Therapy.p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ww.physio-pedia.com/images/9/9c/Internal-and-External-Radiation-Therapy.png"/>
          <p:cNvPicPr/>
          <p:nvPr/>
        </p:nvPicPr>
        <p:blipFill>
          <a:blip r:embed="rId1"/>
          <a:stretch/>
        </p:blipFill>
        <p:spPr>
          <a:xfrm>
            <a:off x="304920" y="2438280"/>
            <a:ext cx="3657600" cy="275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www.fashion-era.com/images/Photosfam/veinsred.jpg"/>
          <p:cNvPicPr/>
          <p:nvPr/>
        </p:nvPicPr>
        <p:blipFill>
          <a:blip r:embed="rId2"/>
          <a:stretch/>
        </p:blipFill>
        <p:spPr>
          <a:xfrm>
            <a:off x="4238640" y="2195640"/>
            <a:ext cx="4226040" cy="3590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4264200" y="582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ashion-era.com/images/Photosfam/veinsre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33520" y="51307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987800" y="26938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esotheliomacancer1.info/wp-content/uploads/2013/12/radiation-therapy-side-effects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mesotheliomacancer1.info/wp-content/uploads/2013/12/radiation-therapy-side-effects.jpg"/>
          <p:cNvPicPr/>
          <p:nvPr/>
        </p:nvPicPr>
        <p:blipFill>
          <a:blip r:embed="rId1"/>
          <a:stretch/>
        </p:blipFill>
        <p:spPr>
          <a:xfrm>
            <a:off x="2362320" y="2286000"/>
            <a:ext cx="337824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048120" y="53341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ancer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ncer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royalmarsden.nhs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Irene</cp:lastModifiedBy>
  <dcterms:modified xsi:type="dcterms:W3CDTF">2014-03-25T20:55:49Z</dcterms:modified>
  <cp:revision>23</cp:revision>
  <dc:subject/>
  <dc:title>Radiation Therapy</dc:title>
</cp:coreProperties>
</file>