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64C-2407-4549-98A9-C83A4B1E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257-8C3B-460C-ABA3-E39BE3EC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3F6-D2E4-43D4-998E-D13AEF74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0B9-4FDD-4C3D-B9B1-26188038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D4C-D76C-4E3A-9ED2-91D23C3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42F-0151-49A0-AE21-2860E85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546-F017-40D1-833A-E05BE0E8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93B-D749-4C9B-B93A-3D5F2CE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312-DC6F-4AE4-9CC7-889A2CC1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82B-2F3A-4713-80F2-0E4C9BA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115-4931-456B-8567-2AA88F3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D64-C3A7-4C6F-ACB3-85AC435F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F913-C534-4108-AD71-2D9621B18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 </cp:lastModifiedBy>
  <dcterms:modified xsi:type="dcterms:W3CDTF">2014-03-21T18:31:31Z</dcterms:modified>
  <cp:revision>17</cp:revision>
  <dc:subject/>
  <dc:title>Radiation Therapy</dc:title>
</cp:coreProperties>
</file>