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8477-634F-4DD7-AD86-C50A499C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922E-6B8F-4B6F-A5D8-7128EF43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DD3-B0B3-4698-8E3D-3E2E7607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6C4-4568-4E0C-81D4-ABA87859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F128-8F3C-48CB-B2B0-C5246B79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5AF8-053E-445C-99AA-758C0F65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D068-3EEC-4EB0-9F86-F3878816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B43-9727-4E21-A813-4BD7E426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DFD7-E23B-4CED-AC7C-748598E0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B9E-CB96-4E1E-8536-BBAC7843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ECC-A847-46C9-A338-14630774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95F8-5B93-430B-88E1-F59A304D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395A-FBA8-45F4-8596-F3B016EF2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ancer.gov/" TargetMode="External"/><Relationship Id="rId2" Type="http://schemas.openxmlformats.org/officeDocument/2006/relationships/hyperlink" Target="http://www.cancer.org/" TargetMode="External"/><Relationship Id="rId3" Type="http://schemas.openxmlformats.org/officeDocument/2006/relationships/hyperlink" Target="http://www.royalmarsden.nhs.uk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Calibri"/>
              </a:rPr>
              <a:t>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bbe9"/>
                </a:solidFill>
                <a:latin typeface="Calibri"/>
              </a:rPr>
              <a:t>By ; Amber Stall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l Grubbe was the first person to use radiation to treat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radiation therapy used a single massive dose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tist used the skin on their arms to test the radiation str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wards the end of the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ntury computers made it easier to aim the radiation on the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therapy is a treatment that uses high-energy radiation to shrink tumors and kill cancer cells. This type of therapy can be delivered outside of the body by a machine or radioactive material can be placed inside of the body. Radiation therapy can also damage normal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troys the cancerous cel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rinks many types of tum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s the growth of cancer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damage/destroy 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de effects can happen after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herapy can harm an unborn 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skin can app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rrhea can occ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usea and vomiting can also occ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7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images.lifescript.com/images/ebsco/images/AUhttp://images.lifescript.com/images/ebsco/images/AU00038.jpg00038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://www.cancer.gov/PublishedContent/Images/images/cancertopics/11_-30-accelerator-art-pg-9.jpg"/>
          <p:cNvPicPr/>
          <p:nvPr/>
        </p:nvPicPr>
        <p:blipFill>
          <a:blip r:embed="rId1"/>
          <a:stretch/>
        </p:blipFill>
        <p:spPr>
          <a:xfrm>
            <a:off x="609480" y="2438280"/>
            <a:ext cx="2857680" cy="244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ttp://images.lifescript.com/images/ebsco/images/AU00038.jpg"/>
          <p:cNvPicPr/>
          <p:nvPr/>
        </p:nvPicPr>
        <p:blipFill>
          <a:blip r:embed="rId2"/>
          <a:stretch/>
        </p:blipFill>
        <p:spPr>
          <a:xfrm>
            <a:off x="5214960" y="2209680"/>
            <a:ext cx="3019320" cy="3657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4438800" y="58672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images.lifescript.com/images/ebsco/images/AU0003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565200" y="48196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ternal Radiation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6934320" y="2208240"/>
            <a:ext cx="235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Radiation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hysio-pedia.com/images/9/9c/Internal-and-External-Radiation-Therapy.p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www.physio-pedia.com/images/9/9c/Internal-and-External-Radiation-Therapy.png"/>
          <p:cNvPicPr/>
          <p:nvPr/>
        </p:nvPicPr>
        <p:blipFill>
          <a:blip r:embed="rId1"/>
          <a:stretch/>
        </p:blipFill>
        <p:spPr>
          <a:xfrm>
            <a:off x="304920" y="2438280"/>
            <a:ext cx="3657600" cy="2752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ttp://www.fashion-era.com/images/Photosfam/veinsred.jpg"/>
          <p:cNvPicPr/>
          <p:nvPr/>
        </p:nvPicPr>
        <p:blipFill>
          <a:blip r:embed="rId2"/>
          <a:stretch/>
        </p:blipFill>
        <p:spPr>
          <a:xfrm>
            <a:off x="4238640" y="2195640"/>
            <a:ext cx="4226040" cy="3590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4264200" y="582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ashion-era.com/images/Photosfam/veinsred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533520" y="51307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Radiation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4987800" y="269388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mesotheliomacancer1.info/wp-content/uploads/2013/12/radiation-therapy-side-effects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mesotheliomacancer1.info/wp-content/uploads/2013/12/radiation-therapy-side-effects.jpg"/>
          <p:cNvPicPr/>
          <p:nvPr/>
        </p:nvPicPr>
        <p:blipFill>
          <a:blip r:embed="rId1"/>
          <a:stretch/>
        </p:blipFill>
        <p:spPr>
          <a:xfrm>
            <a:off x="2362320" y="2286000"/>
            <a:ext cx="337824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3048120" y="53341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cancer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ancer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royalmarsden.nhs.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07:34Z</dcterms:created>
  <dc:creator> </dc:creator>
  <dc:description/>
  <dc:language>en-US</dc:language>
  <cp:lastModifiedBy>Irene</cp:lastModifiedBy>
  <dcterms:modified xsi:type="dcterms:W3CDTF">2014-03-25T20:55:49Z</dcterms:modified>
  <cp:revision>23</cp:revision>
  <dc:subject/>
  <dc:title>Radiation Therapy</dc:title>
</cp:coreProperties>
</file>