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A013-4F61-46C8-8B5F-12DF06547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45D3-67FC-4B5C-94AF-28190305A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C542-495F-4C39-9815-C419855AA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3F25-01F6-4382-9DAF-354F2EF2F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E590-D9BB-4C0F-8120-C93150619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D7E6-F704-42D7-8BA7-0D9768C3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CBD7-64E1-4D58-B2E9-B31D7BE5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29D8-EC49-43A7-8B9E-73602266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6EB5-EA37-4375-A074-DC6B9399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E018-9529-4501-B0E9-BFF649AE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F4A9-923D-4793-9075-42A8E0F6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99E2-E967-4803-B130-D56F7C6D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1D8D-E237-4A05-806B-3EB73E0D33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ancer.gov/" TargetMode="External"/><Relationship Id="rId2" Type="http://schemas.openxmlformats.org/officeDocument/2006/relationships/hyperlink" Target="http://www.cancer.org/" TargetMode="External"/><Relationship Id="rId3" Type="http://schemas.openxmlformats.org/officeDocument/2006/relationships/hyperlink" Target="http://www.royalmarsden.nhs.uk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Calibri"/>
              </a:rPr>
              <a:t>Radiation Thera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bbe9"/>
                </a:solidFill>
                <a:latin typeface="Calibri"/>
              </a:rPr>
              <a:t>By ; Amber Stall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mil Grubbe was the first person to use radiation to treat canc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rly radiation therapy used a single massive dose of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ientist used the skin on their arms to test the radiation streng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wards the end of the 2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entury computers made it easier to aim the radiation on the canc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Radiation Thera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ation therapy is a treatment that uses high-energy radiation to shrink tumors and kill cancer cells. This type of therapy can be delivered outside of the body by a machine or radioactive material can be placed inside of the body. Radiation therapy can also damage normal cel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s of Radiation Thera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troys the cancerous cell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rinks many types of tum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ops the growth of cancer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 of Radiation Thera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damage/destroy normal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de effects can happen after treat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therapy can harm an unborn fe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s in skin can app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arrhea can occ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usea and vomiting can also occ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c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7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images.lifescript.com/images/ebsco/images/AUhttp://images.lifescript.com/images/ebsco/images/AU00038.jpg00038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5" descr="http://www.cancer.gov/PublishedContent/Images/images/cancertopics/11_-30-accelerator-art-pg-9.jpg"/>
          <p:cNvPicPr/>
          <p:nvPr/>
        </p:nvPicPr>
        <p:blipFill>
          <a:blip r:embed="rId1"/>
          <a:stretch/>
        </p:blipFill>
        <p:spPr>
          <a:xfrm>
            <a:off x="609480" y="2438280"/>
            <a:ext cx="2857680" cy="244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http://images.lifescript.com/images/ebsco/images/AU00038.jpg"/>
          <p:cNvPicPr/>
          <p:nvPr/>
        </p:nvPicPr>
        <p:blipFill>
          <a:blip r:embed="rId2"/>
          <a:stretch/>
        </p:blipFill>
        <p:spPr>
          <a:xfrm>
            <a:off x="5214960" y="2209680"/>
            <a:ext cx="3019320" cy="36576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"/>
          <p:cNvSpPr/>
          <p:nvPr/>
        </p:nvSpPr>
        <p:spPr>
          <a:xfrm>
            <a:off x="4438800" y="58672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images.lifescript.com/images/ebsco/images/AU00038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"/>
          <p:cNvSpPr/>
          <p:nvPr/>
        </p:nvSpPr>
        <p:spPr>
          <a:xfrm>
            <a:off x="565200" y="4819680"/>
            <a:ext cx="2438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ternal Radiation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6934320" y="2208240"/>
            <a:ext cx="2357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al Radiation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c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physio-pedia.com/images/9/9c/Internal-and-External-Radiation-Therapy.p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http://www.physio-pedia.com/images/9/9c/Internal-and-External-Radiation-Therapy.png"/>
          <p:cNvPicPr/>
          <p:nvPr/>
        </p:nvPicPr>
        <p:blipFill>
          <a:blip r:embed="rId1"/>
          <a:stretch/>
        </p:blipFill>
        <p:spPr>
          <a:xfrm>
            <a:off x="304920" y="2438280"/>
            <a:ext cx="3657600" cy="2752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http://www.fashion-era.com/images/Photosfam/veinsred.jpg"/>
          <p:cNvPicPr/>
          <p:nvPr/>
        </p:nvPicPr>
        <p:blipFill>
          <a:blip r:embed="rId2"/>
          <a:stretch/>
        </p:blipFill>
        <p:spPr>
          <a:xfrm>
            <a:off x="4238640" y="2195640"/>
            <a:ext cx="4226040" cy="35906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"/>
          <p:cNvSpPr/>
          <p:nvPr/>
        </p:nvSpPr>
        <p:spPr>
          <a:xfrm>
            <a:off x="4264200" y="5823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fashion-era.com/images/Photosfam/veinsred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533520" y="5130720"/>
            <a:ext cx="2743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al Radiation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4987800" y="2693880"/>
            <a:ext cx="31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ff"/>
                </a:solidFill>
                <a:latin typeface="Arial"/>
              </a:rPr>
              <a:t>Eff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c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mesotheliomacancer1.info/wp-content/uploads/2013/12/radiation-therapy-side-effects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http://mesotheliomacancer1.info/wp-content/uploads/2013/12/radiation-therapy-side-effects.jpg"/>
          <p:cNvPicPr/>
          <p:nvPr/>
        </p:nvPicPr>
        <p:blipFill>
          <a:blip r:embed="rId1"/>
          <a:stretch/>
        </p:blipFill>
        <p:spPr>
          <a:xfrm>
            <a:off x="2362320" y="2286000"/>
            <a:ext cx="337824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TextBox 1"/>
          <p:cNvSpPr/>
          <p:nvPr/>
        </p:nvSpPr>
        <p:spPr>
          <a:xfrm>
            <a:off x="3048120" y="533412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ff"/>
                </a:solidFill>
                <a:latin typeface="Arial"/>
              </a:rPr>
              <a:t>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0"/>
                </a:solidFill>
                <a:latin typeface="Calibri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cancer.g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cancer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royalmarsden.nhs.u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8T18:07:34Z</dcterms:created>
  <dc:creator> </dc:creator>
  <dc:description/>
  <dc:language>en-US</dc:language>
  <cp:lastModifiedBy>Irene</cp:lastModifiedBy>
  <dcterms:modified xsi:type="dcterms:W3CDTF">2014-03-25T20:55:49Z</dcterms:modified>
  <cp:revision>23</cp:revision>
  <dc:subject/>
  <dc:title>Radiation Therapy</dc:title>
</cp:coreProperties>
</file>