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43F-D983-407C-A4C2-5B1B7D14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BED-478E-47D5-9C2B-C7E12FD1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BB8-2477-4E2C-A076-16E474CD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E01-080C-4EDC-BF69-1E619B45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C4A-E5E8-4DC0-BEF8-93A6D6AC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4F7-73D3-4F15-AE13-8D1F2C68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300-563D-45AE-B867-FF1B122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A96-D6A6-4188-881A-920C25C4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BE6-45E5-4CDE-BA13-3CD77E69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5CD-CF3F-41D0-BDCC-5D92FB56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02F-425E-4599-AABA-A542291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3DC-C31E-4B44-805C-D76008E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F9CA-5DBD-4D05-8C9C-A230FDD0E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ncer.gov/" TargetMode="External"/><Relationship Id="rId2" Type="http://schemas.openxmlformats.org/officeDocument/2006/relationships/hyperlink" Target="http://www.cancer.org/" TargetMode="External"/><Relationship Id="rId3" Type="http://schemas.openxmlformats.org/officeDocument/2006/relationships/hyperlink" Target="http://www.royalmarsden.nhs.uk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skin can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rrhea can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usea and vomiting can also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images.lifescript.com/images/ebsco/images/AUhttp://images.lifescript.com/images/ebsco/images/AU00038.jpg0003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cancer.gov/PublishedContent/Images/images/cancertopics/11_-30-accelerator-art-pg-9.jpg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images.lifescript.com/images/ebsco/images/AU00038.jpg"/>
          <p:cNvPicPr/>
          <p:nvPr/>
        </p:nvPicPr>
        <p:blipFill>
          <a:blip r:embed="rId2"/>
          <a:stretch/>
        </p:blipFill>
        <p:spPr>
          <a:xfrm>
            <a:off x="5214960" y="2209680"/>
            <a:ext cx="301932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4438800" y="5867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lifescript.com/images/ebsco/images/AU0003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65200" y="48196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ternal Radiat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934320" y="220824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hysio-pedia.com/images/9/9c/Internal-and-External-Radiation-Therapy.p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physio-pedia.com/images/9/9c/Internal-and-External-Radiation-Therapy.png"/>
          <p:cNvPicPr/>
          <p:nvPr/>
        </p:nvPicPr>
        <p:blipFill>
          <a:blip r:embed="rId1"/>
          <a:stretch/>
        </p:blipFill>
        <p:spPr>
          <a:xfrm>
            <a:off x="304920" y="2438280"/>
            <a:ext cx="3657600" cy="275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www.fashion-era.com/images/Photosfam/veinsred.jpg"/>
          <p:cNvPicPr/>
          <p:nvPr/>
        </p:nvPicPr>
        <p:blipFill>
          <a:blip r:embed="rId2"/>
          <a:stretch/>
        </p:blipFill>
        <p:spPr>
          <a:xfrm>
            <a:off x="4238640" y="2195640"/>
            <a:ext cx="4226040" cy="3590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264200" y="582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ashion-era.com/images/Photosfam/veinsre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33520" y="5130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987800" y="26938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sotheliomacancer1.info/wp-content/uploads/2013/12/radiation-therapy-side-effects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mesotheliomacancer1.info/wp-content/uploads/2013/12/radiation-therapy-side-effects.jpg"/>
          <p:cNvPicPr/>
          <p:nvPr/>
        </p:nvPicPr>
        <p:blipFill>
          <a:blip r:embed="rId1"/>
          <a:stretch/>
        </p:blipFill>
        <p:spPr>
          <a:xfrm>
            <a:off x="2362320" y="2286000"/>
            <a:ext cx="337824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048120" y="5334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ncer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royalmarsden.nhs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Irene</cp:lastModifiedBy>
  <dcterms:modified xsi:type="dcterms:W3CDTF">2014-03-25T20:55:49Z</dcterms:modified>
  <cp:revision>23</cp:revision>
  <dc:subject/>
  <dc:title>Radiation Therapy</dc:title>
</cp:coreProperties>
</file>