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DB0C-D267-49AB-B0E9-4D7610A2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CFF9-7E65-4605-BC69-174F4C6C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791-3809-46B0-9403-4849A7E3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256E-3E82-4E94-9238-5FDB61BB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C024-ECDF-46ED-97A1-93CFF956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858C-6F27-47AE-AA87-6C652E2C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06C7-1658-440C-B403-54CFC461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DA37-07A6-45A9-999C-04556ED0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76C-BCEF-40BE-BA3F-DC7DA210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98E0-8F7F-4D9C-9928-4252EC7D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04B8-38DA-4FEB-B0C2-4DE96931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7579-166E-4D9D-8AC9-E44A17BF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A5F4-A25C-4600-9DD5-C0845F066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Calibri"/>
              </a:rPr>
              <a:t>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bbe9"/>
                </a:solidFill>
                <a:latin typeface="Calibri"/>
              </a:rPr>
              <a:t>By ; Amber Stall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il Grubbe was the first person to use radiation to treat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radiation therapy used a single massive dose of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tist used the skin on their arms to test the radiation str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wards the end of the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entury computers made it easier to aim the radiation on the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therapy is a treatment that uses high-energy radiation to shrink tumors and kill cancer cells. This type of therapy can be delivered outside of the body by a machine or radioactive material can be placed inside of the body. Radiation therapy can also damage normal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s of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troys the cancerous cel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rinks many types of tum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ps the growth of cancer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 of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damage/destroy normal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de effects can happen after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herapy can harm an unborn 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07:34Z</dcterms:created>
  <dc:creator> </dc:creator>
  <dc:description/>
  <dc:language>en-US</dc:language>
  <cp:lastModifiedBy> </cp:lastModifiedBy>
  <dcterms:modified xsi:type="dcterms:W3CDTF">2014-03-21T18:31:31Z</dcterms:modified>
  <cp:revision>17</cp:revision>
  <dc:subject/>
  <dc:title>Radiation Therapy</dc:title>
</cp:coreProperties>
</file>