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E0D-F8FD-441E-B3F1-D813AE4B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C40-CB7E-4A67-A4E3-B690E038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255-A866-4B00-A30D-98122F42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E6B-A960-40D0-B6C2-54338C64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439-7377-4AAD-89C7-C569F02E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7F7-D459-4E60-831A-C2EFEB5E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C02-9184-44B8-AB65-5D487DF6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8FA-7F33-4228-A9F7-204B551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3A9-45B4-47F5-8B9B-68B9A2F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4B0-BB0C-4257-9E76-0A89558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324-A94D-4C5C-8F2F-13EE501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83E-BC48-4152-B6A8-E977554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895B-29EE-43A7-B111-25198DBAA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 </cp:lastModifiedBy>
  <dcterms:modified xsi:type="dcterms:W3CDTF">2014-03-21T18:31:31Z</dcterms:modified>
  <cp:revision>17</cp:revision>
  <dc:subject/>
  <dc:title>Radiation Therapy</dc:title>
</cp:coreProperties>
</file>