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D5C-BF82-4F03-8DBE-30668B60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F96-3F40-45B4-A3EB-22811B9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242-2524-410F-A57A-6F32279D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24A-76E6-4697-A0FE-DFF8AB56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D39-E644-4BE7-9C58-589434F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400-BF46-4126-A77F-CD6E0F4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A0B-0059-4625-A202-2008EC5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8E0-7780-4B57-B05C-A4A1D2F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091-A2AA-4C15-9E0C-6A8F32FA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02A-9954-4320-ABFB-37EA132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DA1-BAE6-4CCB-9408-6A10F36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FAD-143B-4042-AEC8-46E24BD1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A7C8-56E0-4009-9724-F20EB8711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alibri"/>
              </a:rPr>
              <a:t>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bbe9"/>
                </a:solidFill>
                <a:latin typeface="Calibri"/>
              </a:rPr>
              <a:t>By ; Amber Stal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il Grubbe was the first person to use radiation to treat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radiation therapy used a single massive dose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tist used the skin on their arms to test the radiation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the end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computers made it easier to aim the radiation on the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therapy is a treatment that uses high-energy radiation to shrink tumors and kill cancer cells. This type of therapy can be delivered outside of the body by a machine or radioactive material can be placed inside of the body. Radiation therapy can also damage norm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s the cancerous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inks many types of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the growth of cancer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 of Radiation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amage/destroy 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de effects can happen after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herapy can harm an unborn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7:34Z</dcterms:created>
  <dc:creator> </dc:creator>
  <dc:description/>
  <dc:language>en-US</dc:language>
  <cp:lastModifiedBy> </cp:lastModifiedBy>
  <dcterms:modified xsi:type="dcterms:W3CDTF">2014-03-21T18:31:31Z</dcterms:modified>
  <cp:revision>17</cp:revision>
  <dc:subject/>
  <dc:title>Radiation Therapy</dc:title>
</cp:coreProperties>
</file>