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2FF-7C6E-4511-AE62-136A3355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E5E-DCAD-4B03-A6EA-AD721685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728-2A76-4553-89DF-31D2E159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141-FFF9-4A38-AFE4-198FDCE6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C83-7071-4AE2-A50A-29106121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E01-A42C-427D-942B-42380480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DC0-A523-46C3-BE9D-EDC195A5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4C5-E0C9-409A-AF99-1484E7AC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D63-1C5B-4E53-8ABD-47DCCF56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B71-1BC0-4C04-9AE5-1D098F4A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E6C-CA66-443B-9443-CFEDDAE5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241-2C4B-443C-B4FD-FBACF494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B249-1C84-4497-BFF5-D857B6D01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alibri"/>
              </a:rPr>
              <a:t>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bbe9"/>
                </a:solidFill>
                <a:latin typeface="Calibri"/>
              </a:rPr>
              <a:t>By ; Amber Stal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l Grubbe was the first person to use radiation to treat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radiation therapy used a single massive dose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 used the skin on their arms to test the radiation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s the end of th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computers made it easier to aim the radiation on the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therapy is a treatment that uses high-energy radiation to shrink tumors and kill cancer cells. This type of therapy can be delivered outside of the body by a machine or radioactive material can be placed inside of the body. Radiation therapy can also damage normal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s the cancerous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rinks many types of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s the growth of cancer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damage/destroy 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 effects can happen after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herapy can harm an unborn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7:34Z</dcterms:created>
  <dc:creator> </dc:creator>
  <dc:description/>
  <dc:language>en-US</dc:language>
  <cp:lastModifiedBy> </cp:lastModifiedBy>
  <dcterms:modified xsi:type="dcterms:W3CDTF">2014-03-21T18:31:31Z</dcterms:modified>
  <cp:revision>17</cp:revision>
  <dc:subject/>
  <dc:title>Radiation Therapy</dc:title>
</cp:coreProperties>
</file>