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13E05-A37F-4DC5-A89C-385C27E8D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D3C66-32F9-467E-AAEE-5E1178167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139D2-BDF5-4A75-BA11-F39DFE110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93A0A-6BE6-4B91-BA94-330292B01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531AF-6AA9-4A93-8550-02EB99CDD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FE994-4DDE-45BC-858A-B3E6A9C24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7B813-CD67-40BD-A2A1-D31FCB65F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BBE0E-42B5-467E-B16A-F5FF078B0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D3DD3-55AC-4FEE-B943-AD3F0BCB7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EF561-44CD-4456-AE2F-E59DFDBC2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5C688-B9CA-41B4-B637-648E11565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B64A6-D3A2-4581-884E-2B721FEB9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4B423-B070-490E-9BD4-DF880BC825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eb4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History of Nuclear Materia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By: Mackenzie Reiche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3809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ff"/>
                </a:solidFill>
                <a:uFillTx/>
                <a:latin typeface="Calibri"/>
              </a:rPr>
              <a:t>PLUTONIU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eb4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troversy in the U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today’s world many controversy goes on about Nuclear Materials not being protected. As stated in a news conference, “The international nuclear security framework remains weak and uneven.“ Many people in the US believe that there should be security on these Nuclear Materials others do no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heel spokes="1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eb4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urity on Nuclear Materials would help prevent terrorist attack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ople who disagree believe it will be too difficult for security to be intact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eb4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u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www.nti.org/about/projects/nti-index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s://www.nrc.gov/materials.htm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www.nationaljournal.com/global-security-newswire/officials-eye-new-nuclear-security-gains-beyond-next-week-s-summit-2014031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eb4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0" y="-6480"/>
            <a:ext cx="9144000" cy="229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uclear material is defined by Title I of the Atomic Energy Act of 1954 as plutonium, uranium-233, or uranium enriched in the isotopes uranium-233 or uranium-235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Box 4"/>
          <p:cNvSpPr/>
          <p:nvPr/>
        </p:nvSpPr>
        <p:spPr>
          <a:xfrm>
            <a:off x="0" y="3276720"/>
            <a:ext cx="9144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Nuclear Material??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dioactive material containing plutonium (but not exceeding 80 percent of plutonium 238), or uranium 233 or 235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eb4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0" y="-360"/>
            <a:ext cx="91440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discovery of the element is credited to the German chemist Martin Heinrich Klaproth. While he was working in his experimental laboratory in Berlin in 1789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6" descr="http://www.cyberphysics.co.uk/graphics/equations/U238decay.gif"/>
          <p:cNvPicPr/>
          <p:nvPr/>
        </p:nvPicPr>
        <p:blipFill>
          <a:blip r:embed="rId1"/>
          <a:stretch/>
        </p:blipFill>
        <p:spPr>
          <a:xfrm>
            <a:off x="152280" y="2819520"/>
            <a:ext cx="9387000" cy="1971720"/>
          </a:xfrm>
          <a:prstGeom prst="rect">
            <a:avLst/>
          </a:prstGeom>
          <a:ln w="0">
            <a:noFill/>
          </a:ln>
        </p:spPr>
      </p:pic>
      <p:sp>
        <p:nvSpPr>
          <p:cNvPr id="47" name="TextBox 1"/>
          <p:cNvSpPr/>
          <p:nvPr/>
        </p:nvSpPr>
        <p:spPr>
          <a:xfrm>
            <a:off x="1676520" y="5562720"/>
            <a:ext cx="586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alibri"/>
              </a:rPr>
              <a:t>URANIU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eb4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Uranium Fa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ranium is a silvery-white metallic chemical element with symbol U and atomic number 92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uranium atom has 92 protons and 92 electrons, of which 6 are valence electr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the early twentieth century, Glenn Seaborg converted uranium-238 into plutoniu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eb4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-20880" y="-27000"/>
            <a:ext cx="9164520" cy="208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rico Fermi and a team of scientists at the University of Rome reported that they had discovered element 94 in 1934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>
            <a:off x="1676520" y="5562720"/>
            <a:ext cx="586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alibri"/>
              </a:rPr>
              <a:t>PLUTONIU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8" descr="http://www.quarkology.com/12-physics/98-quanta-quarks/images/98C-pic-alpha-decay.png"/>
          <p:cNvPicPr/>
          <p:nvPr/>
        </p:nvPicPr>
        <p:blipFill>
          <a:blip r:embed="rId1"/>
          <a:stretch/>
        </p:blipFill>
        <p:spPr>
          <a:xfrm>
            <a:off x="2287440" y="1981080"/>
            <a:ext cx="4645080" cy="29718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eb4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lutonium Fa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lutonium is a radioactive chemical element with the symbol Pu and atomic number 94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original sample was a mixture of barium, krypton, and other elements, but this was not known at the time because nuclear fission had not been discovered ye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ll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eb4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6480" y="-3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orium is a naturally occurring radioactive chemical element with the symbol Th and atomic number 90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4" descr="http://physicsnet.co.uk/wp-content/uploads/2010/05/alpha-decay-of-thorium.jpg"/>
          <p:cNvPicPr/>
          <p:nvPr/>
        </p:nvPicPr>
        <p:blipFill>
          <a:blip r:embed="rId1"/>
          <a:stretch/>
        </p:blipFill>
        <p:spPr>
          <a:xfrm>
            <a:off x="228600" y="2971800"/>
            <a:ext cx="8610480" cy="1486080"/>
          </a:xfrm>
          <a:prstGeom prst="rect">
            <a:avLst/>
          </a:prstGeom>
          <a:ln w="0">
            <a:noFill/>
          </a:ln>
        </p:spPr>
      </p:pic>
      <p:sp>
        <p:nvSpPr>
          <p:cNvPr id="57" name="TextBox 5"/>
          <p:cNvSpPr/>
          <p:nvPr/>
        </p:nvSpPr>
        <p:spPr>
          <a:xfrm>
            <a:off x="1676520" y="5562720"/>
            <a:ext cx="586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Calibri"/>
              </a:rPr>
              <a:t>THORIUM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over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eb4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orium Fa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rten Thrane Esmark found a black mineral on in Norwa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orium was first observed to be radioactive in 1898, independently, by the Polish-French physicist Marie Curie and the German chemist Gerhard Carl Schmid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4343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alibri"/>
              </a:rPr>
              <a:t>URANIU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8T16:58:49Z</dcterms:created>
  <dc:creator>ASD</dc:creator>
  <dc:description/>
  <dc:language>en-US</dc:language>
  <cp:lastModifiedBy>ASD</cp:lastModifiedBy>
  <dcterms:modified xsi:type="dcterms:W3CDTF">2014-03-19T17:36:08Z</dcterms:modified>
  <cp:revision>12</cp:revision>
  <dc:subject/>
  <dc:title>The History of Nuclear Materials</dc:title>
</cp:coreProperties>
</file>