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2C79-AFCB-49AF-B6D5-D15CCB9AB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D6FB-422D-46D9-AD5F-47F9FDA9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F83B-3898-431C-9953-54056BFB9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C7DF-057B-4A77-A5F7-E4F98A2F0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E5CE-3F13-4135-A2C5-B1FFE4B4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F6D3-F2F7-44A3-86D4-BE50E078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5882-9193-4304-98D2-9C77D1AF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BFD2-BFEB-46CD-B9E1-35BB6377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1E13-C9B6-4F85-92D6-53E32ED3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B2FB-48F8-40ED-8DD8-EDD38A4E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6E57-36CF-4A9F-87EC-F49BC24A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3875-19D1-4059-8D21-AAAF6413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FCD8-3003-43A5-B39E-3D0A9DA191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History of Nuclear Materi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y: Mackenzie Reiche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3809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PLUTON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roversy in the U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oday’s world many controversy goes on about Nuclear Materials not being protected. As stated in a news conference, “The international nuclear security framework remains weak and uneven.“ Many people in the US believe that there should be security on these Nuclear Materials others do no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urity on Nuclear Materials would help prevent terrorist attac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who disagree believe it will be too difficult for security to be intac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nti.org/about/projects/nti-index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s://www.nrc.gov/materials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nationaljournal.com/global-security-newswire/officials-eye-new-nuclear-security-gains-beyond-next-week-s-summit-201403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-6480"/>
            <a:ext cx="9144000" cy="22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ear material is defined by Title I of the Atomic Energy Act of 1954 as plutonium, uranium-233, or uranium enriched in the isotopes uranium-233 or uranium-23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0" y="327672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Nuclear Material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active material containing plutonium (but not exceeding 80 percent of plutonium 238), or uranium 233 or 23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-36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iscovery of the element is credited to the German chemist Martin Heinrich Klaproth. While he was working in his experimental laboratory in Berlin in 178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6" descr="http://www.cyberphysics.co.uk/graphics/equations/U238decay.gif"/>
          <p:cNvPicPr/>
          <p:nvPr/>
        </p:nvPicPr>
        <p:blipFill>
          <a:blip r:embed="rId1"/>
          <a:stretch/>
        </p:blipFill>
        <p:spPr>
          <a:xfrm>
            <a:off x="152280" y="2819520"/>
            <a:ext cx="9387000" cy="1971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1676520" y="556272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URAN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ranium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anium is a silvery-white metallic chemical element with symbol U and atomic number 9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uranium atom has 92 protons and 92 electrons, of which 6 are valence electr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early twentieth century, Glenn Seaborg converted uranium-238 into pluton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-20880" y="-27000"/>
            <a:ext cx="9164520" cy="20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rico Fermi and a team of scientists at the University of Rome reported that they had discovered element 94 in 193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1676520" y="556272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PLUTON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8" descr="http://www.quarkology.com/12-physics/98-quanta-quarks/images/98C-pic-alpha-decay.png"/>
          <p:cNvPicPr/>
          <p:nvPr/>
        </p:nvPicPr>
        <p:blipFill>
          <a:blip r:embed="rId1"/>
          <a:stretch/>
        </p:blipFill>
        <p:spPr>
          <a:xfrm>
            <a:off x="2287440" y="1981080"/>
            <a:ext cx="464508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tonium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utonium is a radioactive chemical element with the symbol Pu and atomic number 9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riginal sample was a mixture of barium, krypton, and other elements, but this was not known at the time because nuclear fission had not been discovered y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480" y="-3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orium is a naturally occurring radioactive chemical element with the symbol Th and atomic number 9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http://physicsnet.co.uk/wp-content/uploads/2010/05/alpha-decay-of-thorium.jpg"/>
          <p:cNvPicPr/>
          <p:nvPr/>
        </p:nvPicPr>
        <p:blipFill>
          <a:blip r:embed="rId1"/>
          <a:stretch/>
        </p:blipFill>
        <p:spPr>
          <a:xfrm>
            <a:off x="228600" y="2971800"/>
            <a:ext cx="8610480" cy="1486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676520" y="556272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THORIU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orium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ten Thrane Esmark found a black mineral on in Norw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orium was first observed to be radioactive in 1898, independently, by the Polish-French physicist Marie Curie and the German chemist Gerhard Carl Schmid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343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URAN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16:58:49Z</dcterms:created>
  <dc:creator>ASD</dc:creator>
  <dc:description/>
  <dc:language>en-US</dc:language>
  <cp:lastModifiedBy>ASD</cp:lastModifiedBy>
  <dcterms:modified xsi:type="dcterms:W3CDTF">2014-03-19T17:36:08Z</dcterms:modified>
  <cp:revision>12</cp:revision>
  <dc:subject/>
  <dc:title>The History of Nuclear Materials</dc:title>
</cp:coreProperties>
</file>