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5442-44EF-4FD0-B260-6E6BA3671A7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4767-41E9-4E29-8B7F-9BFBAC9C5A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0823-A295-4906-A5CA-74E2F95A14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E492C-53F7-4190-B338-639A805A7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41453-60E7-4DF7-B4A3-C2B5F0974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7FE7A-E40A-4BBE-9F8C-6E63044BF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09635-419B-4A40-973A-3E172798C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40565-23BC-475D-9666-A5421D8C1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7F6EC-858A-4D9F-B4D4-D84CA3F6D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B862F-8AEF-4466-B328-BCFF78ED8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8DB23-DD36-41EC-878C-81AECECD3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876F3-46F6-44F4-995C-8B1B28F22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42008-5EE7-4537-BCBE-99E9A449B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7C1C8-78DF-4C39-AF53-6B01E0D42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B2157-BC66-45CC-9659-ACAAAAEA8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6367D-53BE-4682-B3B3-27ED59E84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08245-E2C1-46E9-BA44-AA352B1AB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7E1E2-405D-481D-800C-6BD9149D7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A1525-5111-427D-B119-032FD0349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651E2-AB8E-43A2-A113-588E08CB9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6DE277-DC13-400D-88F8-61960C4D53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A7EFE-7555-47AE-918B-F1AC6E5C7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2C63BE-721F-4778-B35B-1B8A6283F4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3413C3-5E4A-426D-98BC-73805852C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3BAC1-A62C-4417-B6E2-AC9E521D5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9D033-67AC-4D93-831B-5A46B463C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77D6DE-CA67-4679-A594-60C820FBA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9D52C-192D-451F-B504-8DB89C14F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54991-D4D8-4B28-A69F-CD36D5CA0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22FD3-6C5C-45D5-99E4-07D847838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EFECF1-4F55-4553-B809-CD550F51BB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EA9C25-47C1-46CA-8E38-E044A25FC6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215561-7F0D-42FB-AA73-8D8CB4C7BB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8D1F29-0DFC-48C9-AF79-59F986DFE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356FB-D700-45C7-AE7E-20ED6AB50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2550E-6FA1-4BCC-A97F-4FB917137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14FC2-BCE2-46B3-94DC-CADE020EA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0C26C-F106-4856-B181-C5FB8C1B8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45C658-A188-4071-ABFC-3C8BE71DD6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FCC44-2FA4-44B9-B7EE-AC0EA2BEC0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3A83E-36AA-4350-8519-3F638F0A7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353F8-7961-4299-8F6C-6249EC86B4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7FE64-3C69-4C52-B285-0ECB43A36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7A7D28-5A48-4CCB-8FDC-4C408743E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50ED5D-9183-43C3-A52F-9BF3A97D6B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12FDDB-6E06-481E-A471-E97534D0F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4B6592-CC2E-4FB4-A74D-CD2CC6B8FF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E1E8-90D1-4333-B7F3-3830A35E5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3DF802-EE92-4088-8079-3805962E7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6FD71-D7AC-4CF4-889D-78AC28EC1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41B605-C4CF-4E89-8C12-E1D866F1B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5A3C65-43EB-4EC8-8708-D98A7678D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F56C2A-AB6B-490B-986F-93E7E29DC5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426DD-2DA2-49CF-ACEB-5F405DBFEC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EAC54-15AC-4EB1-B3F1-25B15D42AB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B41C4-D2BA-4A6F-BBF8-DD26424FC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985149-81C2-4F5B-BB85-D42489E8E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89F12A-3374-4D51-9E71-DB9A44D430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CF4C8-62D0-4848-B82C-3D287611C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27607D-5BAF-4275-8760-8976F47CE3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B879AD-5C27-4D33-A9E2-A07D53C6A2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4BA58-4661-49E3-8064-D96B2C8743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9677D8-E3FE-41DB-968F-402EA00282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EFC71-3411-423E-92A5-360120131B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B538BA-9C97-4185-A337-F9155B85CF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B0591E-7E21-472F-9405-E1E378DE59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74CD4B-A350-4758-8B44-219A6AAB2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A4A0F-C96D-4988-BF27-1AF3C836D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8C00A-B580-4ADD-8E1D-8921DE6C8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2B20-8114-4E40-8F39-9F4517107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DD3945-88BD-4970-90D7-3717340F08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02C9F6-582C-41C3-857C-2CD858D4DD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E6B760-F3E6-4528-B20D-F66FFB6EC3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9ABC4A-163C-4120-809F-00E5560A98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49F61F-7991-48E0-8AD7-5199F4AF04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C04EB6-08B8-40E1-9975-C75A622A5E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BAE525-CE1E-46EB-BDBA-84991D9C25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470DE9-6D29-4508-AC84-F716F45D62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EB3E0A-E73C-4C84-8796-7B0A74B33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508BF-A8FF-4C98-84F1-347A432DAC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43570-664B-414B-9FFD-4E5ACF4E5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0F0D6-9F23-4411-9846-D7DC2709C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99C15-474C-4CFA-AB08-F060C8B0F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B1B8F7-922F-4ABB-BA2B-D05832AAF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0087D1-7317-4EB4-B4BF-6F3FBE2E69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EB95EF-4081-49CF-B90F-E8621CE170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28B4F-4663-481C-B2C1-D9F716BDC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67E1-562C-4A52-BAAD-BE1641427B9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B7C8-0DC0-4754-A176-590083394D1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68DC-5BC1-4513-8228-6287B51AD6C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9F69-0FC3-4061-B446-91057468784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D58B-1436-47FA-AD74-B32FA6C6B27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65F5-DD44-43CE-A0B5-AFACE3FD654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F9BE-6B26-4681-B894-641CECFC8C9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omicarchive.com/History/coldwar/p19_image.shtml"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835200" y="579600"/>
            <a:ext cx="6943680" cy="1560240"/>
          </a:xfrm>
          <a:prstGeom prst="rect">
            <a:avLst/>
          </a:prstGeom>
          <a:ln w="0">
            <a:noFill/>
          </a:ln>
        </p:spPr>
      </p:pic>
      <p:pic>
        <p:nvPicPr>
          <p:cNvPr id="376" name="Picture 2" descr="Three Mile Island (TMI)">
            <a:hlinkClick r:id="rId2"/>
          </p:cNvPr>
          <p:cNvPicPr/>
          <p:nvPr/>
        </p:nvPicPr>
        <p:blipFill>
          <a:blip r:embed="rId3"/>
          <a:stretch/>
        </p:blipFill>
        <p:spPr>
          <a:xfrm>
            <a:off x="990720" y="1600200"/>
            <a:ext cx="74674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rst day of disaster</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happen on March 28, 1979. This plant going off was because, of the cooling of water to drain from the nuclear core. The plant started to over heat and broke the emergency water system. After that there was no way of there power plant of turning off.</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3" descr="power plant.jpg"/>
          <p:cNvPicPr/>
          <p:nvPr/>
        </p:nvPicPr>
        <p:blipFill>
          <a:blip r:embed="rId1"/>
          <a:stretch/>
        </p:blipFill>
        <p:spPr>
          <a:xfrm>
            <a:off x="3733920" y="4648320"/>
            <a:ext cx="477180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1eeff"/>
                </a:solidFill>
                <a:latin typeface="Consolas"/>
              </a:rPr>
              <a:t>Health Effects</a:t>
            </a:r>
            <a:endParaRPr b="0" lang="en-US" sz="4000" spc="-1" strike="noStrike">
              <a:solidFill>
                <a:srgbClr val="c1eeff"/>
              </a:solidFill>
              <a:latin typeface="Consolas"/>
            </a:endParaRPr>
          </a:p>
        </p:txBody>
      </p:sp>
      <p:sp>
        <p:nvSpPr>
          <p:cNvPr id="381" name=""/>
          <p:cNvSpPr txBox="1"/>
          <p:nvPr/>
        </p:nvSpPr>
        <p:spPr>
          <a:xfrm>
            <a:off x="914400" y="16002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harmed many people. It made over 2 million people in that area have radiation. It was found in an x-ray by doctors that it hurt the lungs. Also people were buy and using air, water, milk, vegetation, soil, and food ideas and it wasn’t healthy for the human body.</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rc.gov/reading-rm/doc-collections/fact-sheets/3mile-isle.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damage it had</a:t>
            </a:r>
            <a:endParaRPr b="0" lang="en-US" sz="40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was $229 million worth of damage in this accident. It killed trees, plants, and people comes. They cleaned the whole damage in a matter in 14 years. They put a lot of water in the nuclear plant in case of another emergence.</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ytimes.com/1993/08/15/us/14-year-cleanup-at-three-mile-island-concludes.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ng Term effects</a:t>
            </a:r>
            <a:endParaRPr b="0" lang="en-US" sz="4000" spc="-1" strike="noStrike">
              <a:solidFill>
                <a:srgbClr val="c1eeff"/>
              </a:solidFill>
              <a:latin typeface="Consolas"/>
            </a:endParaRPr>
          </a:p>
        </p:txBody>
      </p:sp>
      <p:sp>
        <p:nvSpPr>
          <p:cNvPr id="385" name=""/>
          <p:cNvSpPr txBox="1"/>
          <p:nvPr/>
        </p:nvSpPr>
        <p:spPr>
          <a:xfrm>
            <a:off x="838080" y="16002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changed the nuclear founding in the United States. It hurt many plants in that community and  impact on the nuclear power industry.  In the first two years after the accident any kid were getting sick from radiation. It was created from people touching and eating plants. It was very bad health condition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TMI-Three Mile Island 2"/>
          <p:cNvPicPr/>
          <p:nvPr/>
        </p:nvPicPr>
        <p:blipFill>
          <a:blip r:embed="rId1"/>
          <a:stretch/>
        </p:blipFill>
        <p:spPr>
          <a:xfrm>
            <a:off x="380880" y="838080"/>
            <a:ext cx="8515440" cy="49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8:30Z</dcterms:created>
  <dc:creator>30618</dc:creator>
  <dc:description/>
  <dc:language>en-US</dc:language>
  <cp:lastModifiedBy> </cp:lastModifiedBy>
  <dcterms:modified xsi:type="dcterms:W3CDTF">2014-03-21T18:06:45Z</dcterms:modified>
  <cp:revision>17</cp:revision>
  <dc:subject/>
  <dc:title>Three Mile Island</dc:title>
</cp:coreProperties>
</file>