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EC0B-76A9-4873-84FD-A95D39B137F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22DB-EE61-43B0-9FB4-B4C5995934C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FADE-752E-41AA-8EC0-A091DB084B6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DCABE-0B85-4229-8BF3-AEBE7B74E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A1EA5-6AE7-43B1-BB37-8E9302F9C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038F3-C51E-4921-9086-7653DD705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9B3DB-9668-44E2-9C0C-F7F34FFDB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6B3C1-BF9A-4C85-B5FA-D6E852CC6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DF89C-9E1A-42AC-AECD-E593B39C3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A3F14-11B2-49E9-80AC-D9C3A1873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565AC-6CC3-4627-A239-0454699DC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74905-6687-41E3-BDEF-E35D26725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6C4D7-4572-4B6A-BE96-EE15459F5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AE7DE-8FCE-444F-BC84-BCC74803C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C59ED-48B1-4974-B205-8FE9738BA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11B77-8D91-48A9-89F2-0BE63AB94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5E52B-45C4-4513-87C7-D358B4642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D1232-71F1-44C0-96D1-AF8B0A71A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21D13-EBFA-4B1D-A0F2-814AE84D8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AA380-0DB9-4789-94C8-B7F7D4FB6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36C93D-6514-4184-AEEE-EA3CC6D201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5A7C8E-FA40-4BF8-9D66-7B2257B47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4ADCED-F790-49B3-8C04-AF89B2402C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BAB8D-2D23-4DA1-B8FB-5D58D29884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569064-079C-4934-BB7B-1AAB5C9C47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B5DC4-CFFB-4918-A21A-DE546EF1F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170C20-E4A6-4606-B209-4E3D8AE55E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289E9-E2C3-46F5-A2A3-F3FE90F0E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2B218-0100-474D-9386-7FD91B569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DE257-812C-4383-B688-2DF10C721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9319F-967C-4366-B59E-645AFCCD90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17C4BB-87CF-48C5-BEBF-C6BA402172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79FF84-730F-4495-8C75-EC334884B6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E18B2B-D25F-47C5-8A6A-8DE628DA31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784A2-B7A6-421E-9226-0D944301AF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1EB3F3-A8AA-40D2-8DE3-2E30836CF2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80DED-E85D-4436-BF4E-73C0A20CC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1C8DC2-8ADD-447D-BA68-CA4D22B39C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20C8FB-FB89-4CCD-AF27-8AD4B6ED99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862E1D-5A85-42C1-B9F7-0D04EA53FD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CBD82-907E-41A1-BABC-CAA6DCAF9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50B8E-95C1-4111-9E36-7605D9DCA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DCA93-1D83-41D2-A2A5-979F8EE86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9144C-5012-4ED2-BBA2-5AC50ADFBD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236200-0AED-45DA-80BA-E499936636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BCD675-6CCA-408D-BDC0-904F83AE8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D20BDE-2013-496A-B81F-A9C09B1AB5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5A5FA-FD95-40A4-8519-73F39B72B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CC9AA5-5142-4A6B-BCBC-1AD5BFC435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B6A64A-61AB-4060-923A-0171E57B3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BF7A0F-E94C-4777-B100-6F5704909C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1C8904-DEAE-48FE-BED8-C836B01C1E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69746D-4FB3-47FF-9E47-7970B1AAF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2ADFFC-C562-45BC-8BE9-8C764A480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E62993-4CB8-407D-89A2-E1CF1DF07F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5CA7B-AECE-46CC-B1FD-50596F0F5F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73A280-960B-4898-BF06-155E421C6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A27960-C5BA-459A-8634-0473A35A6E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D0CF8-655F-4F97-8CEE-0038BA1DC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2B9AE2-DC89-49D1-A13A-4DFB3A7D52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2BF1B4-4694-4FB0-8C4A-6C514A044A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A08AA4-2D8D-4CD2-8ECF-B9AE34556F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A73290-CFF6-4534-AC83-9B817E6E73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2E0DC0-EAE4-41A6-96EC-D2923DBCA5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D7B7A9-9B3F-4587-AFA9-14527399DB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DA17F6-B521-4FB8-8A07-F0C62AC124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31D63-6864-424B-B08F-FCF56D965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27A82A-32BD-4900-B12B-EF000FB1DC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F8EE70-23C1-4067-B103-EFB48596B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21D5B-5715-4DC9-B64C-AEBA4C5D0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8CB639-2F44-4455-AC2F-1AE635473D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4C0B5E-3F7D-44DC-B415-CBCFF9EC46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C166FB-2459-4C71-8485-0DC4A011AD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BB866E-1E83-4B2C-B0C4-350CBBA4A0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1E3F4F-D05F-4348-9128-015AA2CDA5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836B4F-CF73-4536-B749-C94004C7BD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564756-FEC9-4958-A421-5A9F39B35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0EFA74-F800-4287-9C6E-2DC1CA51C0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E961D6-471C-478B-8120-5940270EFC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976CE7-027D-4F90-BCB3-5B14D12094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59E3A-8F2A-4243-9767-F78336CC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5E8704-6656-44D7-A6D4-A29802A7D3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906A90-E665-483A-B5D7-E12115F3AC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1F744B-122E-4098-8ABE-B682261420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5C71CC-7237-41E5-BD7F-8FBA221F38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E67F78-2470-427F-BD1F-0277113C49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608D-DB42-4C37-93E7-4FF8A6425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D1F6-99CF-4ED5-8C59-140379CBAFD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C38D-AE82-4460-AC7F-C3397BEC5F4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99D1-8EEF-4F94-A98F-F1DE0C2A4D4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095F-CF32-49B9-9DFF-E53736C040B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D516-43C7-4CA9-B33A-BA73EDC90D7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B37E-BF68-46C6-93AA-4B1F6D85873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71DA-FAFB-408E-9480-CF6C6586ED0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tomicarchive.com/History/coldwar/p19_image.shtml"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835200" y="579600"/>
            <a:ext cx="6943680" cy="1560240"/>
          </a:xfrm>
          <a:prstGeom prst="rect">
            <a:avLst/>
          </a:prstGeom>
          <a:ln w="0">
            <a:noFill/>
          </a:ln>
        </p:spPr>
      </p:pic>
      <p:pic>
        <p:nvPicPr>
          <p:cNvPr id="376" name="Picture 2" descr="Three Mile Island (TMI)">
            <a:hlinkClick r:id="rId2"/>
          </p:cNvPr>
          <p:cNvPicPr/>
          <p:nvPr/>
        </p:nvPicPr>
        <p:blipFill>
          <a:blip r:embed="rId3"/>
          <a:stretch/>
        </p:blipFill>
        <p:spPr>
          <a:xfrm>
            <a:off x="990720" y="1600200"/>
            <a:ext cx="74674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irst day of disaster</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happen on March 28, 1979. This plant going off was because, of the cooling of water to drain from the nuclear core. The plant started to over heat and broke the emergency water system. After that there was no way of there power plant of turning off.</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9" name="Picture 3" descr="power plant.jpg"/>
          <p:cNvPicPr/>
          <p:nvPr/>
        </p:nvPicPr>
        <p:blipFill>
          <a:blip r:embed="rId1"/>
          <a:stretch/>
        </p:blipFill>
        <p:spPr>
          <a:xfrm>
            <a:off x="3733920" y="4648320"/>
            <a:ext cx="4771800" cy="198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1eeff"/>
                </a:solidFill>
                <a:latin typeface="Consolas"/>
              </a:rPr>
              <a:t>Health Effects</a:t>
            </a:r>
            <a:endParaRPr b="0" lang="en-US" sz="4000" spc="-1" strike="noStrike">
              <a:solidFill>
                <a:srgbClr val="c1eeff"/>
              </a:solidFill>
              <a:latin typeface="Consolas"/>
            </a:endParaRPr>
          </a:p>
        </p:txBody>
      </p:sp>
      <p:sp>
        <p:nvSpPr>
          <p:cNvPr id="381" name=""/>
          <p:cNvSpPr txBox="1"/>
          <p:nvPr/>
        </p:nvSpPr>
        <p:spPr>
          <a:xfrm>
            <a:off x="914400" y="160020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disaster harmed many people. It made over 2 million people in that area have radiation. It was found in an x-ray by doctors that it hurt the lungs. Also people were buy and using air, water, milk, vegetation, soil, and food ideas and it wasn’t healthy for the human body.</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rc.gov/reading-rm/doc-collections/fact-sheets/3mile-isle.htm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damage it had</a:t>
            </a:r>
            <a:endParaRPr b="0" lang="en-US" sz="40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was $229 million worth of damage in this accident. It killed trees, plants, and people comes. They cleaned the whole damage in a matter in 14 years. They put a lot of water in the nuclear plant in case of another emergence.</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ytimes.com/1993/08/15/us/14-year-cleanup-at-three-mile-island-concludes.htm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ong Term effects</a:t>
            </a:r>
            <a:endParaRPr b="0" lang="en-US" sz="4000" spc="-1" strike="noStrike">
              <a:solidFill>
                <a:srgbClr val="c1eeff"/>
              </a:solidFill>
              <a:latin typeface="Consolas"/>
            </a:endParaRPr>
          </a:p>
        </p:txBody>
      </p:sp>
      <p:sp>
        <p:nvSpPr>
          <p:cNvPr id="385" name=""/>
          <p:cNvSpPr txBox="1"/>
          <p:nvPr/>
        </p:nvSpPr>
        <p:spPr>
          <a:xfrm>
            <a:off x="838080" y="16002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disaster changed the nuclear founding in the United States. It hurt many plants in that community and  impact on the nuclear power industry.  In the first two years after the accident any kid were getting sick from radiation. It was created from people touching and eating plants. It was very bad health condition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TMI-Three Mile Island 2"/>
          <p:cNvPicPr/>
          <p:nvPr/>
        </p:nvPicPr>
        <p:blipFill>
          <a:blip r:embed="rId1"/>
          <a:stretch/>
        </p:blipFill>
        <p:spPr>
          <a:xfrm>
            <a:off x="380880" y="838080"/>
            <a:ext cx="8515440" cy="491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58:30Z</dcterms:created>
  <dc:creator>30618</dc:creator>
  <dc:description/>
  <dc:language>en-US</dc:language>
  <cp:lastModifiedBy> </cp:lastModifiedBy>
  <dcterms:modified xsi:type="dcterms:W3CDTF">2014-03-21T18:06:45Z</dcterms:modified>
  <cp:revision>17</cp:revision>
  <dc:subject/>
  <dc:title>Three Mile Island</dc:title>
</cp:coreProperties>
</file>