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3E62-5725-4446-AACA-30B87CA41D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E6F3-FC96-40E0-B7FE-8B49CDE216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A1A9-B35A-4617-94B0-684E1B2F28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F52E-A0FF-40B9-9144-10008FD9D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FA7D-89D5-4032-8B8B-AE2810A2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BC44D-FD45-416E-8202-13D141014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063B6-BC39-4091-BE7D-DA0F29FFB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F5ABE-7BA9-4161-8079-093A8F4EA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2A7CB-D257-4CD1-A4A0-07997104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25731-2471-4290-B2B5-B61897DB6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99F9B-F8C4-4EE3-88F2-0E2FE62B2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670A7-11A0-4986-805C-1074E552D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52D0B-3AB7-4DB8-94A0-71C59BBB6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97F11-6607-486A-BD6E-EA4FC5A8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6060A-2839-4871-8BC0-B39F6B5A4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B84C1-15DD-4F43-8CAC-F1F9F03EF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810E8-7CB3-40A9-85C6-753F2580B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C5653-3A18-4B8B-AF5D-BA789B44B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2FBD7-808C-4FC6-9954-68E34EF85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1D4EA-D9D1-411C-99E2-C4B3F156B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A85296-BB61-4427-8B15-83D6480EEC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030C2-7CD8-41EE-A12B-BE29CE9E1E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93D52-EA64-4C54-8FD9-73B88571E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344A2-8099-461D-8008-6D8B2FC0C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5889A-3832-4E00-B491-7BED3A2BB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CFE7-640D-496C-9C19-ABB34780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F634F-6979-4572-9704-2A69C4579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10764-C2B4-40BE-95BF-2AC94866B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56146-15D0-43F9-907D-4B5968D77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9B7B9-304D-4FFE-BAA8-C07D05BE1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998DEC-0E34-4377-8935-7B1A9B8C1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7F4E6-5D2E-41F0-A387-FEFA35B34D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94282F-EE8F-4943-BE96-E66681239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58F381-F57E-472B-B372-65D028305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53023-F979-4EBD-84BD-E18356A56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FA5DD-8A41-4297-B7AA-03302024FF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2C92-FC9C-438C-8F92-855AD5E5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46FD8-F4BA-451D-B273-BBEA7787A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35C59-5046-40E4-99BB-9EF0DCE373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282E6-EF86-4DF4-8910-15DB1C46B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75B3A-D3F3-4938-98DA-FFE9DB7FE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047E0-50F1-4280-BC48-3CF4ECF75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89795-EAFB-4829-AC36-FA1D48412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5665D-B9AB-4F38-A795-AE951F926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61D1E9-FAF8-4AEC-90D7-7158C7DFB6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4F018A-229B-429B-A2DD-19E6432E05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25B8D9-7062-4639-99C1-7B3A7FDB84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D718-42A9-40D5-B84A-773A84C98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43C289-D12A-43C1-B353-F7CB7080F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12D2E-7BA2-4657-8220-4DE21175C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53B9F-0598-4CF9-B91B-88D12A372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E5C64-3724-44DE-AC14-A56E8ABB08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90057-F929-457B-8FBC-893CF8A5F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9B773-1EC3-4FF5-B2F2-A02AE83D2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A6BFB-E0A2-48BD-86B9-3A784B026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87271-8BB0-484A-A47E-CDEAD50E2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B8EA0-C0DC-4C98-8B7A-304C6A85F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076D83-AC6E-4E8C-9931-EEB254F0AC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1F13-6771-4EBB-AD56-EE455AAFE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56B26E-F4FF-4050-A4F3-790C2AFCE4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732E0-A895-4858-918E-EE65952BC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0A3645-B036-40A6-B1E5-5981B0FBA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4B554-1121-444A-BCE2-418989311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D788C-798D-4E28-93E5-200B19DD3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5FB8F-6C60-477A-A671-DB2F6138E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90176-8225-40FC-8F62-7851044E1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C8461-E659-4D64-A6D9-61BDCAB66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8FFCB-F7DC-419E-92B7-C56F6E805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13957-178D-4FE4-9BBB-4AB815B36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DD4C-A937-4C90-840B-05A57833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0EDF7-BB48-4FB4-8B72-485DA0E7D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25E463-65F3-4ED0-A218-41C38AD291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B1DD74-44D8-47EA-98A3-78AFF33D2B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508285-41AC-4580-94EF-F7A9118C60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AAF3F3-B6F2-4999-A089-B17665D3F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F449C-2730-4ACC-9112-3BF5991FA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A49600-6BF7-49ED-A91B-020693118F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DE388-5181-45B3-A787-F763D9ABC5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39575-9A29-42E1-BE63-C8170FCBB8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D7719-A3A2-465D-96D0-027C702D6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A98CA-195B-4311-BA48-15707B57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2FCC36-CC9F-411C-AE21-E8A92581F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0FCA9-3892-4306-BD35-51D4FC165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2FB7DE-026D-4F1D-B6F7-459CECF56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EA09FD-A5D2-4A4C-B262-99E4B6C3B7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5772F0-8D4B-47A4-8ED7-182EB4C7C2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EE08F-0F0E-4BC9-9779-94D7E871C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017E-4DBB-493A-9F49-664FE6F93EE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544E-35D9-4621-9663-DB37224457F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09F5-729D-4638-ABC5-5DECCBECD37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F23B-3C93-4552-9FD2-848C549D2F7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E5ED-F578-4348-B7A5-23985F876D3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4A38-AFB6-4DF8-98C9-FE9698B3F3C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DA91-1A4E-4BC5-B674-F2A322810CA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omicarchive.com/History/coldwar/p19_image.s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579600"/>
            <a:ext cx="6943680" cy="1560240"/>
          </a:xfrm>
          <a:prstGeom prst="rect">
            <a:avLst/>
          </a:prstGeom>
          <a:ln w="0">
            <a:noFill/>
          </a:ln>
        </p:spPr>
      </p:pic>
      <p:pic>
        <p:nvPicPr>
          <p:cNvPr id="376" name="Picture 2" descr="Three Mile Island (TMI)">
            <a:hlinkClick r:id="rId2"/>
          </p:cNvPr>
          <p:cNvPicPr/>
          <p:nvPr/>
        </p:nvPicPr>
        <p:blipFill>
          <a:blip r:embed="rId3"/>
          <a:stretch/>
        </p:blipFill>
        <p:spPr>
          <a:xfrm>
            <a:off x="990720" y="16002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rst day of disaster</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happen on March 28, 1979. This plant going off was because, of the cooling of water to drain from the nuclear core. The plant started to over heat and broke the emergency water system. After that there was no way of there power plant of turning off.</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power plant.jpg"/>
          <p:cNvPicPr/>
          <p:nvPr/>
        </p:nvPicPr>
        <p:blipFill>
          <a:blip r:embed="rId1"/>
          <a:stretch/>
        </p:blipFill>
        <p:spPr>
          <a:xfrm>
            <a:off x="3733920" y="4648320"/>
            <a:ext cx="477180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1eeff"/>
                </a:solidFill>
                <a:latin typeface="Consolas"/>
              </a:rPr>
              <a:t>Health Effects</a:t>
            </a:r>
            <a:endParaRPr b="0" lang="en-US" sz="4000" spc="-1" strike="noStrike">
              <a:solidFill>
                <a:srgbClr val="c1eeff"/>
              </a:solidFill>
              <a:latin typeface="Consolas"/>
            </a:endParaRPr>
          </a:p>
        </p:txBody>
      </p:sp>
      <p:sp>
        <p:nvSpPr>
          <p:cNvPr id="381" name=""/>
          <p:cNvSpPr txBox="1"/>
          <p:nvPr/>
        </p:nvSpPr>
        <p:spPr>
          <a:xfrm>
            <a:off x="914400" y="16002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harmed many people. It made over 2 million people in that area have radiation. It was found in an x-ray by doctors that it hurt the lungs. Also people were buy and using air, water, milk, vegetation, soil, and food ideas and it wasn’t healthy for the human body.</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rc.gov/reading-rm/doc-collections/fact-sheets/3mile-isle.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damage it had</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was $229 million worth of damage in this accident. It killed trees, plants, and people comes. They cleaned the whole damage in a matter in 14 years. They put a lot of water in the nuclear plant in case of another emergence.</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ytimes.com/1993/08/15/us/14-year-cleanup-at-three-mile-island-concludes.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ng Term effects</a:t>
            </a:r>
            <a:endParaRPr b="0" lang="en-US" sz="4000" spc="-1" strike="noStrike">
              <a:solidFill>
                <a:srgbClr val="c1eeff"/>
              </a:solidFill>
              <a:latin typeface="Consolas"/>
            </a:endParaRPr>
          </a:p>
        </p:txBody>
      </p:sp>
      <p:sp>
        <p:nvSpPr>
          <p:cNvPr id="385" name=""/>
          <p:cNvSpPr txBox="1"/>
          <p:nvPr/>
        </p:nvSpPr>
        <p:spPr>
          <a:xfrm>
            <a:off x="838080" y="16002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changed the nuclear founding in the United States. It hurt many plants in that community and  impact on the nuclear power industry.  In the first two years after the accident any kid were getting sick from radiation. It was created from people touching and eating plants. It was very bad health condition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TMI-Three Mile Island 2"/>
          <p:cNvPicPr/>
          <p:nvPr/>
        </p:nvPicPr>
        <p:blipFill>
          <a:blip r:embed="rId1"/>
          <a:stretch/>
        </p:blipFill>
        <p:spPr>
          <a:xfrm>
            <a:off x="380880" y="838080"/>
            <a:ext cx="8515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8:30Z</dcterms:created>
  <dc:creator>30618</dc:creator>
  <dc:description/>
  <dc:language>en-US</dc:language>
  <cp:lastModifiedBy> </cp:lastModifiedBy>
  <dcterms:modified xsi:type="dcterms:W3CDTF">2014-03-21T18:06:45Z</dcterms:modified>
  <cp:revision>17</cp:revision>
  <dc:subject/>
  <dc:title>Three Mile Island</dc:title>
</cp:coreProperties>
</file>