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C736-2693-4E00-B378-89AEC0A2E19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3BD7-3AED-4303-91C5-7BB44961961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946EF-868E-43A6-B1DD-45217A6A08D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8B774-EBA1-4DDF-B44E-138D513F2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6DAC6-30AE-40A8-BB14-17068735B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9BD9D-54A4-4BD5-8761-D8EA24FFF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38990-E3A7-4ADB-A61D-837F7DA9E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1D394-FE81-4573-A9E1-44EFD254D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6A569-41F0-4B8D-862A-EAC07B653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EEDFD-5CFC-480D-B0D1-76B521DE5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530E5-0101-43AD-8563-A6664ED64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E0BB4-274F-45DF-BF1F-346CABD14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D0F63-6079-489D-95E2-9BE3ED8BF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23718-5799-4C31-AF7F-3CED3C149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FC697-C11E-42FE-AFA1-88F0085C3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1C667-103E-4DF6-93C4-B66EBC55B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337C4-E39D-4D5A-A593-A435E9B5C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17F12-57EE-4695-9AE6-3815CCA39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6B550D-466E-4A0A-AB9C-4A6F4DBA81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B4594A-456D-4E2D-9E8E-EAE42EC39C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A187AB-3874-43F7-A653-EBDE32401F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2FF537-BE56-4CF8-9FC6-FD88F94891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A09302-82F5-4735-B2F7-D8EDB9346B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A572D6-5B04-4010-B712-D343E2F4B3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025EFF-02D1-4DA8-9234-0DD077DB89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AC5FC-F30F-4889-8673-2C929D776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9C48FA-A93F-47F1-B410-93C9A3BF12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3E5AC2-7E2C-41E7-A2BD-8E5433ADD1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F259B-092C-4148-BEFC-913E901278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D7E2CA-D68C-4C7C-8B35-49A72B0469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CB3CED-02CD-4E19-B835-A0FDFF75CA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F79C1A-4290-4046-9C06-653A82F5A3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0F010C-B300-4156-8AFE-4C4B3C0D38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B79529-B6C8-4399-9B5D-DE77EB2821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1F469E-0D12-48B8-B32B-F55CA330B3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D7B1A3-50F6-4A15-B769-098CCBC2B4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F4A3D-4CDF-42A0-9820-51544B4B8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87827A-F3FE-4888-BBA6-F709F64F9A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6D0D10-C3EE-474B-B365-5D2225E03F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010C2D-A75C-48B1-98E7-680C3E80F8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2B9F66-168C-463C-8247-835605A354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AAB836-5ADF-4D8F-9DC7-6FCE59A9BF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91C9BB-521D-4CE9-B729-E5CFD3437A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972FAB-1D4F-4635-A4A1-E4D4E20709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B7356E-F870-4C1A-B4B6-120B664E8F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8C1570-0D45-4F84-9F69-0013BB78BE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260E2C-A556-45D8-A701-A0575CF597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70E36-B95D-4FA8-B8A3-B58C4152C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FB62DF-300E-417A-AD3E-C4E6DE664E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CBCF70-B310-412A-99BE-AF692C8E57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234135-556C-45A2-B3FD-AA41D24F5A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168D61-CD41-440F-87C2-B322E6EFD2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4B8369-F5F8-42A4-9FF5-019EEBDB9C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796CD1-AC8D-460D-8B74-7C25C4473F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F1D4AF-303B-4407-9B76-EF6777FA46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8230F9-EF76-4EC4-810D-C996B27347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4C37CB-E63D-4A19-914D-E19BE509C1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479115-B4F5-4E7E-8497-CC4A01EC95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B6D50-51D0-4EF1-A122-2E7F06441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2B40DD-3BFA-4406-A130-C0FD406D5A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999F71-6E6A-414D-831B-F73B60EFB4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A85114-66D2-4DC2-AF7F-DA36BFD9F9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0E6426-8DB7-48CD-8581-D269A0F155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8164D7-74B1-4942-9FF5-9B5AA92FE2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A2D01C-F661-4DA6-9B84-524239EDCE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CA9E01-448B-4A37-9A2F-A969EE8DCD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645F12-9E67-4E11-82A2-773403188F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E9438F-40F4-4BA5-96B0-AA09E109A5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BCD51D-EE22-4C46-A6C0-00C6BE4F0E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B3442-F0A7-4B48-83FB-C159EF174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05B82E-5302-42DA-BC4F-555151FAD9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B3642C-275D-46B6-A674-F646914F22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019C40-2229-4571-B9ED-DD22B6FE61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44EA0F-763C-4C8D-A8BF-57B10C28CB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1B3112-1564-4E4A-BF64-F2F21C7B02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F8B638-7926-4B1D-BBEF-E92D08C31A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2861C4-CCF5-4230-A6C3-8A15C62538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F7A01B-11D1-400D-BF4E-014C879190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94C209-BB3B-4C8D-98C5-B296FD3CEB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7F5BC2-AD87-45C9-8236-2CE15673F8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8E65B-A0E4-4C7D-88BC-10233639E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CC029B-2794-4AFC-9A4E-94CE1F6610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AED369-F785-43E8-9CA1-7C59FF454A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CA3979-04D0-44ED-B92F-D703EA46D6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C222DF-772F-4518-90E4-E2B4BB0F2B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ADAAEF-8F60-4903-B7E5-84EF1C9315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E825A-756B-4A8A-99DF-AADA2DA69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9BBA-3762-4E4E-8D7C-D18FC1BE9320}"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FEF47-63EF-41F4-BA43-94781A0B293D}"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9732-9E95-4051-BDEC-C3E690B3EFF6}"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250F9-EAFB-4522-8530-6D341BA14580}"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01335-A217-43A8-B765-68CB6080EA6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E7DE6-8E17-4BF7-AE3B-CD465D1B5237}"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5920" y="12175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5920" y="12823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8880" cy="131400"/>
            <a:chOff x="8669160" y="1370160"/>
            <a:chExt cx="128880" cy="131400"/>
          </a:xfrm>
        </p:grpSpPr>
        <p:sp>
          <p:nvSpPr>
            <p:cNvPr id="320" name="Straight Connector 26"/>
            <p:cNvSpPr/>
            <p:nvPr/>
          </p:nvSpPr>
          <p:spPr>
            <a:xfrm>
              <a:off x="8728200" y="1370160"/>
              <a:ext cx="698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986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8200" y="1434960"/>
              <a:ext cx="698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0800" y="14731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0800" y="15379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6F51D-2912-43DE-9F31-4A7729686A57}"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tomicarchive.com/History/coldwar/p19_image.shtml" TargetMode="External"/><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835200" y="579600"/>
            <a:ext cx="6943680" cy="1560240"/>
          </a:xfrm>
          <a:prstGeom prst="rect">
            <a:avLst/>
          </a:prstGeom>
          <a:ln w="0">
            <a:noFill/>
          </a:ln>
        </p:spPr>
      </p:pic>
      <p:pic>
        <p:nvPicPr>
          <p:cNvPr id="376" name="Picture 2" descr="Three Mile Island (TMI)">
            <a:hlinkClick r:id="rId2"/>
          </p:cNvPr>
          <p:cNvPicPr/>
          <p:nvPr/>
        </p:nvPicPr>
        <p:blipFill>
          <a:blip r:embed="rId3"/>
          <a:stretch/>
        </p:blipFill>
        <p:spPr>
          <a:xfrm>
            <a:off x="990720" y="1600200"/>
            <a:ext cx="746748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First day of disaster</a:t>
            </a:r>
            <a:endParaRPr b="0" lang="en-US" sz="40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s happen on March 28, 1979. This plant going off was because, of the cooling of water to drain from the nuclear core. The plant started to over heat and broke the emergency water system. After that there was no way of there power plant of turning off.</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79" name="Picture 3" descr="power plant.jpg"/>
          <p:cNvPicPr/>
          <p:nvPr/>
        </p:nvPicPr>
        <p:blipFill>
          <a:blip r:embed="rId1"/>
          <a:stretch/>
        </p:blipFill>
        <p:spPr>
          <a:xfrm>
            <a:off x="3733920" y="4648320"/>
            <a:ext cx="4771800" cy="198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1eeff"/>
                </a:solidFill>
                <a:latin typeface="Consolas"/>
              </a:rPr>
              <a:t>Health Effects</a:t>
            </a:r>
            <a:endParaRPr b="0" lang="en-US" sz="4000" spc="-1" strike="noStrike">
              <a:solidFill>
                <a:srgbClr val="c1eeff"/>
              </a:solidFill>
              <a:latin typeface="Consolas"/>
            </a:endParaRPr>
          </a:p>
        </p:txBody>
      </p:sp>
      <p:sp>
        <p:nvSpPr>
          <p:cNvPr id="381" name=""/>
          <p:cNvSpPr txBox="1"/>
          <p:nvPr/>
        </p:nvSpPr>
        <p:spPr>
          <a:xfrm>
            <a:off x="914400" y="1600200"/>
            <a:ext cx="7772400" cy="457200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s disaster harmed many people. It made over 2 million people in that area have radiation. It was found in an x-ray by doctors that it hurt the lungs. Also people were buy and using air, water, milk, vegetation, soil, and food ideas and it wasn’t healthy for the human body.</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nrc.gov/reading-rm/doc-collections/fact-sheets/3mile-isle.html</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 damage it had</a:t>
            </a:r>
            <a:endParaRPr b="0" lang="en-US" sz="4000" spc="-1" strike="noStrike">
              <a:solidFill>
                <a:srgbClr val="c1eeff"/>
              </a:solidFill>
              <a:latin typeface="Consolas"/>
            </a:endParaRPr>
          </a:p>
        </p:txBody>
      </p:sp>
      <p:sp>
        <p:nvSpPr>
          <p:cNvPr id="383" name=""/>
          <p:cNvSpPr txBox="1"/>
          <p:nvPr/>
        </p:nvSpPr>
        <p:spPr>
          <a:xfrm>
            <a:off x="914400" y="1784520"/>
            <a:ext cx="7772400" cy="457200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was $229 million worth of damage in this accident. It killed trees, plants, and people comes. They cleaned the whole damage in a matter in 14 years. They put a lot of water in the nuclear plant in case of another emergence.</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nytimes.com/1993/08/15/us/14-year-cleanup-at-three-mile-island-concludes.html</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ong Term effects</a:t>
            </a:r>
            <a:endParaRPr b="0" lang="en-US" sz="4000" spc="-1" strike="noStrike">
              <a:solidFill>
                <a:srgbClr val="c1eeff"/>
              </a:solidFill>
              <a:latin typeface="Consolas"/>
            </a:endParaRPr>
          </a:p>
        </p:txBody>
      </p:sp>
      <p:sp>
        <p:nvSpPr>
          <p:cNvPr id="385" name=""/>
          <p:cNvSpPr txBox="1"/>
          <p:nvPr/>
        </p:nvSpPr>
        <p:spPr>
          <a:xfrm>
            <a:off x="838080" y="160020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s disaster changed the nuclear founding in the United States. It hurt many plants in that community and  impact on the nuclear power industry.  In the first two years after the accident any kid were getting sick from radiation. It was created from people touching and eating plants. It was very bad health condition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TMI-Three Mile Island 2"/>
          <p:cNvPicPr/>
          <p:nvPr/>
        </p:nvPicPr>
        <p:blipFill>
          <a:blip r:embed="rId1"/>
          <a:stretch/>
        </p:blipFill>
        <p:spPr>
          <a:xfrm>
            <a:off x="380880" y="838080"/>
            <a:ext cx="8515440" cy="491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7:58:30Z</dcterms:created>
  <dc:creator>30618</dc:creator>
  <dc:description/>
  <dc:language>en-US</dc:language>
  <cp:lastModifiedBy> </cp:lastModifiedBy>
  <dcterms:modified xsi:type="dcterms:W3CDTF">2014-03-21T18:06:45Z</dcterms:modified>
  <cp:revision>17</cp:revision>
  <dc:subject/>
  <dc:title>Three Mile Island</dc:title>
</cp:coreProperties>
</file>