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8E7EE-4CAB-4086-9639-D0CE4AD7C77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DE5F8-DEFB-4D38-8354-AA5956AC0A3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E8984-2EFB-49ED-A8B7-15960BE3EBC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E80F6E-8146-4804-AEE6-289A194E03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15145-16B2-4D14-96DE-DEF25B50E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647F48-58F2-4BF2-AF98-0C8D877AB4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1747DA-275B-42A7-AB7F-317F1ADFFF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577A45-84B4-448A-A1FE-05497B33D0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E5A30C-BE90-44E2-9E8B-B1D68C9A1F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B0160A-BDDA-4E64-B293-1E3D439E45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BAA83E-9B05-47C6-AB19-C5F904AA68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45A817-45BB-45B3-92FD-C80364D96F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8607CD-B2F1-40A5-AA96-647302ED1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A20F2-F331-4D70-8677-A08A2FDA9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F4FAD-398D-42D0-860E-D41CF88F2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204D9-9924-46D1-83C8-9985BAB3F0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9663B-3DB4-48F5-8376-A85910D34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AFE5DC-7ED7-4C38-9A88-16491822C5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E18A1B-B639-4DBA-B893-E9AC16BF7F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D37660-5B19-480A-AD39-FE8CDCCB44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926002-675F-42D0-82FB-AF4296CB43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B85968-0F0C-466F-8C11-BD3519352F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D8A548-6939-402B-93DD-D1A88A18D1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0C57F3-EDB9-4AA3-AC43-5472BBB4BA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9FD82B-4030-4E21-8ECE-6728D82CEA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F232E-2B18-448B-9076-F995D903E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C11BE4-DFBE-4F18-ABDA-6EA2606069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E52827-860A-493F-99E2-B4386E9640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35242F-F46E-40B0-A81B-89519E77BD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43D8BB-090E-4177-BF4B-C788412DE6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C6AA62-EE32-4D4F-98CC-5DF04E783A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8A5B5B-D10D-4958-94F8-85276F9EC5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2BDED0-08C5-4F6A-BB18-8B739C0A6F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E4CA66-D1FC-49B5-AD23-121B91D289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AE1DEE-A20E-42C2-8711-98CDAB3643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3BCFEB-2702-4266-84E9-A4DC0D120C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BD9E9-3F33-4D67-A5B4-4CB5E1332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D8F2A9-E8C7-4C93-A726-B4B86B6C4C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A4DE91-D7E2-4445-8941-59D5749185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3E8FDF-E69D-4A8B-BD54-61E4226319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AA3E3B-0E60-4B3D-B9CE-F503A34F16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936626-EF85-4EDB-94B2-F4EC4D4357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171637-A6BE-411B-B711-5AE607055E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DCD756-A35E-42C1-A125-701F80343F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B863DF-A99C-4595-B746-47B7D63F64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31BAE1-8856-4448-99EC-BA5017C4AF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8DC6AF-F46D-4FD8-98E4-C1F48CF249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18D03-F6A4-4588-888E-BD6045A07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934DA6-0E1E-4C20-BE74-3146329AAF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798C06-B2D8-4B76-AE28-FB2D7F0AFC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56D80C-A855-406B-88EE-0173AD324E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89AFEF-D65F-400F-99EC-3C9894C9C2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F9B5D7-B4A2-4004-BF92-CE19E6F8FA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5B64E8-F739-44DF-93D0-B7EA42974A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63DE60-135C-4C4E-8063-CD9DF4DF32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8386C7-0603-431A-BB97-FC812A5199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1D6C17-D4D9-483A-87F7-439E295F3F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517707-6BEC-4865-BAD3-2FD03D0117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F2939-25D9-4DD8-80BA-09F8D9747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A9DF01-1BB1-45C8-ACBE-B2B91CB18D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76649F-DE51-4174-BC9A-8F295AC13F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9180E5-6250-4319-8455-C8B47F08D2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48BF61-22DB-4572-B212-AC00C89AA3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8D22C1-803E-4625-8ACC-D3A1F1A89D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742B7C-948B-4FB8-A48D-1551FA78BE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85C221-63A2-4940-A70E-BF17D5A0DB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A2DA4F-3914-46C0-9B33-B628049625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8112E8-2530-4B3F-A6DF-598EC2DE91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FFFADD-A3C8-46DC-9083-E8ADFBEC66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BFA6B-1514-4B5C-9EDA-18535A79C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48811D-9BFA-4CD2-9AC5-727C5EDF85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7EB08D-FC90-4D3C-8E24-030D7659B6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3ECF66-BE4E-420D-8418-205BB33414F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C730627-CC39-40B9-81D0-C02A623623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E918C3-880C-4E31-9670-21491E04BD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934AB7-73DC-440F-A5A5-71021E767D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B54ECD-D414-4861-A3CD-69497517D6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7C8417-A46B-4A9E-98ED-A62CA32BD6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073792-9F4E-4D54-B2DB-90880BBDAC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7EDA43-148F-42C2-BCAA-13F1067E1D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372D2-375F-4242-82A9-FCE625E13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D0192E-EE20-4C84-A79E-F7F74770CF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02C59D-82D9-449E-810C-4F1E5A7981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854439-6466-43C6-963D-E37463EDAB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88C186-208C-4AC5-A027-23487B58BF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39D328-C54F-4F00-AC2C-6562B6FC4CA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CA0FD-E287-464A-9603-06CC0405A1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93561-22F8-4ACB-89C6-5E488CAC1FA0}"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42066-8763-4278-8325-EB383BA50349}"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4266E-FF58-4C41-8C68-47BE41A81CF8}"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D95A4-C8A5-4BDF-A577-CFD9692AF48E}"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EB324-7FE6-4B77-87FB-A423D7D22FB4}"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0577B-D45E-4326-873C-18D832551AC1}"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520" cy="131400"/>
            <a:chOff x="8516880" y="1217520"/>
            <a:chExt cx="128520" cy="131400"/>
          </a:xfrm>
        </p:grpSpPr>
        <p:sp>
          <p:nvSpPr>
            <p:cNvPr id="316" name="Straight Connector 20"/>
            <p:cNvSpPr/>
            <p:nvPr/>
          </p:nvSpPr>
          <p:spPr>
            <a:xfrm>
              <a:off x="8575920" y="1217520"/>
              <a:ext cx="694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982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5920" y="1282320"/>
              <a:ext cx="694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8880" cy="131400"/>
            <a:chOff x="8669160" y="1370160"/>
            <a:chExt cx="128880" cy="131400"/>
          </a:xfrm>
        </p:grpSpPr>
        <p:sp>
          <p:nvSpPr>
            <p:cNvPr id="320" name="Straight Connector 26"/>
            <p:cNvSpPr/>
            <p:nvPr/>
          </p:nvSpPr>
          <p:spPr>
            <a:xfrm>
              <a:off x="8728200" y="1370160"/>
              <a:ext cx="698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986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8200" y="1434960"/>
              <a:ext cx="698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520" cy="131400"/>
            <a:chOff x="8321760" y="1473120"/>
            <a:chExt cx="128520" cy="131400"/>
          </a:xfrm>
        </p:grpSpPr>
        <p:sp>
          <p:nvSpPr>
            <p:cNvPr id="324" name="Straight Connector 30"/>
            <p:cNvSpPr/>
            <p:nvPr/>
          </p:nvSpPr>
          <p:spPr>
            <a:xfrm>
              <a:off x="8380800" y="1473120"/>
              <a:ext cx="694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982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80800" y="1537920"/>
              <a:ext cx="694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83181-737D-42EA-A5B5-035572A90C6F}"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atomicarchive.com/History/coldwar/p19_image.shtml" TargetMode="External"/><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itle 1" descr=""/>
          <p:cNvPicPr/>
          <p:nvPr/>
        </p:nvPicPr>
        <p:blipFill>
          <a:blip r:embed="rId1"/>
          <a:stretch/>
        </p:blipFill>
        <p:spPr>
          <a:xfrm>
            <a:off x="835200" y="579600"/>
            <a:ext cx="6943680" cy="1560240"/>
          </a:xfrm>
          <a:prstGeom prst="rect">
            <a:avLst/>
          </a:prstGeom>
          <a:ln w="0">
            <a:noFill/>
          </a:ln>
        </p:spPr>
      </p:pic>
      <p:pic>
        <p:nvPicPr>
          <p:cNvPr id="376" name="Picture 2" descr="Three Mile Island (TMI)">
            <a:hlinkClick r:id="rId2"/>
          </p:cNvPr>
          <p:cNvPicPr/>
          <p:nvPr/>
        </p:nvPicPr>
        <p:blipFill>
          <a:blip r:embed="rId3"/>
          <a:stretch/>
        </p:blipFill>
        <p:spPr>
          <a:xfrm>
            <a:off x="990720" y="1600200"/>
            <a:ext cx="7467480" cy="4724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First day of disaster</a:t>
            </a:r>
            <a:endParaRPr b="0" lang="en-US" sz="4000" spc="-1" strike="noStrike">
              <a:solidFill>
                <a:srgbClr val="c1eeff"/>
              </a:solidFill>
              <a:latin typeface="Consolas"/>
            </a:endParaRPr>
          </a:p>
        </p:txBody>
      </p:sp>
      <p:sp>
        <p:nvSpPr>
          <p:cNvPr id="37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s happen on March 28, 1979. This plant going off was because, of the cooling of water to drain from the nuclear core. The plant started to over heat and broke the emergency water system. After that there was no way of there power plant of turning off.</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79" name="Picture 3" descr="power plant.jpg"/>
          <p:cNvPicPr/>
          <p:nvPr/>
        </p:nvPicPr>
        <p:blipFill>
          <a:blip r:embed="rId1"/>
          <a:stretch/>
        </p:blipFill>
        <p:spPr>
          <a:xfrm>
            <a:off x="3733920" y="4648320"/>
            <a:ext cx="4771800" cy="1981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1eeff"/>
                </a:solidFill>
                <a:latin typeface="Consolas"/>
              </a:rPr>
              <a:t>Health Effects</a:t>
            </a:r>
            <a:endParaRPr b="0" lang="en-US" sz="4000" spc="-1" strike="noStrike">
              <a:solidFill>
                <a:srgbClr val="c1eeff"/>
              </a:solidFill>
              <a:latin typeface="Consolas"/>
            </a:endParaRPr>
          </a:p>
        </p:txBody>
      </p:sp>
      <p:sp>
        <p:nvSpPr>
          <p:cNvPr id="381" name=""/>
          <p:cNvSpPr txBox="1"/>
          <p:nvPr/>
        </p:nvSpPr>
        <p:spPr>
          <a:xfrm>
            <a:off x="914400" y="1600200"/>
            <a:ext cx="7772400" cy="4572000"/>
          </a:xfrm>
          <a:prstGeom prst="rect">
            <a:avLst/>
          </a:prstGeom>
          <a:noFill/>
          <a:ln w="0">
            <a:noFill/>
          </a:ln>
        </p:spPr>
        <p:txBody>
          <a:bodyPr anchor="t">
            <a:normAutofit fontScale="98000"/>
          </a:bodyPr>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s disaster harmed many people. It made over 2 million people in that area have radiation. It was found in an x-ray by doctors that it hurt the lungs. Also people were buy and using air, water, milk, vegetation, soil, and food ideas and it wasn’t healthy for the human body.</a:t>
            </a: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www.nrc.gov/reading-rm/doc-collections/fact-sheets/3mile-isle.html</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The damage it had</a:t>
            </a:r>
            <a:endParaRPr b="0" lang="en-US" sz="4000" spc="-1" strike="noStrike">
              <a:solidFill>
                <a:srgbClr val="c1eeff"/>
              </a:solidFill>
              <a:latin typeface="Consolas"/>
            </a:endParaRPr>
          </a:p>
        </p:txBody>
      </p:sp>
      <p:sp>
        <p:nvSpPr>
          <p:cNvPr id="383" name=""/>
          <p:cNvSpPr txBox="1"/>
          <p:nvPr/>
        </p:nvSpPr>
        <p:spPr>
          <a:xfrm>
            <a:off x="914400" y="1784520"/>
            <a:ext cx="7772400" cy="4572000"/>
          </a:xfrm>
          <a:prstGeom prst="rect">
            <a:avLst/>
          </a:prstGeom>
          <a:noFill/>
          <a:ln w="0">
            <a:noFill/>
          </a:ln>
        </p:spPr>
        <p:txBody>
          <a:bodyPr anchor="t">
            <a:normAutofit fontScale="98000"/>
          </a:bodyPr>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re was $229 million worth of damage in this accident. It killed trees, plants, and people comes. They cleaned the whole damage in a matter in 14 years. They put a lot of water in the nuclear plant in case of another emergence.</a:t>
            </a: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www.nytimes.com/1993/08/15/us/14-year-cleanup-at-three-mile-island-concludes.html</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Long Term effects</a:t>
            </a:r>
            <a:endParaRPr b="0" lang="en-US" sz="4000" spc="-1" strike="noStrike">
              <a:solidFill>
                <a:srgbClr val="c1eeff"/>
              </a:solidFill>
              <a:latin typeface="Consolas"/>
            </a:endParaRPr>
          </a:p>
        </p:txBody>
      </p:sp>
      <p:sp>
        <p:nvSpPr>
          <p:cNvPr id="385" name=""/>
          <p:cNvSpPr txBox="1"/>
          <p:nvPr/>
        </p:nvSpPr>
        <p:spPr>
          <a:xfrm>
            <a:off x="838080" y="160020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s disaster changed the nuclear founding in the United States. It hurt many plants in that community and  impact on the nuclear power industry.  In the first two years after the accident any kid were getting sick from radiation. It was created from people touching and eating plants. It was very bad health condition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2" descr="TMI-Three Mile Island 2"/>
          <p:cNvPicPr/>
          <p:nvPr/>
        </p:nvPicPr>
        <p:blipFill>
          <a:blip r:embed="rId1"/>
          <a:stretch/>
        </p:blipFill>
        <p:spPr>
          <a:xfrm>
            <a:off x="380880" y="838080"/>
            <a:ext cx="8515440" cy="491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9T17:58:30Z</dcterms:created>
  <dc:creator>30618</dc:creator>
  <dc:description/>
  <dc:language>en-US</dc:language>
  <cp:lastModifiedBy> </cp:lastModifiedBy>
  <dcterms:modified xsi:type="dcterms:W3CDTF">2014-03-21T18:06:45Z</dcterms:modified>
  <cp:revision>17</cp:revision>
  <dc:subject/>
  <dc:title>Three Mile Island</dc:title>
</cp:coreProperties>
</file>