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C7FC-41F2-43E0-9C6A-3034EBDED4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107A-CC8D-4ADA-9504-8015C613C8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10A8-2B64-43EF-89DA-B1A6543422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0B1BC-2097-4B63-A655-564391F34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E1C1C-2FC7-4F9F-8B26-B2803AF8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B3CCF-7129-491F-8603-CA01BFC10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6FD2F-6679-4A03-9E7F-46877FCE1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9AFD3-C166-42C6-9011-4D8530F1C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4829D-8C8D-4121-8A6D-A48F64456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22BC7-0DEA-4144-94C2-B516D5BA9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5F877-F109-4567-970D-D85CF0BB0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1807-32B9-4C93-86EF-EC134813D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DE41D-2D74-4362-809B-3A3DBB77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0130B-7BDB-47F5-AFDF-D470747D3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F7CB-19C3-4E4A-A837-7F439DEEE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DF613-F73A-4262-8D80-1180ACD3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46441-0D4D-4298-8D00-A41EBA9A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B38C9-0CB3-4986-AA92-6D7EE72D8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76F73-631D-420C-81B2-25E35F628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3C5DC-25A4-4501-8BBA-931A97077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1DF405-055A-439C-8BD4-B079C4F3A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7F4CA-26E2-473D-8725-03E3509FD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E77D0-3A16-41E9-ADB9-B49AA4952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24F33-4897-468D-B669-D3C7F2033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AFD9E-0977-45F8-9CA2-DF979D377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228DF-7024-49C8-AC33-75ACF841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A5373-0838-4BB5-9FC7-676239F89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04E83-4193-4900-9764-35673EA67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89039-D593-411E-BB41-BACCDA8A0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B6267-A38D-4AF0-9C6D-89C51379A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1C75C-8FB9-4DC8-A08B-BF6D5B0DB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906210-3235-453B-A928-26311E343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189D4C-1251-4B59-8EA3-2148113518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6188F0-970C-4301-B2F0-D0B9BEDC7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9F724-1F56-45A4-9416-294BECAD4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CBDB65-9416-4D49-AA10-CF457DCC3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51DB-255B-458A-8E8A-98602360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B636EC-543C-4EE0-8FD8-5F1BE637D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6131D-6F39-46CD-8B69-2AD93E188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009A5-EFBC-4171-944F-8DC1EB2BE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E5D25-916D-4BD0-B68C-FDB8E7808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930B4-49E8-44BF-8EA8-C24A57003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ABD4F-C603-4267-B028-DF9239475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5D581-6323-41C9-BF5D-DB3B4D423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BEAF3A-6CEF-4171-A64C-837A0BA3D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1F1F33-81BA-4FE3-ACAD-002F48A6B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108056-63CF-499A-8253-BA5BC0DD1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80CC-28F0-4B02-AB5B-D54C2C5D4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21BD0-FA61-407C-9E02-38066730A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FC26C-4A97-4E37-9D52-20DFB6DC6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9EF92-C9EA-410F-BA8D-C0EAD224BB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76108-6572-4F21-8E0A-CE39F7B24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410A43-6A8A-4911-9D1C-20725762C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707B7-F7FB-458D-AC87-617E892A6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5FEE0-F0EC-418D-81D6-CA5D39531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79762-25E6-4379-BF54-BEB4D7BCB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30F0A-80D7-47F0-9E21-BBA21CB50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A554AE-B92E-4183-8AE4-2B4B19FD9D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16C2-A774-43A2-AD77-7A7762B64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5962C-E75F-4262-8E42-B09FF38E0C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27BB03-5716-4098-BB6E-51B297BAD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9F400F-7C78-4147-ACD9-17D64B065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8346A-BD36-48E2-9473-F6B5D360D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677D7-1EAB-4A74-9B94-8916B5F40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1B5BA-DE95-46C0-8C1B-B5CBA7B97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A01FF-55D8-4DEB-9B21-416E30668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D55BC-8475-4084-A132-07E2105F3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971EA-9490-45D4-A5B5-D0AF1F41D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78541-4A91-44A3-B6B5-48E5A63E4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BC99-A091-4AE4-973D-F111095D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80C17-D8F9-4F26-AFB2-54CAFF430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4C740-F0E1-4DD8-834B-3268E3874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DB9461-AC72-455E-AE94-C8E28F7E62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106F90-71B4-4B1D-868E-7F0CE81A4C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479817-CD0B-48ED-A00C-C120E4011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A4CCA-0896-48C4-BE88-BD717761D6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CE8E2F-0052-439C-8A03-01F6982E5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8DE87-5675-4A94-8EC5-FDF5A0E79E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430C7-13F1-4B2B-B623-B7302EAC7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A3B7A-A2C5-4A1C-A291-0CE2FB740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31FF-E2A2-470B-8F84-572D23F1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1AF6D-9756-41B1-8D95-7C121E664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AD08F-6571-4310-82A3-20ABF0AE5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CDEE76-FF9F-42A1-B164-A129CB890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BAFCA4-4FCB-4EEE-B58B-62CE0D4B73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C1804-F934-4A7C-A17D-DA981E8617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1281-9CAF-40EE-9637-385E9C25C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4B5D-09A9-4AD9-AFD5-46E94E2729D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8C3D-9EE0-428C-A761-779D00C7A17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9F67-8324-4665-9F02-F1EE986D733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1C73-8380-4FBE-92ED-41A39079C46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EC29-AC0C-4CFC-ACFC-06CAD5DC1B2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6F96-6C37-4EB2-B62A-A8073D5EEB3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DD05-C69D-4CD4-9B83-EEF6DE5B3F3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omicarchive.com/History/coldwar/p19_image.shtml"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579600"/>
            <a:ext cx="6943680" cy="1560240"/>
          </a:xfrm>
          <a:prstGeom prst="rect">
            <a:avLst/>
          </a:prstGeom>
          <a:ln w="0">
            <a:noFill/>
          </a:ln>
        </p:spPr>
      </p:pic>
      <p:pic>
        <p:nvPicPr>
          <p:cNvPr id="376" name="Picture 2" descr="Three Mile Island (TMI)">
            <a:hlinkClick r:id="rId2"/>
          </p:cNvPr>
          <p:cNvPicPr/>
          <p:nvPr/>
        </p:nvPicPr>
        <p:blipFill>
          <a:blip r:embed="rId3"/>
          <a:stretch/>
        </p:blipFill>
        <p:spPr>
          <a:xfrm>
            <a:off x="990720" y="1600200"/>
            <a:ext cx="74674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rst day of disaster</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happen on March 28, 1979. This plant going off was because, of the cooling of water to drain from the nuclear core. The plant started to over heat and broke the emergency water system. After that there was no way of there power plant of turning off.</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9" name="Picture 3" descr="power plant.jpg"/>
          <p:cNvPicPr/>
          <p:nvPr/>
        </p:nvPicPr>
        <p:blipFill>
          <a:blip r:embed="rId1"/>
          <a:stretch/>
        </p:blipFill>
        <p:spPr>
          <a:xfrm>
            <a:off x="3733920" y="4648320"/>
            <a:ext cx="477180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1eeff"/>
                </a:solidFill>
                <a:latin typeface="Consolas"/>
              </a:rPr>
              <a:t>Health Effects</a:t>
            </a:r>
            <a:endParaRPr b="0" lang="en-US" sz="4000" spc="-1" strike="noStrike">
              <a:solidFill>
                <a:srgbClr val="c1eeff"/>
              </a:solidFill>
              <a:latin typeface="Consolas"/>
            </a:endParaRPr>
          </a:p>
        </p:txBody>
      </p:sp>
      <p:sp>
        <p:nvSpPr>
          <p:cNvPr id="381" name=""/>
          <p:cNvSpPr txBox="1"/>
          <p:nvPr/>
        </p:nvSpPr>
        <p:spPr>
          <a:xfrm>
            <a:off x="914400" y="160020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harmed many people. It made over 2 million people in that area have radiation. It was found in an x-ray by doctors that it hurt the lungs. Also people were buy and using air, water, milk, vegetation, soil, and food ideas and it wasn’t healthy for the human body.</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rc.gov/reading-rm/doc-collections/fact-sheets/3mile-isle.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damage it had</a:t>
            </a:r>
            <a:endParaRPr b="0" lang="en-US" sz="4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was $229 million worth of damage in this accident. It killed trees, plants, and people comes. They cleaned the whole damage in a matter in 14 years. They put a lot of water in the nuclear plant in case of another emergence.</a:t>
            </a:r>
            <a:endParaRPr b="0" lang="en-US" sz="3000" spc="-1" strike="noStrike">
              <a:solidFill>
                <a:srgbClr val="ffffff"/>
              </a:solidFill>
              <a:latin typeface="Corbel"/>
            </a:endParaRPr>
          </a:p>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nytimes.com/1993/08/15/us/14-year-cleanup-at-three-mile-island-concludes.htm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ng Term effects</a:t>
            </a:r>
            <a:endParaRPr b="0" lang="en-US" sz="4000" spc="-1" strike="noStrike">
              <a:solidFill>
                <a:srgbClr val="c1eeff"/>
              </a:solidFill>
              <a:latin typeface="Consolas"/>
            </a:endParaRPr>
          </a:p>
        </p:txBody>
      </p:sp>
      <p:sp>
        <p:nvSpPr>
          <p:cNvPr id="385" name=""/>
          <p:cNvSpPr txBox="1"/>
          <p:nvPr/>
        </p:nvSpPr>
        <p:spPr>
          <a:xfrm>
            <a:off x="838080" y="16002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disaster changed the nuclear founding in the United States. It hurt many plants in that community and  impact on the nuclear power industry.  In the first two years after the accident any kid were getting sick from radiation. It was created from people touching and eating plants. It was very bad health condition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TMI-Three Mile Island 2"/>
          <p:cNvPicPr/>
          <p:nvPr/>
        </p:nvPicPr>
        <p:blipFill>
          <a:blip r:embed="rId1"/>
          <a:stretch/>
        </p:blipFill>
        <p:spPr>
          <a:xfrm>
            <a:off x="380880" y="838080"/>
            <a:ext cx="8515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8:30Z</dcterms:created>
  <dc:creator>30618</dc:creator>
  <dc:description/>
  <dc:language>en-US</dc:language>
  <cp:lastModifiedBy> </cp:lastModifiedBy>
  <dcterms:modified xsi:type="dcterms:W3CDTF">2014-03-21T18:06:45Z</dcterms:modified>
  <cp:revision>17</cp:revision>
  <dc:subject/>
  <dc:title>Three Mile Island</dc:title>
</cp:coreProperties>
</file>